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8.jpeg" ContentType="image/jpeg"/>
  <Override PartName="/ppt/media/image5.wmf" ContentType="image/x-wmf"/>
  <Override PartName="/ppt/media/image6.png" ContentType="image/png"/>
  <Override PartName="/ppt/media/image7.jpeg" ContentType="image/jpe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0000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youtube.com/watch?v=z1gpnu-fdUU&amp;feature=related"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http://youtube.com/watch?v=z1gpnu-fdUU&amp;feature=related" TargetMode="Externa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ursday, February 5</a:t>
            </a:r>
            <a:r>
              <a:rPr b="0" lang="en-US" sz="4400" spc="-1" strike="noStrike" baseline="30000">
                <a:solidFill>
                  <a:srgbClr val="000000"/>
                </a:solidFill>
                <a:latin typeface="Garamond"/>
              </a:rPr>
              <a:t>th</a:t>
            </a:r>
            <a:r>
              <a:rPr b="0" lang="en-US" sz="4400" spc="-1" strike="noStrike">
                <a:solidFill>
                  <a:srgbClr val="000000"/>
                </a:solidFill>
                <a:latin typeface="Garamond"/>
              </a:rPr>
              <a:t> 2008</a:t>
            </a:r>
            <a:endParaRPr b="0" lang="en-US" sz="4400" spc="-1" strike="noStrike">
              <a:solidFill>
                <a:srgbClr val="000000"/>
              </a:solidFill>
              <a:latin typeface="Garamond"/>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et out important paper # 5 and a calculat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Solve this triangle:</a:t>
            </a:r>
            <a:br>
              <a:rPr sz="4000"/>
            </a:br>
            <a:r>
              <a:rPr b="0" lang="en-US" sz="4000" spc="-1" strike="noStrike">
                <a:solidFill>
                  <a:srgbClr val="000000"/>
                </a:solidFill>
                <a:latin typeface="Garamond"/>
              </a:rPr>
              <a:t>A = 108</a:t>
            </a:r>
            <a:r>
              <a:rPr b="0" lang="en-US" sz="4000" spc="-1" strike="noStrike">
                <a:solidFill>
                  <a:srgbClr val="000000"/>
                </a:solidFill>
                <a:latin typeface="Symbol"/>
                <a:ea typeface="Symbol"/>
              </a:rPr>
              <a:t></a:t>
            </a:r>
            <a:r>
              <a:rPr b="0" lang="en-US" sz="4000" spc="-1" strike="noStrike">
                <a:solidFill>
                  <a:srgbClr val="000000"/>
                </a:solidFill>
                <a:latin typeface="Garamond"/>
              </a:rPr>
              <a:t>, b = 10 and c = 6.5</a:t>
            </a:r>
            <a:endParaRPr b="0" lang="en-US" sz="4000" spc="-1" strike="noStrike">
              <a:solidFill>
                <a:srgbClr val="000000"/>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70" name="" descr="">
            <a:hlinkClick r:id="rId2"/>
          </p:cNvPr>
          <p:cNvPicPr/>
          <p:nvPr/>
        </p:nvPicPr>
        <p:blipFill>
          <a:blip r:embed="rId3"/>
          <a:stretch/>
        </p:blipFill>
        <p:spPr>
          <a:xfrm>
            <a:off x="914400" y="685800"/>
            <a:ext cx="7162920" cy="477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72" name="" descr="Mount St. Helens crater and dome"/>
          <p:cNvPicPr/>
          <p:nvPr/>
        </p:nvPicPr>
        <p:blipFill>
          <a:blip r:embed="rId2"/>
          <a:stretch/>
        </p:blipFill>
        <p:spPr>
          <a:xfrm>
            <a:off x="4495680" y="1219320"/>
            <a:ext cx="4191120" cy="2744640"/>
          </a:xfrm>
          <a:prstGeom prst="rect">
            <a:avLst/>
          </a:prstGeom>
          <a:ln w="0">
            <a:noFill/>
          </a:ln>
        </p:spPr>
      </p:pic>
      <p:pic>
        <p:nvPicPr>
          <p:cNvPr id="173" name="" descr="">
            <a:hlinkClick r:id="rId3"/>
          </p:cNvPr>
          <p:cNvPicPr/>
          <p:nvPr/>
        </p:nvPicPr>
        <p:blipFill>
          <a:blip r:embed="rId4"/>
          <a:stretch/>
        </p:blipFill>
        <p:spPr>
          <a:xfrm>
            <a:off x="380880" y="1371600"/>
            <a:ext cx="4157640" cy="27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75" name="" descr=""/>
          <p:cNvPicPr/>
          <p:nvPr/>
        </p:nvPicPr>
        <p:blipFill>
          <a:blip r:embed="rId2"/>
          <a:stretch/>
        </p:blipFill>
        <p:spPr>
          <a:xfrm>
            <a:off x="1600200" y="228600"/>
            <a:ext cx="5715000" cy="3838680"/>
          </a:xfrm>
          <a:prstGeom prst="rect">
            <a:avLst/>
          </a:prstGeom>
          <a:ln w="0">
            <a:noFill/>
          </a:ln>
        </p:spPr>
      </p:pic>
      <p:sp>
        <p:nvSpPr>
          <p:cNvPr id="176" name=""/>
          <p:cNvSpPr/>
          <p:nvPr/>
        </p:nvSpPr>
        <p:spPr>
          <a:xfrm>
            <a:off x="380880" y="419112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nt St. Helens' lava dome in August 1981, as viewed from a photo station, 1/2 mile away. In this view the dome is 535 feet high and nearly 1/4 mile wid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78" name="aa1002a" descr=""/>
          <p:cNvPicPr/>
          <p:nvPr/>
        </p:nvPicPr>
        <p:blipFill>
          <a:blip r:embed="rId2"/>
          <a:stretch/>
        </p:blipFill>
        <p:spPr>
          <a:xfrm>
            <a:off x="533520" y="304920"/>
            <a:ext cx="4162320" cy="2693880"/>
          </a:xfrm>
          <a:prstGeom prst="rect">
            <a:avLst/>
          </a:prstGeom>
          <a:ln w="0">
            <a:noFill/>
          </a:ln>
        </p:spPr>
      </p:pic>
      <p:sp>
        <p:nvSpPr>
          <p:cNvPr id="179" name=""/>
          <p:cNvSpPr/>
          <p:nvPr/>
        </p:nvSpPr>
        <p:spPr>
          <a:xfrm>
            <a:off x="248040" y="3124800"/>
            <a:ext cx="8890560" cy="3111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nt St. Helens' lava dome in August 1981, as viewed from a photo station, 1/2 m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y. In this view the dome is 535 feet high and nearly 1/4 mile wide, making it tal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 a 44-story building (or, nearly the height of the Washington Monument)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 than the length of four football fields. Compare with image taken August 1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5 from the same location with the same camera.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HCAHTOA to find the the measure of Angle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olcanologist at </a:t>
            </a:r>
            <a:r>
              <a:rPr b="0" i="1" lang="en-US" sz="2800" spc="-1" strike="noStrike">
                <a:solidFill>
                  <a:srgbClr val="000000"/>
                </a:solidFill>
                <a:latin typeface="Garamond"/>
              </a:rPr>
              <a:t>A</a:t>
            </a:r>
            <a:r>
              <a:rPr b="0" lang="en-US" sz="2800" spc="-1" strike="noStrike">
                <a:solidFill>
                  <a:srgbClr val="000000"/>
                </a:solidFill>
                <a:latin typeface="Garamond"/>
              </a:rPr>
              <a:t> made EDM measurements of a lava dome as shown. Use the Law of Cosines to find </a:t>
            </a:r>
            <a:r>
              <a:rPr b="0" i="1" lang="en-US" sz="2800" spc="-1" strike="noStrike">
                <a:solidFill>
                  <a:srgbClr val="000000"/>
                </a:solidFill>
                <a:latin typeface="Garamond"/>
              </a:rPr>
              <a:t>BD</a:t>
            </a:r>
            <a:r>
              <a:rPr b="0" lang="en-US" sz="2800" spc="-1" strike="noStrike">
                <a:solidFill>
                  <a:srgbClr val="000000"/>
                </a:solidFill>
                <a:latin typeface="Garamond"/>
              </a:rPr>
              <a:t>. Then find the height of the dome.</a:t>
            </a:r>
            <a:endParaRPr b="0" lang="en-US" sz="2800" spc="-1" strike="noStrike">
              <a:solidFill>
                <a:srgbClr val="000000"/>
              </a:solidFill>
              <a:latin typeface="Garamond"/>
            </a:endParaRPr>
          </a:p>
        </p:txBody>
      </p:sp>
      <p:pic>
        <p:nvPicPr>
          <p:cNvPr id="181" name="aa1002c" descr=""/>
          <p:cNvPicPr/>
          <p:nvPr/>
        </p:nvPicPr>
        <p:blipFill>
          <a:blip r:embed="rId2"/>
          <a:stretch/>
        </p:blipFill>
        <p:spPr>
          <a:xfrm>
            <a:off x="1752480" y="1523880"/>
            <a:ext cx="5357880" cy="2305080"/>
          </a:xfrm>
          <a:prstGeom prst="rect">
            <a:avLst/>
          </a:prstGeom>
          <a:ln w="0">
            <a:noFill/>
          </a:ln>
        </p:spPr>
      </p:pic>
      <p:sp>
        <p:nvSpPr>
          <p:cNvPr id="182" name=""/>
          <p:cNvSpPr/>
          <p:nvPr/>
        </p:nvSpPr>
        <p:spPr>
          <a:xfrm>
            <a:off x="310680" y="4343040"/>
            <a:ext cx="3886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D </a:t>
            </a:r>
            <a:r>
              <a:rPr b="0" lang="en-US" sz="1800" spc="-1" strike="noStrike">
                <a:solidFill>
                  <a:srgbClr val="000000"/>
                </a:solidFill>
                <a:latin typeface="Arial"/>
              </a:rPr>
              <a:t>= 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 of dome = 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84" name="" descr=""/>
          <p:cNvPicPr/>
          <p:nvPr/>
        </p:nvPicPr>
        <p:blipFill>
          <a:blip r:embed="rId2"/>
          <a:stretch/>
        </p:blipFill>
        <p:spPr>
          <a:xfrm>
            <a:off x="4724280" y="304920"/>
            <a:ext cx="3429000" cy="2286000"/>
          </a:xfrm>
          <a:prstGeom prst="rect">
            <a:avLst/>
          </a:prstGeom>
          <a:ln w="0">
            <a:noFill/>
          </a:ln>
        </p:spPr>
      </p:pic>
      <p:pic>
        <p:nvPicPr>
          <p:cNvPr id="185" name="" descr=""/>
          <p:cNvPicPr/>
          <p:nvPr/>
        </p:nvPicPr>
        <p:blipFill>
          <a:blip r:embed="rId3"/>
          <a:stretch/>
        </p:blipFill>
        <p:spPr>
          <a:xfrm>
            <a:off x="914400" y="304920"/>
            <a:ext cx="3444840" cy="231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3520" y="457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 wireless company erects an 85-foot vertical cellular phone tower. Find the angle of elevation to the top of the tower from a point on the ground 110 feet from its base.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A.   63.2°      B.   45.2° </a:t>
            </a:r>
            <a:r>
              <a:rPr b="0" lang="en-US" sz="3200" spc="-1" strike="noStrike">
                <a:solidFill>
                  <a:srgbClr val="000000"/>
                </a:solidFill>
                <a:latin typeface="Garamond"/>
              </a:rPr>
              <a:t>	</a:t>
            </a:r>
            <a:r>
              <a:rPr b="0" lang="en-US" sz="3200" spc="-1" strike="noStrike">
                <a:solidFill>
                  <a:srgbClr val="000000"/>
                </a:solidFill>
                <a:latin typeface="Garamond"/>
              </a:rPr>
              <a:t> C.   37.7°</a:t>
            </a:r>
            <a:r>
              <a:rPr b="0" lang="en-US" sz="3200" spc="-1" strike="noStrike">
                <a:solidFill>
                  <a:srgbClr val="000000"/>
                </a:solidFill>
                <a:latin typeface="Garamond"/>
              </a:rPr>
              <a:t>	</a:t>
            </a:r>
            <a:r>
              <a:rPr b="0" lang="en-US" sz="3200" spc="-1" strike="noStrike">
                <a:solidFill>
                  <a:srgbClr val="000000"/>
                </a:solidFill>
                <a:latin typeface="Garamond"/>
              </a:rPr>
              <a:t>  D. 52.3° </a:t>
            </a:r>
            <a:endParaRPr b="0" lang="en-US" sz="3200" spc="-1" strike="noStrike">
              <a:solidFill>
                <a:srgbClr val="000000"/>
              </a:solidFill>
              <a:latin typeface="Garamond"/>
            </a:endParaRPr>
          </a:p>
        </p:txBody>
      </p:sp>
      <p:sp>
        <p:nvSpPr>
          <p:cNvPr id="79" name=""/>
          <p:cNvSpPr/>
          <p:nvPr/>
        </p:nvSpPr>
        <p:spPr>
          <a:xfrm>
            <a:off x="2660760" y="4313160"/>
            <a:ext cx="1447560" cy="1965240"/>
          </a:xfrm>
          <a:custGeom>
            <a:avLst/>
            <a:gdLst/>
            <a:ahLst/>
            <a:rect l="l" t="t" r="r" b="b"/>
            <a:pathLst>
              <a:path w="4019" h="5458">
                <a:moveTo>
                  <a:pt x="8682" y="16594"/>
                </a:moveTo>
                <a:cubicBezTo>
                  <a:pt x="8707" y="16603"/>
                  <a:pt x="8731" y="16637"/>
                  <a:pt x="8756" y="16669"/>
                </a:cubicBezTo>
                <a:cubicBezTo>
                  <a:pt x="8868" y="16813"/>
                  <a:pt x="8977" y="16963"/>
                  <a:pt x="9079" y="17115"/>
                </a:cubicBezTo>
                <a:cubicBezTo>
                  <a:pt x="9136" y="17200"/>
                  <a:pt x="9179" y="17265"/>
                  <a:pt x="9252" y="17338"/>
                </a:cubicBezTo>
                <a:cubicBezTo>
                  <a:pt x="9285" y="17371"/>
                  <a:pt x="9318" y="17404"/>
                  <a:pt x="9351" y="17438"/>
                </a:cubicBezTo>
              </a:path>
              <a:path w="4019" h="5458">
                <a:moveTo>
                  <a:pt x="9277" y="16644"/>
                </a:moveTo>
                <a:cubicBezTo>
                  <a:pt x="9277" y="16652"/>
                  <a:pt x="9277" y="16661"/>
                  <a:pt x="9277" y="16669"/>
                </a:cubicBezTo>
                <a:cubicBezTo>
                  <a:pt x="9312" y="16681"/>
                  <a:pt x="9309" y="16716"/>
                  <a:pt x="9351" y="16743"/>
                </a:cubicBezTo>
                <a:cubicBezTo>
                  <a:pt x="9428" y="16793"/>
                  <a:pt x="9497" y="16887"/>
                  <a:pt x="9550" y="16966"/>
                </a:cubicBezTo>
                <a:cubicBezTo>
                  <a:pt x="9589" y="17024"/>
                  <a:pt x="9599" y="17034"/>
                  <a:pt x="9649" y="17066"/>
                </a:cubicBezTo>
                <a:cubicBezTo>
                  <a:pt x="9672" y="17088"/>
                  <a:pt x="9677" y="17096"/>
                  <a:pt x="9699" y="17090"/>
                </a:cubicBezTo>
              </a:path>
              <a:path w="4019" h="5458">
                <a:moveTo>
                  <a:pt x="9798" y="16594"/>
                </a:moveTo>
                <a:cubicBezTo>
                  <a:pt x="9875" y="16613"/>
                  <a:pt x="9823" y="16634"/>
                  <a:pt x="9847" y="16694"/>
                </a:cubicBezTo>
                <a:cubicBezTo>
                  <a:pt x="9896" y="16813"/>
                  <a:pt x="9958" y="16923"/>
                  <a:pt x="10046" y="17016"/>
                </a:cubicBezTo>
                <a:cubicBezTo>
                  <a:pt x="10087" y="17059"/>
                  <a:pt x="10175" y="17168"/>
                  <a:pt x="10244" y="17165"/>
                </a:cubicBezTo>
                <a:cubicBezTo>
                  <a:pt x="10315" y="17162"/>
                  <a:pt x="10371" y="17136"/>
                  <a:pt x="10418" y="17090"/>
                </a:cubicBezTo>
                <a:cubicBezTo>
                  <a:pt x="10467" y="17042"/>
                  <a:pt x="10468" y="17006"/>
                  <a:pt x="10468" y="16942"/>
                </a:cubicBezTo>
                <a:cubicBezTo>
                  <a:pt x="10468" y="16867"/>
                  <a:pt x="10426" y="16809"/>
                  <a:pt x="10393" y="16743"/>
                </a:cubicBezTo>
                <a:cubicBezTo>
                  <a:pt x="10361" y="16679"/>
                  <a:pt x="10330" y="16630"/>
                  <a:pt x="10269" y="16594"/>
                </a:cubicBezTo>
                <a:cubicBezTo>
                  <a:pt x="10186" y="16546"/>
                  <a:pt x="10089" y="16509"/>
                  <a:pt x="9996" y="16495"/>
                </a:cubicBezTo>
                <a:cubicBezTo>
                  <a:pt x="9967" y="16491"/>
                  <a:pt x="9852" y="16509"/>
                  <a:pt x="9823" y="16520"/>
                </a:cubicBezTo>
                <a:cubicBezTo>
                  <a:pt x="9781" y="16536"/>
                  <a:pt x="9774" y="16545"/>
                  <a:pt x="9723" y="16545"/>
                </a:cubicBezTo>
              </a:path>
              <a:path w="4019" h="5458">
                <a:moveTo>
                  <a:pt x="9897" y="16197"/>
                </a:moveTo>
                <a:cubicBezTo>
                  <a:pt x="9852" y="16184"/>
                  <a:pt x="9844" y="16202"/>
                  <a:pt x="9823" y="16148"/>
                </a:cubicBezTo>
                <a:cubicBezTo>
                  <a:pt x="9809" y="16111"/>
                  <a:pt x="9781" y="16035"/>
                  <a:pt x="9773" y="15999"/>
                </a:cubicBezTo>
                <a:cubicBezTo>
                  <a:pt x="9760" y="15939"/>
                  <a:pt x="9744" y="15781"/>
                  <a:pt x="9748" y="15726"/>
                </a:cubicBezTo>
                <a:cubicBezTo>
                  <a:pt x="9754" y="15639"/>
                  <a:pt x="9757" y="15516"/>
                  <a:pt x="9773" y="15429"/>
                </a:cubicBezTo>
                <a:cubicBezTo>
                  <a:pt x="9799" y="15292"/>
                  <a:pt x="9871" y="15160"/>
                  <a:pt x="9922" y="15032"/>
                </a:cubicBezTo>
                <a:cubicBezTo>
                  <a:pt x="9974" y="14902"/>
                  <a:pt x="10041" y="14822"/>
                  <a:pt x="10120" y="14709"/>
                </a:cubicBezTo>
                <a:cubicBezTo>
                  <a:pt x="10194" y="14604"/>
                  <a:pt x="10290" y="14512"/>
                  <a:pt x="10393" y="14436"/>
                </a:cubicBezTo>
                <a:cubicBezTo>
                  <a:pt x="10509" y="14351"/>
                  <a:pt x="10612" y="14272"/>
                  <a:pt x="10740" y="14213"/>
                </a:cubicBezTo>
                <a:cubicBezTo>
                  <a:pt x="10793" y="14189"/>
                  <a:pt x="10864" y="14147"/>
                  <a:pt x="10914" y="14139"/>
                </a:cubicBezTo>
                <a:cubicBezTo>
                  <a:pt x="10954" y="14133"/>
                  <a:pt x="10976" y="14120"/>
                  <a:pt x="10988" y="14114"/>
                </a:cubicBezTo>
              </a:path>
              <a:path w="4019" h="5458">
                <a:moveTo>
                  <a:pt x="10765" y="14734"/>
                </a:moveTo>
                <a:cubicBezTo>
                  <a:pt x="10732" y="14756"/>
                  <a:pt x="10719" y="14825"/>
                  <a:pt x="10716" y="14883"/>
                </a:cubicBezTo>
                <a:cubicBezTo>
                  <a:pt x="10708" y="15023"/>
                  <a:pt x="10702" y="15170"/>
                  <a:pt x="10740" y="15304"/>
                </a:cubicBezTo>
                <a:cubicBezTo>
                  <a:pt x="10774" y="15423"/>
                  <a:pt x="10802" y="15544"/>
                  <a:pt x="10864" y="15652"/>
                </a:cubicBezTo>
                <a:cubicBezTo>
                  <a:pt x="10908" y="15729"/>
                  <a:pt x="10962" y="15785"/>
                  <a:pt x="11038" y="15825"/>
                </a:cubicBezTo>
                <a:cubicBezTo>
                  <a:pt x="11106" y="15860"/>
                  <a:pt x="11129" y="15852"/>
                  <a:pt x="11187" y="15801"/>
                </a:cubicBezTo>
                <a:cubicBezTo>
                  <a:pt x="11250" y="15745"/>
                  <a:pt x="11237" y="15679"/>
                  <a:pt x="11237" y="15602"/>
                </a:cubicBezTo>
                <a:cubicBezTo>
                  <a:pt x="11237" y="15449"/>
                  <a:pt x="11175" y="15303"/>
                  <a:pt x="11137" y="15156"/>
                </a:cubicBezTo>
                <a:cubicBezTo>
                  <a:pt x="11109" y="15047"/>
                  <a:pt x="11084" y="14968"/>
                  <a:pt x="11013" y="14883"/>
                </a:cubicBezTo>
                <a:cubicBezTo>
                  <a:pt x="10978" y="14841"/>
                  <a:pt x="10938" y="14796"/>
                  <a:pt x="10889" y="14784"/>
                </a:cubicBezTo>
              </a:path>
              <a:path w="4019" h="5458">
                <a:moveTo>
                  <a:pt x="10765" y="15553"/>
                </a:moveTo>
                <a:cubicBezTo>
                  <a:pt x="10870" y="15372"/>
                  <a:pt x="10965" y="15193"/>
                  <a:pt x="11088" y="15032"/>
                </a:cubicBezTo>
                <a:cubicBezTo>
                  <a:pt x="11171" y="14922"/>
                  <a:pt x="11264" y="14832"/>
                  <a:pt x="11361" y="14734"/>
                </a:cubicBezTo>
                <a:cubicBezTo>
                  <a:pt x="11377" y="14717"/>
                  <a:pt x="11394" y="14701"/>
                  <a:pt x="11410" y="14684"/>
                </a:cubicBezTo>
              </a:path>
              <a:path w="4019" h="5458">
                <a:moveTo>
                  <a:pt x="7417" y="15032"/>
                </a:moveTo>
                <a:cubicBezTo>
                  <a:pt x="7392" y="15032"/>
                  <a:pt x="7384" y="15032"/>
                  <a:pt x="7392" y="15007"/>
                </a:cubicBezTo>
                <a:cubicBezTo>
                  <a:pt x="7407" y="14998"/>
                  <a:pt x="7437" y="14996"/>
                  <a:pt x="7466" y="14982"/>
                </a:cubicBezTo>
                <a:cubicBezTo>
                  <a:pt x="7508" y="14961"/>
                  <a:pt x="7548" y="14950"/>
                  <a:pt x="7590" y="14932"/>
                </a:cubicBezTo>
                <a:cubicBezTo>
                  <a:pt x="7633" y="14913"/>
                  <a:pt x="7701" y="14891"/>
                  <a:pt x="7739" y="14883"/>
                </a:cubicBezTo>
                <a:cubicBezTo>
                  <a:pt x="7788" y="14873"/>
                  <a:pt x="7834" y="14847"/>
                  <a:pt x="7888" y="14858"/>
                </a:cubicBezTo>
                <a:cubicBezTo>
                  <a:pt x="7926" y="14866"/>
                  <a:pt x="7957" y="14882"/>
                  <a:pt x="7987" y="14908"/>
                </a:cubicBezTo>
                <a:cubicBezTo>
                  <a:pt x="8026" y="14942"/>
                  <a:pt x="8035" y="15005"/>
                  <a:pt x="8037" y="15056"/>
                </a:cubicBezTo>
                <a:cubicBezTo>
                  <a:pt x="8044" y="15208"/>
                  <a:pt x="8036" y="15359"/>
                  <a:pt x="8012" y="15503"/>
                </a:cubicBezTo>
                <a:cubicBezTo>
                  <a:pt x="7999" y="15580"/>
                  <a:pt x="7975" y="15816"/>
                  <a:pt x="7987" y="15875"/>
                </a:cubicBezTo>
                <a:cubicBezTo>
                  <a:pt x="8012" y="15875"/>
                  <a:pt x="8020" y="15875"/>
                  <a:pt x="8012" y="15900"/>
                </a:cubicBezTo>
              </a:path>
              <a:path w="4019" h="5458">
                <a:moveTo>
                  <a:pt x="10517" y="12005"/>
                </a:moveTo>
                <a:cubicBezTo>
                  <a:pt x="10517" y="11973"/>
                  <a:pt x="10517" y="12037"/>
                  <a:pt x="10517" y="12005"/>
                </a:cubicBezTo>
                <a:cubicBezTo>
                  <a:pt x="10517" y="11981"/>
                  <a:pt x="10517" y="11973"/>
                  <a:pt x="10517" y="12005"/>
                </a:cubicBezTo>
              </a:path>
              <a:path w="4019" h="5458">
                <a:moveTo>
                  <a:pt x="10517" y="12005"/>
                </a:moveTo>
                <a:cubicBezTo>
                  <a:pt x="10517" y="12190"/>
                  <a:pt x="10507" y="12367"/>
                  <a:pt x="10492" y="12551"/>
                </a:cubicBezTo>
                <a:cubicBezTo>
                  <a:pt x="10480" y="12698"/>
                  <a:pt x="10492" y="12850"/>
                  <a:pt x="10492" y="12998"/>
                </a:cubicBezTo>
              </a:path>
              <a:path w="4019" h="5458">
                <a:moveTo>
                  <a:pt x="10145" y="12179"/>
                </a:moveTo>
                <a:cubicBezTo>
                  <a:pt x="10100" y="12179"/>
                  <a:pt x="10171" y="12222"/>
                  <a:pt x="10195" y="12229"/>
                </a:cubicBezTo>
                <a:cubicBezTo>
                  <a:pt x="10252" y="12245"/>
                  <a:pt x="10315" y="12261"/>
                  <a:pt x="10368" y="12303"/>
                </a:cubicBezTo>
                <a:cubicBezTo>
                  <a:pt x="10434" y="12355"/>
                  <a:pt x="10491" y="12389"/>
                  <a:pt x="10567" y="12427"/>
                </a:cubicBezTo>
                <a:cubicBezTo>
                  <a:pt x="10649" y="12469"/>
                  <a:pt x="10737" y="12513"/>
                  <a:pt x="10815" y="12551"/>
                </a:cubicBezTo>
                <a:cubicBezTo>
                  <a:pt x="10879" y="12582"/>
                  <a:pt x="10903" y="12626"/>
                  <a:pt x="10939" y="12650"/>
                </a:cubicBezTo>
                <a:cubicBezTo>
                  <a:pt x="10975" y="12673"/>
                  <a:pt x="10945" y="12642"/>
                  <a:pt x="10939" y="1262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75120" y="2490840"/>
            <a:ext cx="1839960" cy="1519200"/>
          </a:xfrm>
          <a:custGeom>
            <a:avLst/>
            <a:gdLst/>
            <a:ahLst/>
            <a:rect l="l" t="t" r="r" b="b"/>
            <a:pathLst>
              <a:path w="5111" h="4217">
                <a:moveTo>
                  <a:pt x="14337" y="9699"/>
                </a:moveTo>
                <a:cubicBezTo>
                  <a:pt x="14280" y="9713"/>
                  <a:pt x="14275" y="9748"/>
                  <a:pt x="14213" y="9773"/>
                </a:cubicBezTo>
                <a:cubicBezTo>
                  <a:pt x="14168" y="9791"/>
                  <a:pt x="14120" y="9825"/>
                  <a:pt x="14089" y="9872"/>
                </a:cubicBezTo>
                <a:cubicBezTo>
                  <a:pt x="14054" y="9925"/>
                  <a:pt x="14015" y="9958"/>
                  <a:pt x="14015" y="10021"/>
                </a:cubicBezTo>
                <a:cubicBezTo>
                  <a:pt x="14015" y="10070"/>
                  <a:pt x="14026" y="10080"/>
                  <a:pt x="14039" y="10120"/>
                </a:cubicBezTo>
                <a:cubicBezTo>
                  <a:pt x="14055" y="10168"/>
                  <a:pt x="14092" y="10192"/>
                  <a:pt x="14139" y="10220"/>
                </a:cubicBezTo>
                <a:cubicBezTo>
                  <a:pt x="14209" y="10262"/>
                  <a:pt x="14252" y="10295"/>
                  <a:pt x="14312" y="10344"/>
                </a:cubicBezTo>
                <a:cubicBezTo>
                  <a:pt x="14369" y="10391"/>
                  <a:pt x="14385" y="10400"/>
                  <a:pt x="14412" y="10468"/>
                </a:cubicBezTo>
                <a:cubicBezTo>
                  <a:pt x="14436" y="10529"/>
                  <a:pt x="14442" y="10562"/>
                  <a:pt x="14412" y="10616"/>
                </a:cubicBezTo>
                <a:cubicBezTo>
                  <a:pt x="14380" y="10673"/>
                  <a:pt x="14306" y="10772"/>
                  <a:pt x="14238" y="10790"/>
                </a:cubicBezTo>
                <a:cubicBezTo>
                  <a:pt x="14184" y="10804"/>
                  <a:pt x="14111" y="10830"/>
                  <a:pt x="14064" y="10840"/>
                </a:cubicBezTo>
                <a:cubicBezTo>
                  <a:pt x="14013" y="10850"/>
                  <a:pt x="14000" y="10841"/>
                  <a:pt x="13965" y="10815"/>
                </a:cubicBezTo>
              </a:path>
              <a:path w="5111" h="4217">
                <a:moveTo>
                  <a:pt x="14560" y="10170"/>
                </a:moveTo>
                <a:cubicBezTo>
                  <a:pt x="14571" y="10214"/>
                  <a:pt x="14598" y="10245"/>
                  <a:pt x="14610" y="10294"/>
                </a:cubicBezTo>
                <a:cubicBezTo>
                  <a:pt x="14626" y="10359"/>
                  <a:pt x="14633" y="10457"/>
                  <a:pt x="14660" y="10517"/>
                </a:cubicBezTo>
                <a:cubicBezTo>
                  <a:pt x="14673" y="10545"/>
                  <a:pt x="14690" y="10567"/>
                  <a:pt x="14709" y="10592"/>
                </a:cubicBezTo>
              </a:path>
              <a:path w="5111" h="4217">
                <a:moveTo>
                  <a:pt x="14511" y="9971"/>
                </a:moveTo>
                <a:lnTo>
                  <a:pt x="14511" y="9971"/>
                </a:lnTo>
              </a:path>
              <a:path w="5111" h="4217">
                <a:moveTo>
                  <a:pt x="14784" y="9971"/>
                </a:moveTo>
                <a:cubicBezTo>
                  <a:pt x="14803" y="10044"/>
                  <a:pt x="14810" y="10126"/>
                  <a:pt x="14833" y="10195"/>
                </a:cubicBezTo>
                <a:cubicBezTo>
                  <a:pt x="14861" y="10277"/>
                  <a:pt x="14877" y="10359"/>
                  <a:pt x="14908" y="10443"/>
                </a:cubicBezTo>
                <a:cubicBezTo>
                  <a:pt x="14925" y="10488"/>
                  <a:pt x="14931" y="10507"/>
                  <a:pt x="14957" y="10542"/>
                </a:cubicBezTo>
                <a:cubicBezTo>
                  <a:pt x="15000" y="10528"/>
                  <a:pt x="14982" y="10473"/>
                  <a:pt x="14982" y="10418"/>
                </a:cubicBezTo>
                <a:cubicBezTo>
                  <a:pt x="14982" y="10362"/>
                  <a:pt x="14999" y="10266"/>
                  <a:pt x="15032" y="10220"/>
                </a:cubicBezTo>
                <a:cubicBezTo>
                  <a:pt x="15086" y="10144"/>
                  <a:pt x="15120" y="10145"/>
                  <a:pt x="15205" y="10145"/>
                </a:cubicBezTo>
                <a:cubicBezTo>
                  <a:pt x="15277" y="10145"/>
                  <a:pt x="15268" y="10220"/>
                  <a:pt x="15280" y="10269"/>
                </a:cubicBezTo>
                <a:cubicBezTo>
                  <a:pt x="15306" y="10371"/>
                  <a:pt x="15304" y="10460"/>
                  <a:pt x="15304" y="10567"/>
                </a:cubicBezTo>
                <a:cubicBezTo>
                  <a:pt x="15304" y="10634"/>
                  <a:pt x="15304" y="10550"/>
                  <a:pt x="15304" y="10542"/>
                </a:cubicBezTo>
              </a:path>
              <a:path w="5111" h="4217">
                <a:moveTo>
                  <a:pt x="15825" y="9500"/>
                </a:moveTo>
                <a:cubicBezTo>
                  <a:pt x="15803" y="9508"/>
                  <a:pt x="15772" y="9543"/>
                  <a:pt x="15751" y="9575"/>
                </a:cubicBezTo>
                <a:cubicBezTo>
                  <a:pt x="15700" y="9653"/>
                  <a:pt x="15696" y="9714"/>
                  <a:pt x="15677" y="9798"/>
                </a:cubicBezTo>
                <a:cubicBezTo>
                  <a:pt x="15664" y="9853"/>
                  <a:pt x="15610" y="9965"/>
                  <a:pt x="15627" y="10021"/>
                </a:cubicBezTo>
                <a:cubicBezTo>
                  <a:pt x="15635" y="10029"/>
                  <a:pt x="15644" y="10038"/>
                  <a:pt x="15652" y="10046"/>
                </a:cubicBezTo>
                <a:cubicBezTo>
                  <a:pt x="15706" y="10032"/>
                  <a:pt x="15724" y="9998"/>
                  <a:pt x="15751" y="9947"/>
                </a:cubicBezTo>
                <a:cubicBezTo>
                  <a:pt x="15791" y="9872"/>
                  <a:pt x="15816" y="9823"/>
                  <a:pt x="15850" y="9748"/>
                </a:cubicBezTo>
                <a:cubicBezTo>
                  <a:pt x="15874" y="9696"/>
                  <a:pt x="15904" y="9582"/>
                  <a:pt x="15875" y="9525"/>
                </a:cubicBezTo>
                <a:cubicBezTo>
                  <a:pt x="15867" y="9517"/>
                  <a:pt x="15858" y="9508"/>
                  <a:pt x="15850" y="9500"/>
                </a:cubicBezTo>
                <a:cubicBezTo>
                  <a:pt x="15850" y="9604"/>
                  <a:pt x="15863" y="9698"/>
                  <a:pt x="15875" y="9798"/>
                </a:cubicBezTo>
                <a:cubicBezTo>
                  <a:pt x="15886" y="9892"/>
                  <a:pt x="15898" y="9978"/>
                  <a:pt x="15925" y="10071"/>
                </a:cubicBezTo>
                <a:cubicBezTo>
                  <a:pt x="15949" y="10152"/>
                  <a:pt x="15968" y="10235"/>
                  <a:pt x="15974" y="10319"/>
                </a:cubicBezTo>
                <a:cubicBezTo>
                  <a:pt x="15977" y="10354"/>
                  <a:pt x="15980" y="10399"/>
                  <a:pt x="15999" y="10344"/>
                </a:cubicBezTo>
              </a:path>
              <a:path w="5111" h="4217">
                <a:moveTo>
                  <a:pt x="16247" y="9475"/>
                </a:moveTo>
                <a:cubicBezTo>
                  <a:pt x="16216" y="9557"/>
                  <a:pt x="16215" y="9638"/>
                  <a:pt x="16197" y="9723"/>
                </a:cubicBezTo>
                <a:cubicBezTo>
                  <a:pt x="16170" y="9848"/>
                  <a:pt x="16148" y="9941"/>
                  <a:pt x="16148" y="10071"/>
                </a:cubicBezTo>
                <a:cubicBezTo>
                  <a:pt x="16148" y="10148"/>
                  <a:pt x="16125" y="10258"/>
                  <a:pt x="16173" y="10319"/>
                </a:cubicBezTo>
                <a:cubicBezTo>
                  <a:pt x="16181" y="10327"/>
                  <a:pt x="16189" y="10336"/>
                  <a:pt x="16197" y="10344"/>
                </a:cubicBezTo>
                <a:cubicBezTo>
                  <a:pt x="16253" y="10330"/>
                  <a:pt x="16276" y="10277"/>
                  <a:pt x="16297" y="10220"/>
                </a:cubicBezTo>
                <a:cubicBezTo>
                  <a:pt x="16343" y="10094"/>
                  <a:pt x="16371" y="10003"/>
                  <a:pt x="16371" y="9872"/>
                </a:cubicBezTo>
                <a:cubicBezTo>
                  <a:pt x="16371" y="9786"/>
                  <a:pt x="16334" y="9729"/>
                  <a:pt x="16321" y="9649"/>
                </a:cubicBezTo>
                <a:cubicBezTo>
                  <a:pt x="16311" y="9588"/>
                  <a:pt x="16310" y="9546"/>
                  <a:pt x="16247" y="9525"/>
                </a:cubicBezTo>
                <a:cubicBezTo>
                  <a:pt x="16199" y="9509"/>
                  <a:pt x="16182" y="9537"/>
                  <a:pt x="16173" y="9575"/>
                </a:cubicBezTo>
              </a:path>
              <a:path w="5111" h="4217">
                <a:moveTo>
                  <a:pt x="13543" y="11137"/>
                </a:moveTo>
                <a:cubicBezTo>
                  <a:pt x="13630" y="11137"/>
                  <a:pt x="13720" y="11121"/>
                  <a:pt x="13791" y="11112"/>
                </a:cubicBezTo>
                <a:cubicBezTo>
                  <a:pt x="13864" y="11103"/>
                  <a:pt x="13947" y="11095"/>
                  <a:pt x="14015" y="11088"/>
                </a:cubicBezTo>
                <a:cubicBezTo>
                  <a:pt x="14073" y="11082"/>
                  <a:pt x="14135" y="11068"/>
                  <a:pt x="14188" y="11063"/>
                </a:cubicBezTo>
                <a:cubicBezTo>
                  <a:pt x="14269" y="11055"/>
                  <a:pt x="14361" y="11044"/>
                  <a:pt x="14436" y="11038"/>
                </a:cubicBezTo>
                <a:cubicBezTo>
                  <a:pt x="14511" y="11032"/>
                  <a:pt x="14591" y="11019"/>
                  <a:pt x="14660" y="11013"/>
                </a:cubicBezTo>
                <a:cubicBezTo>
                  <a:pt x="14770" y="11004"/>
                  <a:pt x="14872" y="11002"/>
                  <a:pt x="14982" y="10988"/>
                </a:cubicBezTo>
                <a:cubicBezTo>
                  <a:pt x="15058" y="10978"/>
                  <a:pt x="15153" y="10958"/>
                  <a:pt x="15230" y="10939"/>
                </a:cubicBezTo>
                <a:cubicBezTo>
                  <a:pt x="15322" y="10917"/>
                  <a:pt x="15414" y="10891"/>
                  <a:pt x="15503" y="10864"/>
                </a:cubicBezTo>
                <a:cubicBezTo>
                  <a:pt x="15598" y="10835"/>
                  <a:pt x="15679" y="10811"/>
                  <a:pt x="15776" y="10790"/>
                </a:cubicBezTo>
                <a:cubicBezTo>
                  <a:pt x="15856" y="10773"/>
                  <a:pt x="15942" y="10731"/>
                  <a:pt x="16024" y="10716"/>
                </a:cubicBezTo>
                <a:cubicBezTo>
                  <a:pt x="16105" y="10701"/>
                  <a:pt x="16193" y="10676"/>
                  <a:pt x="16272" y="10666"/>
                </a:cubicBezTo>
                <a:cubicBezTo>
                  <a:pt x="16351" y="10656"/>
                  <a:pt x="16396" y="10637"/>
                  <a:pt x="16470" y="10616"/>
                </a:cubicBezTo>
                <a:cubicBezTo>
                  <a:pt x="16527" y="10600"/>
                  <a:pt x="16593" y="10577"/>
                  <a:pt x="16644" y="10567"/>
                </a:cubicBezTo>
                <a:cubicBezTo>
                  <a:pt x="16669" y="10567"/>
                  <a:pt x="16677" y="10567"/>
                  <a:pt x="16694" y="10567"/>
                </a:cubicBezTo>
              </a:path>
              <a:path w="5111" h="4217">
                <a:moveTo>
                  <a:pt x="18058" y="8682"/>
                </a:moveTo>
                <a:cubicBezTo>
                  <a:pt x="17990" y="8669"/>
                  <a:pt x="17928" y="8667"/>
                  <a:pt x="17859" y="8657"/>
                </a:cubicBezTo>
                <a:cubicBezTo>
                  <a:pt x="17762" y="8643"/>
                  <a:pt x="17731" y="8643"/>
                  <a:pt x="17636" y="8657"/>
                </a:cubicBezTo>
                <a:cubicBezTo>
                  <a:pt x="17536" y="8672"/>
                  <a:pt x="17441" y="8680"/>
                  <a:pt x="17338" y="8682"/>
                </a:cubicBezTo>
                <a:cubicBezTo>
                  <a:pt x="16883" y="8691"/>
                  <a:pt x="16424" y="8686"/>
                  <a:pt x="15974" y="8706"/>
                </a:cubicBezTo>
                <a:cubicBezTo>
                  <a:pt x="15822" y="8713"/>
                  <a:pt x="15675" y="8700"/>
                  <a:pt x="15528" y="8682"/>
                </a:cubicBezTo>
                <a:cubicBezTo>
                  <a:pt x="15377" y="8664"/>
                  <a:pt x="15228" y="8654"/>
                  <a:pt x="15081" y="8632"/>
                </a:cubicBezTo>
                <a:cubicBezTo>
                  <a:pt x="14981" y="8617"/>
                  <a:pt x="14879" y="8597"/>
                  <a:pt x="14784" y="8558"/>
                </a:cubicBezTo>
                <a:cubicBezTo>
                  <a:pt x="14705" y="8526"/>
                  <a:pt x="14575" y="8467"/>
                  <a:pt x="14511" y="8409"/>
                </a:cubicBezTo>
                <a:cubicBezTo>
                  <a:pt x="14418" y="8325"/>
                  <a:pt x="14344" y="8229"/>
                  <a:pt x="14288" y="8111"/>
                </a:cubicBezTo>
                <a:cubicBezTo>
                  <a:pt x="14250" y="8030"/>
                  <a:pt x="14256" y="7928"/>
                  <a:pt x="14263" y="7838"/>
                </a:cubicBezTo>
                <a:cubicBezTo>
                  <a:pt x="14272" y="7720"/>
                  <a:pt x="14300" y="7642"/>
                  <a:pt x="14362" y="7541"/>
                </a:cubicBezTo>
                <a:cubicBezTo>
                  <a:pt x="14424" y="7440"/>
                  <a:pt x="14489" y="7372"/>
                  <a:pt x="14585" y="7293"/>
                </a:cubicBezTo>
                <a:cubicBezTo>
                  <a:pt x="14682" y="7213"/>
                  <a:pt x="14814" y="7137"/>
                  <a:pt x="14932" y="7094"/>
                </a:cubicBezTo>
                <a:cubicBezTo>
                  <a:pt x="15126" y="7024"/>
                  <a:pt x="15323" y="6981"/>
                  <a:pt x="15528" y="6945"/>
                </a:cubicBezTo>
                <a:cubicBezTo>
                  <a:pt x="15717" y="6912"/>
                  <a:pt x="15906" y="6921"/>
                  <a:pt x="16098" y="6921"/>
                </a:cubicBezTo>
                <a:cubicBezTo>
                  <a:pt x="16365" y="6921"/>
                  <a:pt x="16628" y="6932"/>
                  <a:pt x="16892" y="6945"/>
                </a:cubicBezTo>
                <a:cubicBezTo>
                  <a:pt x="17118" y="6956"/>
                  <a:pt x="17337" y="6938"/>
                  <a:pt x="17562" y="6970"/>
                </a:cubicBezTo>
                <a:cubicBezTo>
                  <a:pt x="17749" y="6996"/>
                  <a:pt x="17961" y="7012"/>
                  <a:pt x="18132" y="7094"/>
                </a:cubicBezTo>
                <a:cubicBezTo>
                  <a:pt x="18269" y="7160"/>
                  <a:pt x="18470" y="7260"/>
                  <a:pt x="18554" y="7392"/>
                </a:cubicBezTo>
                <a:cubicBezTo>
                  <a:pt x="18650" y="7543"/>
                  <a:pt x="18670" y="7714"/>
                  <a:pt x="18653" y="7888"/>
                </a:cubicBezTo>
                <a:cubicBezTo>
                  <a:pt x="18619" y="8233"/>
                  <a:pt x="18394" y="8567"/>
                  <a:pt x="18182" y="8830"/>
                </a:cubicBezTo>
                <a:cubicBezTo>
                  <a:pt x="18091" y="8938"/>
                  <a:pt x="18000" y="9045"/>
                  <a:pt x="17909" y="9153"/>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839960" y="3027240"/>
            <a:ext cx="2367000" cy="1027080"/>
          </a:xfrm>
          <a:custGeom>
            <a:avLst/>
            <a:gdLst/>
            <a:ahLst/>
            <a:rect l="l" t="t" r="r" b="b"/>
            <a:pathLst>
              <a:path w="6574" h="2853">
                <a:moveTo>
                  <a:pt x="5184" y="10418"/>
                </a:moveTo>
                <a:cubicBezTo>
                  <a:pt x="5159" y="10418"/>
                  <a:pt x="5135" y="10418"/>
                  <a:pt x="5110" y="10418"/>
                </a:cubicBezTo>
                <a:cubicBezTo>
                  <a:pt x="5143" y="10451"/>
                  <a:pt x="5176" y="10484"/>
                  <a:pt x="5209" y="10517"/>
                </a:cubicBezTo>
                <a:cubicBezTo>
                  <a:pt x="5253" y="10561"/>
                  <a:pt x="5285" y="10633"/>
                  <a:pt x="5308" y="10691"/>
                </a:cubicBezTo>
                <a:cubicBezTo>
                  <a:pt x="5348" y="10792"/>
                  <a:pt x="5411" y="10873"/>
                  <a:pt x="5457" y="10964"/>
                </a:cubicBezTo>
                <a:cubicBezTo>
                  <a:pt x="5501" y="11051"/>
                  <a:pt x="5500" y="11154"/>
                  <a:pt x="5531" y="11237"/>
                </a:cubicBezTo>
                <a:cubicBezTo>
                  <a:pt x="5539" y="11245"/>
                  <a:pt x="5548" y="11253"/>
                  <a:pt x="5556" y="11261"/>
                </a:cubicBezTo>
                <a:cubicBezTo>
                  <a:pt x="5556" y="11133"/>
                  <a:pt x="5570" y="11017"/>
                  <a:pt x="5581" y="10889"/>
                </a:cubicBezTo>
                <a:cubicBezTo>
                  <a:pt x="5590" y="10777"/>
                  <a:pt x="5566" y="10674"/>
                  <a:pt x="5556" y="10567"/>
                </a:cubicBezTo>
                <a:cubicBezTo>
                  <a:pt x="5549" y="10488"/>
                  <a:pt x="5564" y="10392"/>
                  <a:pt x="5531" y="10319"/>
                </a:cubicBezTo>
                <a:cubicBezTo>
                  <a:pt x="5508" y="10268"/>
                  <a:pt x="5448" y="10260"/>
                  <a:pt x="5407" y="10244"/>
                </a:cubicBezTo>
                <a:cubicBezTo>
                  <a:pt x="5330" y="10214"/>
                  <a:pt x="5328" y="10231"/>
                  <a:pt x="5259" y="10244"/>
                </a:cubicBezTo>
                <a:cubicBezTo>
                  <a:pt x="5183" y="10259"/>
                  <a:pt x="5197" y="10256"/>
                  <a:pt x="5135" y="10319"/>
                </a:cubicBezTo>
              </a:path>
              <a:path w="6574" h="2853">
                <a:moveTo>
                  <a:pt x="5556" y="10170"/>
                </a:moveTo>
                <a:cubicBezTo>
                  <a:pt x="5606" y="10113"/>
                  <a:pt x="5636" y="10055"/>
                  <a:pt x="5680" y="9996"/>
                </a:cubicBezTo>
                <a:cubicBezTo>
                  <a:pt x="5706" y="9961"/>
                  <a:pt x="5762" y="9912"/>
                  <a:pt x="5779" y="9872"/>
                </a:cubicBezTo>
                <a:cubicBezTo>
                  <a:pt x="5779" y="9847"/>
                  <a:pt x="5779" y="9839"/>
                  <a:pt x="5804" y="9847"/>
                </a:cubicBezTo>
                <a:cubicBezTo>
                  <a:pt x="5773" y="9857"/>
                  <a:pt x="5748" y="9903"/>
                  <a:pt x="5730" y="9947"/>
                </a:cubicBezTo>
                <a:cubicBezTo>
                  <a:pt x="5694" y="10034"/>
                  <a:pt x="5633" y="10134"/>
                  <a:pt x="5606" y="10220"/>
                </a:cubicBezTo>
                <a:cubicBezTo>
                  <a:pt x="5591" y="10268"/>
                  <a:pt x="5615" y="10357"/>
                  <a:pt x="5680" y="10344"/>
                </a:cubicBezTo>
                <a:cubicBezTo>
                  <a:pt x="5756" y="10329"/>
                  <a:pt x="5825" y="10284"/>
                  <a:pt x="5904" y="10269"/>
                </a:cubicBezTo>
                <a:cubicBezTo>
                  <a:pt x="5972" y="10256"/>
                  <a:pt x="6030" y="10244"/>
                  <a:pt x="6102" y="10244"/>
                </a:cubicBezTo>
                <a:cubicBezTo>
                  <a:pt x="6150" y="10244"/>
                  <a:pt x="6189" y="10239"/>
                  <a:pt x="6201" y="10294"/>
                </a:cubicBezTo>
                <a:cubicBezTo>
                  <a:pt x="6216" y="10363"/>
                  <a:pt x="6146" y="10452"/>
                  <a:pt x="6127" y="10517"/>
                </a:cubicBezTo>
                <a:cubicBezTo>
                  <a:pt x="6096" y="10623"/>
                  <a:pt x="6052" y="10685"/>
                  <a:pt x="5978" y="10765"/>
                </a:cubicBezTo>
                <a:cubicBezTo>
                  <a:pt x="5953" y="10792"/>
                  <a:pt x="5902" y="10811"/>
                  <a:pt x="5879" y="10765"/>
                </a:cubicBezTo>
                <a:cubicBezTo>
                  <a:pt x="5871" y="10740"/>
                  <a:pt x="5862" y="10716"/>
                  <a:pt x="5854" y="10691"/>
                </a:cubicBezTo>
              </a:path>
              <a:path w="6574" h="2853">
                <a:moveTo>
                  <a:pt x="5953" y="9674"/>
                </a:moveTo>
                <a:cubicBezTo>
                  <a:pt x="5924" y="9635"/>
                  <a:pt x="5926" y="9615"/>
                  <a:pt x="5953" y="9575"/>
                </a:cubicBezTo>
                <a:cubicBezTo>
                  <a:pt x="5986" y="9526"/>
                  <a:pt x="6034" y="9460"/>
                  <a:pt x="6077" y="9426"/>
                </a:cubicBezTo>
                <a:cubicBezTo>
                  <a:pt x="6119" y="9393"/>
                  <a:pt x="6191" y="9376"/>
                  <a:pt x="6226" y="9401"/>
                </a:cubicBezTo>
                <a:cubicBezTo>
                  <a:pt x="6289" y="9445"/>
                  <a:pt x="6291" y="9557"/>
                  <a:pt x="6276" y="9624"/>
                </a:cubicBezTo>
                <a:cubicBezTo>
                  <a:pt x="6259" y="9696"/>
                  <a:pt x="6233" y="9771"/>
                  <a:pt x="6226" y="9847"/>
                </a:cubicBezTo>
                <a:cubicBezTo>
                  <a:pt x="6226" y="9855"/>
                  <a:pt x="6226" y="9864"/>
                  <a:pt x="6226" y="9872"/>
                </a:cubicBezTo>
                <a:cubicBezTo>
                  <a:pt x="6292" y="9855"/>
                  <a:pt x="6278" y="9813"/>
                  <a:pt x="6325" y="9773"/>
                </a:cubicBezTo>
                <a:cubicBezTo>
                  <a:pt x="6378" y="9728"/>
                  <a:pt x="6426" y="9672"/>
                  <a:pt x="6499" y="9649"/>
                </a:cubicBezTo>
                <a:cubicBezTo>
                  <a:pt x="6543" y="9635"/>
                  <a:pt x="6569" y="9624"/>
                  <a:pt x="6623" y="9624"/>
                </a:cubicBezTo>
              </a:path>
              <a:path w="6574" h="2853">
                <a:moveTo>
                  <a:pt x="7094" y="9203"/>
                </a:moveTo>
                <a:cubicBezTo>
                  <a:pt x="7123" y="9241"/>
                  <a:pt x="7126" y="9282"/>
                  <a:pt x="7144" y="9327"/>
                </a:cubicBezTo>
                <a:cubicBezTo>
                  <a:pt x="7175" y="9404"/>
                  <a:pt x="7188" y="9473"/>
                  <a:pt x="7218" y="9550"/>
                </a:cubicBezTo>
                <a:cubicBezTo>
                  <a:pt x="7245" y="9621"/>
                  <a:pt x="7262" y="9697"/>
                  <a:pt x="7268" y="9773"/>
                </a:cubicBezTo>
                <a:cubicBezTo>
                  <a:pt x="7272" y="9824"/>
                  <a:pt x="7296" y="9823"/>
                  <a:pt x="7268" y="9823"/>
                </a:cubicBezTo>
              </a:path>
              <a:path w="6574" h="2853">
                <a:moveTo>
                  <a:pt x="6970" y="9847"/>
                </a:moveTo>
                <a:cubicBezTo>
                  <a:pt x="7042" y="9777"/>
                  <a:pt x="7111" y="9679"/>
                  <a:pt x="7193" y="9624"/>
                </a:cubicBezTo>
                <a:cubicBezTo>
                  <a:pt x="7243" y="9590"/>
                  <a:pt x="7296" y="9566"/>
                  <a:pt x="7342" y="9525"/>
                </a:cubicBezTo>
                <a:cubicBezTo>
                  <a:pt x="7367" y="9500"/>
                  <a:pt x="7375" y="9492"/>
                  <a:pt x="7392" y="9475"/>
                </a:cubicBezTo>
                <a:cubicBezTo>
                  <a:pt x="7385" y="9505"/>
                  <a:pt x="7374" y="9520"/>
                  <a:pt x="7367" y="9550"/>
                </a:cubicBezTo>
              </a:path>
              <a:path w="6574" h="2853">
                <a:moveTo>
                  <a:pt x="7615" y="8954"/>
                </a:moveTo>
                <a:cubicBezTo>
                  <a:pt x="7582" y="8971"/>
                  <a:pt x="7617" y="8989"/>
                  <a:pt x="7640" y="9029"/>
                </a:cubicBezTo>
                <a:cubicBezTo>
                  <a:pt x="7689" y="9115"/>
                  <a:pt x="7731" y="9209"/>
                  <a:pt x="7764" y="9302"/>
                </a:cubicBezTo>
                <a:cubicBezTo>
                  <a:pt x="7791" y="9380"/>
                  <a:pt x="7855" y="9470"/>
                  <a:pt x="7863" y="9550"/>
                </a:cubicBezTo>
                <a:cubicBezTo>
                  <a:pt x="7863" y="9578"/>
                  <a:pt x="7865" y="9589"/>
                  <a:pt x="7888" y="9599"/>
                </a:cubicBezTo>
              </a:path>
              <a:path w="6574" h="2853">
                <a:moveTo>
                  <a:pt x="7913" y="8880"/>
                </a:moveTo>
                <a:cubicBezTo>
                  <a:pt x="7939" y="8940"/>
                  <a:pt x="7946" y="8992"/>
                  <a:pt x="7962" y="9054"/>
                </a:cubicBezTo>
                <a:cubicBezTo>
                  <a:pt x="7990" y="9162"/>
                  <a:pt x="8026" y="9307"/>
                  <a:pt x="8086" y="9401"/>
                </a:cubicBezTo>
                <a:cubicBezTo>
                  <a:pt x="8109" y="9438"/>
                  <a:pt x="8149" y="9466"/>
                  <a:pt x="8186" y="9475"/>
                </a:cubicBezTo>
              </a:path>
              <a:path w="6574" h="2853">
                <a:moveTo>
                  <a:pt x="8359" y="8781"/>
                </a:moveTo>
                <a:cubicBezTo>
                  <a:pt x="8330" y="8856"/>
                  <a:pt x="8313" y="8922"/>
                  <a:pt x="8310" y="9004"/>
                </a:cubicBezTo>
                <a:cubicBezTo>
                  <a:pt x="8305" y="9126"/>
                  <a:pt x="8308" y="9263"/>
                  <a:pt x="8359" y="9376"/>
                </a:cubicBezTo>
                <a:cubicBezTo>
                  <a:pt x="8396" y="9457"/>
                  <a:pt x="8419" y="9543"/>
                  <a:pt x="8508" y="9550"/>
                </a:cubicBezTo>
                <a:cubicBezTo>
                  <a:pt x="8557" y="9554"/>
                  <a:pt x="8623" y="9420"/>
                  <a:pt x="8632" y="9376"/>
                </a:cubicBezTo>
                <a:cubicBezTo>
                  <a:pt x="8655" y="9257"/>
                  <a:pt x="8706" y="9145"/>
                  <a:pt x="8657" y="9029"/>
                </a:cubicBezTo>
                <a:cubicBezTo>
                  <a:pt x="8639" y="8986"/>
                  <a:pt x="8599" y="8932"/>
                  <a:pt x="8558" y="8905"/>
                </a:cubicBezTo>
                <a:cubicBezTo>
                  <a:pt x="8513" y="8876"/>
                  <a:pt x="8484" y="8880"/>
                  <a:pt x="8434" y="8880"/>
                </a:cubicBezTo>
              </a:path>
              <a:path w="6574" h="2853">
                <a:moveTo>
                  <a:pt x="8706" y="8706"/>
                </a:moveTo>
                <a:cubicBezTo>
                  <a:pt x="8677" y="8648"/>
                  <a:pt x="8721" y="8661"/>
                  <a:pt x="8756" y="8607"/>
                </a:cubicBezTo>
                <a:cubicBezTo>
                  <a:pt x="8796" y="8546"/>
                  <a:pt x="8840" y="8518"/>
                  <a:pt x="8905" y="8483"/>
                </a:cubicBezTo>
                <a:cubicBezTo>
                  <a:pt x="8969" y="8449"/>
                  <a:pt x="9052" y="8442"/>
                  <a:pt x="9103" y="8508"/>
                </a:cubicBezTo>
                <a:cubicBezTo>
                  <a:pt x="9152" y="8571"/>
                  <a:pt x="9169" y="8679"/>
                  <a:pt x="9153" y="8756"/>
                </a:cubicBezTo>
                <a:cubicBezTo>
                  <a:pt x="9139" y="8825"/>
                  <a:pt x="9117" y="8888"/>
                  <a:pt x="9103" y="8954"/>
                </a:cubicBezTo>
                <a:cubicBezTo>
                  <a:pt x="9141" y="8962"/>
                  <a:pt x="9205" y="8942"/>
                  <a:pt x="9252" y="8905"/>
                </a:cubicBezTo>
                <a:cubicBezTo>
                  <a:pt x="9296" y="8870"/>
                  <a:pt x="9343" y="8834"/>
                  <a:pt x="9401" y="8830"/>
                </a:cubicBezTo>
                <a:cubicBezTo>
                  <a:pt x="9457" y="8826"/>
                  <a:pt x="9484" y="8824"/>
                  <a:pt x="9525" y="8855"/>
                </a:cubicBezTo>
              </a:path>
              <a:path w="6574" h="2853">
                <a:moveTo>
                  <a:pt x="9773" y="9004"/>
                </a:moveTo>
                <a:cubicBezTo>
                  <a:pt x="9817" y="8966"/>
                  <a:pt x="9864" y="8924"/>
                  <a:pt x="9922" y="8905"/>
                </a:cubicBezTo>
                <a:cubicBezTo>
                  <a:pt x="9969" y="8889"/>
                  <a:pt x="10082" y="8903"/>
                  <a:pt x="10120" y="8930"/>
                </a:cubicBezTo>
                <a:cubicBezTo>
                  <a:pt x="10133" y="8939"/>
                  <a:pt x="10072" y="9026"/>
                  <a:pt x="10071" y="9029"/>
                </a:cubicBezTo>
              </a:path>
              <a:path w="6574" h="2853">
                <a:moveTo>
                  <a:pt x="9897" y="9203"/>
                </a:moveTo>
                <a:cubicBezTo>
                  <a:pt x="9973" y="9203"/>
                  <a:pt x="10001" y="9181"/>
                  <a:pt x="10071" y="9153"/>
                </a:cubicBezTo>
                <a:cubicBezTo>
                  <a:pt x="10155" y="9120"/>
                  <a:pt x="10237" y="9126"/>
                  <a:pt x="10319" y="9103"/>
                </a:cubicBezTo>
                <a:cubicBezTo>
                  <a:pt x="10387" y="9084"/>
                  <a:pt x="10443" y="9047"/>
                  <a:pt x="10492" y="9004"/>
                </a:cubicBezTo>
              </a:path>
              <a:path w="6574" h="2853">
                <a:moveTo>
                  <a:pt x="10691" y="8706"/>
                </a:moveTo>
                <a:cubicBezTo>
                  <a:pt x="10679" y="8754"/>
                  <a:pt x="10650" y="8802"/>
                  <a:pt x="10641" y="8855"/>
                </a:cubicBezTo>
                <a:cubicBezTo>
                  <a:pt x="10627" y="8937"/>
                  <a:pt x="10601" y="9019"/>
                  <a:pt x="10592" y="9103"/>
                </a:cubicBezTo>
                <a:cubicBezTo>
                  <a:pt x="10584" y="9174"/>
                  <a:pt x="10603" y="9290"/>
                  <a:pt x="10641" y="9351"/>
                </a:cubicBezTo>
                <a:cubicBezTo>
                  <a:pt x="10673" y="9402"/>
                  <a:pt x="10733" y="9417"/>
                  <a:pt x="10790" y="9401"/>
                </a:cubicBezTo>
                <a:cubicBezTo>
                  <a:pt x="10857" y="9382"/>
                  <a:pt x="10921" y="9343"/>
                  <a:pt x="10988" y="9327"/>
                </a:cubicBezTo>
                <a:cubicBezTo>
                  <a:pt x="11032" y="9316"/>
                  <a:pt x="11024" y="9345"/>
                  <a:pt x="11038" y="9302"/>
                </a:cubicBezTo>
              </a:path>
              <a:path w="6574" h="2853">
                <a:moveTo>
                  <a:pt x="10418" y="9575"/>
                </a:moveTo>
                <a:cubicBezTo>
                  <a:pt x="10359" y="9555"/>
                  <a:pt x="10424" y="9500"/>
                  <a:pt x="10443" y="9451"/>
                </a:cubicBezTo>
                <a:cubicBezTo>
                  <a:pt x="10486" y="9341"/>
                  <a:pt x="10518" y="9224"/>
                  <a:pt x="10592" y="9128"/>
                </a:cubicBezTo>
                <a:cubicBezTo>
                  <a:pt x="10670" y="9026"/>
                  <a:pt x="10760" y="8932"/>
                  <a:pt x="10840" y="8830"/>
                </a:cubicBezTo>
                <a:cubicBezTo>
                  <a:pt x="10898" y="8756"/>
                  <a:pt x="10949" y="8697"/>
                  <a:pt x="11013" y="8632"/>
                </a:cubicBezTo>
              </a:path>
              <a:path w="6574" h="2853">
                <a:moveTo>
                  <a:pt x="11088" y="8582"/>
                </a:moveTo>
                <a:cubicBezTo>
                  <a:pt x="11103" y="8522"/>
                  <a:pt x="11138" y="8519"/>
                  <a:pt x="11187" y="8483"/>
                </a:cubicBezTo>
                <a:cubicBezTo>
                  <a:pt x="11232" y="8449"/>
                  <a:pt x="11249" y="8415"/>
                  <a:pt x="11311" y="8409"/>
                </a:cubicBezTo>
                <a:cubicBezTo>
                  <a:pt x="11343" y="8406"/>
                  <a:pt x="11377" y="8409"/>
                  <a:pt x="11410" y="8409"/>
                </a:cubicBezTo>
                <a:cubicBezTo>
                  <a:pt x="11410" y="8474"/>
                  <a:pt x="11406" y="8498"/>
                  <a:pt x="11385" y="8558"/>
                </a:cubicBezTo>
                <a:cubicBezTo>
                  <a:pt x="11357" y="8636"/>
                  <a:pt x="11324" y="8707"/>
                  <a:pt x="11286" y="8781"/>
                </a:cubicBezTo>
                <a:cubicBezTo>
                  <a:pt x="11262" y="8828"/>
                  <a:pt x="11261" y="8833"/>
                  <a:pt x="11261" y="8880"/>
                </a:cubicBezTo>
                <a:cubicBezTo>
                  <a:pt x="11344" y="8880"/>
                  <a:pt x="11402" y="8869"/>
                  <a:pt x="11485" y="8855"/>
                </a:cubicBezTo>
                <a:cubicBezTo>
                  <a:pt x="11552" y="8844"/>
                  <a:pt x="11604" y="8864"/>
                  <a:pt x="11658" y="8880"/>
                </a:cubicBezTo>
                <a:cubicBezTo>
                  <a:pt x="11666" y="8880"/>
                  <a:pt x="11675" y="8880"/>
                  <a:pt x="11683" y="8880"/>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660760" y="3652920"/>
            <a:ext cx="1903320" cy="2187360"/>
          </a:xfrm>
          <a:custGeom>
            <a:avLst/>
            <a:gdLst/>
            <a:ahLst/>
            <a:rect l="l" t="t" r="r" b="b"/>
            <a:pathLst>
              <a:path w="5284" h="6078">
                <a:moveTo>
                  <a:pt x="7987" y="10220"/>
                </a:moveTo>
                <a:cubicBezTo>
                  <a:pt x="7980" y="10259"/>
                  <a:pt x="7966" y="10276"/>
                  <a:pt x="7962" y="10319"/>
                </a:cubicBezTo>
                <a:cubicBezTo>
                  <a:pt x="7951" y="10434"/>
                  <a:pt x="7946" y="10556"/>
                  <a:pt x="7938" y="10666"/>
                </a:cubicBezTo>
                <a:cubicBezTo>
                  <a:pt x="7925" y="10847"/>
                  <a:pt x="7927" y="11038"/>
                  <a:pt x="7913" y="11212"/>
                </a:cubicBezTo>
                <a:cubicBezTo>
                  <a:pt x="7905" y="11311"/>
                  <a:pt x="7896" y="11417"/>
                  <a:pt x="7888" y="11509"/>
                </a:cubicBezTo>
                <a:cubicBezTo>
                  <a:pt x="7881" y="11597"/>
                  <a:pt x="7865" y="11668"/>
                  <a:pt x="7863" y="11757"/>
                </a:cubicBezTo>
                <a:cubicBezTo>
                  <a:pt x="7861" y="11829"/>
                  <a:pt x="7853" y="11888"/>
                  <a:pt x="7838" y="11956"/>
                </a:cubicBezTo>
                <a:cubicBezTo>
                  <a:pt x="7826" y="12009"/>
                  <a:pt x="7818" y="12053"/>
                  <a:pt x="7813" y="12105"/>
                </a:cubicBezTo>
                <a:cubicBezTo>
                  <a:pt x="7806" y="12172"/>
                  <a:pt x="7802" y="12216"/>
                  <a:pt x="7789" y="12278"/>
                </a:cubicBezTo>
                <a:cubicBezTo>
                  <a:pt x="7775" y="12345"/>
                  <a:pt x="7775" y="12409"/>
                  <a:pt x="7764" y="12477"/>
                </a:cubicBezTo>
                <a:cubicBezTo>
                  <a:pt x="7749" y="12564"/>
                  <a:pt x="7732" y="12661"/>
                  <a:pt x="7714" y="12750"/>
                </a:cubicBezTo>
                <a:cubicBezTo>
                  <a:pt x="7698" y="12825"/>
                  <a:pt x="7701" y="12895"/>
                  <a:pt x="7689" y="12973"/>
                </a:cubicBezTo>
                <a:cubicBezTo>
                  <a:pt x="7677" y="13052"/>
                  <a:pt x="7648" y="13139"/>
                  <a:pt x="7640" y="13221"/>
                </a:cubicBezTo>
                <a:cubicBezTo>
                  <a:pt x="7633" y="13300"/>
                  <a:pt x="7620" y="13366"/>
                  <a:pt x="7615" y="13444"/>
                </a:cubicBezTo>
                <a:cubicBezTo>
                  <a:pt x="7609" y="13532"/>
                  <a:pt x="7596" y="13606"/>
                  <a:pt x="7590" y="13692"/>
                </a:cubicBezTo>
                <a:cubicBezTo>
                  <a:pt x="7585" y="13771"/>
                  <a:pt x="7570" y="13839"/>
                  <a:pt x="7565" y="13915"/>
                </a:cubicBezTo>
                <a:cubicBezTo>
                  <a:pt x="7559" y="14003"/>
                  <a:pt x="7556" y="14078"/>
                  <a:pt x="7541" y="14163"/>
                </a:cubicBezTo>
                <a:cubicBezTo>
                  <a:pt x="7528" y="14239"/>
                  <a:pt x="7527" y="14310"/>
                  <a:pt x="7516" y="14387"/>
                </a:cubicBezTo>
                <a:cubicBezTo>
                  <a:pt x="7500" y="14501"/>
                  <a:pt x="7483" y="14619"/>
                  <a:pt x="7466" y="14734"/>
                </a:cubicBezTo>
                <a:cubicBezTo>
                  <a:pt x="7455" y="14811"/>
                  <a:pt x="7443" y="14879"/>
                  <a:pt x="7441" y="14957"/>
                </a:cubicBezTo>
                <a:cubicBezTo>
                  <a:pt x="7440" y="15008"/>
                  <a:pt x="7419" y="15069"/>
                  <a:pt x="7417" y="15106"/>
                </a:cubicBezTo>
                <a:cubicBezTo>
                  <a:pt x="7402" y="15335"/>
                  <a:pt x="7410" y="15587"/>
                  <a:pt x="7392" y="15801"/>
                </a:cubicBezTo>
                <a:cubicBezTo>
                  <a:pt x="7389" y="15842"/>
                  <a:pt x="7395" y="15884"/>
                  <a:pt x="7392" y="15925"/>
                </a:cubicBezTo>
              </a:path>
              <a:path w="5284" h="6078">
                <a:moveTo>
                  <a:pt x="8037" y="10145"/>
                </a:moveTo>
                <a:cubicBezTo>
                  <a:pt x="8059" y="10175"/>
                  <a:pt x="8037" y="10168"/>
                  <a:pt x="8062" y="10195"/>
                </a:cubicBezTo>
                <a:cubicBezTo>
                  <a:pt x="8100" y="10237"/>
                  <a:pt x="8158" y="10281"/>
                  <a:pt x="8186" y="10319"/>
                </a:cubicBezTo>
                <a:cubicBezTo>
                  <a:pt x="8249" y="10404"/>
                  <a:pt x="8293" y="10509"/>
                  <a:pt x="8359" y="10592"/>
                </a:cubicBezTo>
                <a:cubicBezTo>
                  <a:pt x="8426" y="10677"/>
                  <a:pt x="8520" y="10752"/>
                  <a:pt x="8582" y="10840"/>
                </a:cubicBezTo>
                <a:cubicBezTo>
                  <a:pt x="8662" y="10953"/>
                  <a:pt x="8722" y="11079"/>
                  <a:pt x="8806" y="11187"/>
                </a:cubicBezTo>
                <a:cubicBezTo>
                  <a:pt x="8905" y="11315"/>
                  <a:pt x="8993" y="11426"/>
                  <a:pt x="9079" y="11559"/>
                </a:cubicBezTo>
                <a:cubicBezTo>
                  <a:pt x="9165" y="11691"/>
                  <a:pt x="9250" y="11829"/>
                  <a:pt x="9351" y="11956"/>
                </a:cubicBezTo>
                <a:cubicBezTo>
                  <a:pt x="9454" y="12087"/>
                  <a:pt x="9550" y="12218"/>
                  <a:pt x="9649" y="12353"/>
                </a:cubicBezTo>
                <a:cubicBezTo>
                  <a:pt x="9875" y="12663"/>
                  <a:pt x="10123" y="12962"/>
                  <a:pt x="10344" y="13271"/>
                </a:cubicBezTo>
                <a:cubicBezTo>
                  <a:pt x="10464" y="13440"/>
                  <a:pt x="10588" y="13603"/>
                  <a:pt x="10716" y="13767"/>
                </a:cubicBezTo>
                <a:cubicBezTo>
                  <a:pt x="10806" y="13882"/>
                  <a:pt x="10888" y="14004"/>
                  <a:pt x="10988" y="14114"/>
                </a:cubicBezTo>
                <a:cubicBezTo>
                  <a:pt x="11079" y="14214"/>
                  <a:pt x="11168" y="14314"/>
                  <a:pt x="11261" y="14412"/>
                </a:cubicBezTo>
                <a:cubicBezTo>
                  <a:pt x="11415" y="14575"/>
                  <a:pt x="11574" y="14731"/>
                  <a:pt x="11733" y="14883"/>
                </a:cubicBezTo>
                <a:cubicBezTo>
                  <a:pt x="11832" y="14978"/>
                  <a:pt x="11930" y="15080"/>
                  <a:pt x="12030" y="15180"/>
                </a:cubicBezTo>
                <a:cubicBezTo>
                  <a:pt x="12137" y="15287"/>
                  <a:pt x="12247" y="15406"/>
                  <a:pt x="12353" y="15503"/>
                </a:cubicBezTo>
                <a:cubicBezTo>
                  <a:pt x="12418" y="15563"/>
                  <a:pt x="12492" y="15609"/>
                  <a:pt x="12551" y="15677"/>
                </a:cubicBezTo>
                <a:cubicBezTo>
                  <a:pt x="12596" y="15729"/>
                  <a:pt x="12629" y="15759"/>
                  <a:pt x="12650" y="15825"/>
                </a:cubicBezTo>
                <a:cubicBezTo>
                  <a:pt x="12673" y="15898"/>
                  <a:pt x="12691" y="15925"/>
                  <a:pt x="12650" y="15999"/>
                </a:cubicBezTo>
                <a:cubicBezTo>
                  <a:pt x="12628" y="16039"/>
                  <a:pt x="12584" y="16051"/>
                  <a:pt x="12551" y="16073"/>
                </a:cubicBezTo>
                <a:cubicBezTo>
                  <a:pt x="12483" y="16118"/>
                  <a:pt x="12405" y="16131"/>
                  <a:pt x="12328" y="16148"/>
                </a:cubicBezTo>
                <a:cubicBezTo>
                  <a:pt x="12237" y="16168"/>
                  <a:pt x="12148" y="16163"/>
                  <a:pt x="12055" y="16173"/>
                </a:cubicBezTo>
                <a:cubicBezTo>
                  <a:pt x="11938" y="16185"/>
                  <a:pt x="11828" y="16196"/>
                  <a:pt x="11708" y="16197"/>
                </a:cubicBezTo>
                <a:cubicBezTo>
                  <a:pt x="11316" y="16201"/>
                  <a:pt x="10904" y="16243"/>
                  <a:pt x="10517" y="16222"/>
                </a:cubicBezTo>
                <a:cubicBezTo>
                  <a:pt x="10384" y="16215"/>
                  <a:pt x="10253" y="16207"/>
                  <a:pt x="10120" y="16197"/>
                </a:cubicBezTo>
                <a:cubicBezTo>
                  <a:pt x="9949" y="16184"/>
                  <a:pt x="9769" y="16175"/>
                  <a:pt x="9599" y="16148"/>
                </a:cubicBezTo>
                <a:cubicBezTo>
                  <a:pt x="9466" y="16127"/>
                  <a:pt x="9336" y="16092"/>
                  <a:pt x="9203" y="16073"/>
                </a:cubicBezTo>
                <a:cubicBezTo>
                  <a:pt x="9080" y="16056"/>
                  <a:pt x="8952" y="16040"/>
                  <a:pt x="8830" y="16024"/>
                </a:cubicBezTo>
                <a:cubicBezTo>
                  <a:pt x="8680" y="16004"/>
                  <a:pt x="8533" y="15973"/>
                  <a:pt x="8384" y="15949"/>
                </a:cubicBezTo>
                <a:cubicBezTo>
                  <a:pt x="8251" y="15927"/>
                  <a:pt x="8120" y="15916"/>
                  <a:pt x="7987" y="15900"/>
                </a:cubicBezTo>
                <a:cubicBezTo>
                  <a:pt x="7895" y="15889"/>
                  <a:pt x="7806" y="15886"/>
                  <a:pt x="7714" y="15875"/>
                </a:cubicBezTo>
                <a:cubicBezTo>
                  <a:pt x="7643" y="15867"/>
                  <a:pt x="7563" y="15864"/>
                  <a:pt x="7491" y="15850"/>
                </a:cubicBezTo>
                <a:cubicBezTo>
                  <a:pt x="7459" y="15844"/>
                  <a:pt x="7450" y="15830"/>
                  <a:pt x="7417" y="1582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31840" y="4581360"/>
            <a:ext cx="1590480" cy="776520"/>
          </a:xfrm>
          <a:custGeom>
            <a:avLst/>
            <a:gdLst/>
            <a:ahLst/>
            <a:rect l="l" t="t" r="r" b="b"/>
            <a:pathLst>
              <a:path w="4416" h="2159">
                <a:moveTo>
                  <a:pt x="1017" y="12725"/>
                </a:moveTo>
                <a:cubicBezTo>
                  <a:pt x="995" y="12828"/>
                  <a:pt x="987" y="12922"/>
                  <a:pt x="967" y="13022"/>
                </a:cubicBezTo>
                <a:cubicBezTo>
                  <a:pt x="945" y="13129"/>
                  <a:pt x="921" y="13235"/>
                  <a:pt x="918" y="13345"/>
                </a:cubicBezTo>
                <a:cubicBezTo>
                  <a:pt x="915" y="13441"/>
                  <a:pt x="893" y="13523"/>
                  <a:pt x="893" y="13618"/>
                </a:cubicBezTo>
                <a:cubicBezTo>
                  <a:pt x="893" y="13632"/>
                  <a:pt x="893" y="13797"/>
                  <a:pt x="893" y="13667"/>
                </a:cubicBezTo>
                <a:cubicBezTo>
                  <a:pt x="893" y="13659"/>
                  <a:pt x="893" y="13651"/>
                  <a:pt x="893" y="13643"/>
                </a:cubicBezTo>
              </a:path>
              <a:path w="4416" h="2159">
                <a:moveTo>
                  <a:pt x="645" y="13221"/>
                </a:moveTo>
                <a:cubicBezTo>
                  <a:pt x="794" y="13221"/>
                  <a:pt x="942" y="13221"/>
                  <a:pt x="1091" y="13221"/>
                </a:cubicBezTo>
              </a:path>
              <a:path w="4416" h="2159">
                <a:moveTo>
                  <a:pt x="1637" y="13419"/>
                </a:moveTo>
                <a:cubicBezTo>
                  <a:pt x="1637" y="13427"/>
                  <a:pt x="1637" y="13436"/>
                  <a:pt x="1637" y="13444"/>
                </a:cubicBezTo>
                <a:cubicBezTo>
                  <a:pt x="1637" y="13503"/>
                  <a:pt x="1615" y="13383"/>
                  <a:pt x="1612" y="13370"/>
                </a:cubicBezTo>
                <a:cubicBezTo>
                  <a:pt x="1601" y="13325"/>
                  <a:pt x="1572" y="13283"/>
                  <a:pt x="1538" y="13246"/>
                </a:cubicBezTo>
                <a:cubicBezTo>
                  <a:pt x="1497" y="13201"/>
                  <a:pt x="1463" y="13223"/>
                  <a:pt x="1414" y="13246"/>
                </a:cubicBezTo>
                <a:cubicBezTo>
                  <a:pt x="1347" y="13278"/>
                  <a:pt x="1301" y="13354"/>
                  <a:pt x="1265" y="13419"/>
                </a:cubicBezTo>
                <a:cubicBezTo>
                  <a:pt x="1225" y="13492"/>
                  <a:pt x="1215" y="13536"/>
                  <a:pt x="1215" y="13618"/>
                </a:cubicBezTo>
                <a:cubicBezTo>
                  <a:pt x="1215" y="13660"/>
                  <a:pt x="1251" y="13688"/>
                  <a:pt x="1290" y="13692"/>
                </a:cubicBezTo>
                <a:cubicBezTo>
                  <a:pt x="1359" y="13700"/>
                  <a:pt x="1449" y="13618"/>
                  <a:pt x="1488" y="13568"/>
                </a:cubicBezTo>
                <a:cubicBezTo>
                  <a:pt x="1520" y="13527"/>
                  <a:pt x="1558" y="13470"/>
                  <a:pt x="1563" y="13419"/>
                </a:cubicBezTo>
                <a:cubicBezTo>
                  <a:pt x="1563" y="13411"/>
                  <a:pt x="1563" y="13403"/>
                  <a:pt x="1563" y="13395"/>
                </a:cubicBezTo>
                <a:cubicBezTo>
                  <a:pt x="1563" y="13450"/>
                  <a:pt x="1541" y="13488"/>
                  <a:pt x="1538" y="13543"/>
                </a:cubicBezTo>
                <a:cubicBezTo>
                  <a:pt x="1537" y="13570"/>
                  <a:pt x="1540" y="13682"/>
                  <a:pt x="1563" y="13692"/>
                </a:cubicBezTo>
                <a:cubicBezTo>
                  <a:pt x="1625" y="13720"/>
                  <a:pt x="1642" y="13711"/>
                  <a:pt x="1687" y="13667"/>
                </a:cubicBezTo>
                <a:cubicBezTo>
                  <a:pt x="1695" y="13659"/>
                  <a:pt x="1704" y="13651"/>
                  <a:pt x="1712" y="13643"/>
                </a:cubicBezTo>
              </a:path>
              <a:path w="4416" h="2159">
                <a:moveTo>
                  <a:pt x="1786" y="13419"/>
                </a:moveTo>
                <a:cubicBezTo>
                  <a:pt x="1786" y="13518"/>
                  <a:pt x="1786" y="13766"/>
                  <a:pt x="1786" y="13667"/>
                </a:cubicBezTo>
                <a:cubicBezTo>
                  <a:pt x="1786" y="13604"/>
                  <a:pt x="1808" y="13577"/>
                  <a:pt x="1811" y="13519"/>
                </a:cubicBezTo>
                <a:cubicBezTo>
                  <a:pt x="1815" y="13451"/>
                  <a:pt x="1845" y="13378"/>
                  <a:pt x="1885" y="13320"/>
                </a:cubicBezTo>
                <a:cubicBezTo>
                  <a:pt x="1922" y="13267"/>
                  <a:pt x="1983" y="13257"/>
                  <a:pt x="2034" y="13295"/>
                </a:cubicBezTo>
                <a:cubicBezTo>
                  <a:pt x="2096" y="13342"/>
                  <a:pt x="2143" y="13443"/>
                  <a:pt x="2158" y="13519"/>
                </a:cubicBezTo>
                <a:cubicBezTo>
                  <a:pt x="2171" y="13588"/>
                  <a:pt x="2158" y="13670"/>
                  <a:pt x="2158" y="13742"/>
                </a:cubicBezTo>
              </a:path>
              <a:path w="4416" h="2159">
                <a:moveTo>
                  <a:pt x="2456" y="13221"/>
                </a:moveTo>
                <a:cubicBezTo>
                  <a:pt x="2399" y="13341"/>
                  <a:pt x="2338" y="13438"/>
                  <a:pt x="2332" y="13568"/>
                </a:cubicBezTo>
                <a:cubicBezTo>
                  <a:pt x="2329" y="13628"/>
                  <a:pt x="2354" y="13683"/>
                  <a:pt x="2406" y="13717"/>
                </a:cubicBezTo>
                <a:cubicBezTo>
                  <a:pt x="2463" y="13754"/>
                  <a:pt x="2534" y="13746"/>
                  <a:pt x="2580" y="13692"/>
                </a:cubicBezTo>
                <a:cubicBezTo>
                  <a:pt x="2658" y="13601"/>
                  <a:pt x="2654" y="13480"/>
                  <a:pt x="2654" y="13370"/>
                </a:cubicBezTo>
                <a:cubicBezTo>
                  <a:pt x="2654" y="13250"/>
                  <a:pt x="2620" y="13106"/>
                  <a:pt x="2530" y="13022"/>
                </a:cubicBezTo>
                <a:cubicBezTo>
                  <a:pt x="2485" y="12980"/>
                  <a:pt x="2439" y="12973"/>
                  <a:pt x="2381" y="12973"/>
                </a:cubicBezTo>
                <a:cubicBezTo>
                  <a:pt x="2356" y="12973"/>
                  <a:pt x="2348" y="12973"/>
                  <a:pt x="2356" y="12998"/>
                </a:cubicBezTo>
              </a:path>
              <a:path w="4416" h="2159">
                <a:moveTo>
                  <a:pt x="2208" y="13345"/>
                </a:moveTo>
                <a:cubicBezTo>
                  <a:pt x="2339" y="13370"/>
                  <a:pt x="2448" y="13395"/>
                  <a:pt x="2580" y="13395"/>
                </a:cubicBezTo>
                <a:cubicBezTo>
                  <a:pt x="2631" y="13395"/>
                  <a:pt x="2650" y="13394"/>
                  <a:pt x="2679" y="13370"/>
                </a:cubicBezTo>
              </a:path>
              <a:path w="4416" h="2159">
                <a:moveTo>
                  <a:pt x="3001" y="13320"/>
                </a:moveTo>
                <a:cubicBezTo>
                  <a:pt x="3093" y="13320"/>
                  <a:pt x="3134" y="13305"/>
                  <a:pt x="3200" y="13345"/>
                </a:cubicBezTo>
              </a:path>
              <a:path w="4416" h="2159">
                <a:moveTo>
                  <a:pt x="3001" y="13519"/>
                </a:moveTo>
                <a:cubicBezTo>
                  <a:pt x="3064" y="13581"/>
                  <a:pt x="3105" y="13593"/>
                  <a:pt x="3200" y="13593"/>
                </a:cubicBezTo>
                <a:cubicBezTo>
                  <a:pt x="3254" y="13593"/>
                  <a:pt x="3236" y="13581"/>
                  <a:pt x="3274" y="13568"/>
                </a:cubicBezTo>
              </a:path>
              <a:path w="4416" h="2159">
                <a:moveTo>
                  <a:pt x="4093" y="13072"/>
                </a:moveTo>
                <a:cubicBezTo>
                  <a:pt x="4057" y="13017"/>
                  <a:pt x="4026" y="12982"/>
                  <a:pt x="3944" y="12998"/>
                </a:cubicBezTo>
                <a:cubicBezTo>
                  <a:pt x="3859" y="13014"/>
                  <a:pt x="3822" y="13033"/>
                  <a:pt x="3770" y="13097"/>
                </a:cubicBezTo>
                <a:cubicBezTo>
                  <a:pt x="3721" y="13157"/>
                  <a:pt x="3767" y="13229"/>
                  <a:pt x="3795" y="13295"/>
                </a:cubicBezTo>
                <a:cubicBezTo>
                  <a:pt x="3836" y="13390"/>
                  <a:pt x="3901" y="13473"/>
                  <a:pt x="3944" y="13568"/>
                </a:cubicBezTo>
                <a:cubicBezTo>
                  <a:pt x="3961" y="13605"/>
                  <a:pt x="4030" y="13739"/>
                  <a:pt x="3969" y="13767"/>
                </a:cubicBezTo>
                <a:cubicBezTo>
                  <a:pt x="3931" y="13784"/>
                  <a:pt x="3850" y="13762"/>
                  <a:pt x="3820" y="13742"/>
                </a:cubicBezTo>
                <a:cubicBezTo>
                  <a:pt x="3787" y="13720"/>
                  <a:pt x="3729" y="13634"/>
                  <a:pt x="3746" y="13593"/>
                </a:cubicBezTo>
                <a:cubicBezTo>
                  <a:pt x="3789" y="13487"/>
                  <a:pt x="3840" y="13480"/>
                  <a:pt x="3919" y="13419"/>
                </a:cubicBezTo>
                <a:cubicBezTo>
                  <a:pt x="3989" y="13365"/>
                  <a:pt x="4054" y="13309"/>
                  <a:pt x="4118" y="13246"/>
                </a:cubicBezTo>
              </a:path>
              <a:path w="4416" h="2159">
                <a:moveTo>
                  <a:pt x="4366" y="13072"/>
                </a:moveTo>
                <a:cubicBezTo>
                  <a:pt x="4495" y="13092"/>
                  <a:pt x="4529" y="13105"/>
                  <a:pt x="4638" y="13072"/>
                </a:cubicBezTo>
                <a:cubicBezTo>
                  <a:pt x="4663" y="13064"/>
                  <a:pt x="4688" y="13055"/>
                  <a:pt x="4713" y="13047"/>
                </a:cubicBezTo>
              </a:path>
              <a:path w="4416" h="2159">
                <a:moveTo>
                  <a:pt x="4440" y="13097"/>
                </a:moveTo>
                <a:cubicBezTo>
                  <a:pt x="4368" y="13155"/>
                  <a:pt x="4276" y="13197"/>
                  <a:pt x="4266" y="13295"/>
                </a:cubicBezTo>
                <a:cubicBezTo>
                  <a:pt x="4258" y="13370"/>
                  <a:pt x="4286" y="13350"/>
                  <a:pt x="4341" y="13370"/>
                </a:cubicBezTo>
                <a:cubicBezTo>
                  <a:pt x="4416" y="13397"/>
                  <a:pt x="4487" y="13390"/>
                  <a:pt x="4564" y="13419"/>
                </a:cubicBezTo>
                <a:cubicBezTo>
                  <a:pt x="4636" y="13446"/>
                  <a:pt x="4695" y="13488"/>
                  <a:pt x="4713" y="13568"/>
                </a:cubicBezTo>
                <a:cubicBezTo>
                  <a:pt x="4732" y="13653"/>
                  <a:pt x="4693" y="13748"/>
                  <a:pt x="4614" y="13791"/>
                </a:cubicBezTo>
                <a:cubicBezTo>
                  <a:pt x="4561" y="13820"/>
                  <a:pt x="4454" y="13816"/>
                  <a:pt x="4390" y="13816"/>
                </a:cubicBezTo>
                <a:cubicBezTo>
                  <a:pt x="4305" y="13816"/>
                  <a:pt x="4249" y="13777"/>
                  <a:pt x="4167" y="13767"/>
                </a:cubicBezTo>
              </a:path>
              <a:path w="4416" h="2159">
                <a:moveTo>
                  <a:pt x="3795" y="13866"/>
                </a:moveTo>
                <a:cubicBezTo>
                  <a:pt x="3988" y="13866"/>
                  <a:pt x="4178" y="13861"/>
                  <a:pt x="4366" y="13841"/>
                </a:cubicBezTo>
                <a:cubicBezTo>
                  <a:pt x="4413" y="13836"/>
                  <a:pt x="4466" y="13841"/>
                  <a:pt x="4514" y="13841"/>
                </a:cubicBezTo>
              </a:path>
              <a:path w="4416" h="2159">
                <a:moveTo>
                  <a:pt x="4167" y="14015"/>
                </a:moveTo>
                <a:cubicBezTo>
                  <a:pt x="4084" y="14190"/>
                  <a:pt x="4058" y="14291"/>
                  <a:pt x="4043" y="14486"/>
                </a:cubicBezTo>
                <a:cubicBezTo>
                  <a:pt x="4036" y="14572"/>
                  <a:pt x="4026" y="14689"/>
                  <a:pt x="4068" y="14759"/>
                </a:cubicBezTo>
              </a:path>
              <a:path w="4416" h="2159">
                <a:moveTo>
                  <a:pt x="4366" y="14188"/>
                </a:moveTo>
                <a:cubicBezTo>
                  <a:pt x="4366" y="14320"/>
                  <a:pt x="4346" y="14433"/>
                  <a:pt x="4341" y="14560"/>
                </a:cubicBezTo>
                <a:cubicBezTo>
                  <a:pt x="4338" y="14641"/>
                  <a:pt x="4329" y="14716"/>
                  <a:pt x="4316" y="14784"/>
                </a:cubicBezTo>
                <a:cubicBezTo>
                  <a:pt x="4304" y="14845"/>
                  <a:pt x="4303" y="14859"/>
                  <a:pt x="4341" y="14833"/>
                </a:cubicBezTo>
              </a:path>
              <a:path w="4416" h="2159">
                <a:moveTo>
                  <a:pt x="4688" y="14362"/>
                </a:moveTo>
                <a:cubicBezTo>
                  <a:pt x="4674" y="14488"/>
                  <a:pt x="4635" y="14616"/>
                  <a:pt x="4688" y="14734"/>
                </a:cubicBezTo>
                <a:cubicBezTo>
                  <a:pt x="4720" y="14806"/>
                  <a:pt x="4753" y="14864"/>
                  <a:pt x="4837" y="14883"/>
                </a:cubicBezTo>
                <a:cubicBezTo>
                  <a:pt x="4919" y="14901"/>
                  <a:pt x="4969" y="14835"/>
                  <a:pt x="5011" y="14784"/>
                </a:cubicBezTo>
                <a:cubicBezTo>
                  <a:pt x="5052" y="14734"/>
                  <a:pt x="5079" y="14652"/>
                  <a:pt x="5060" y="14585"/>
                </a:cubicBezTo>
                <a:cubicBezTo>
                  <a:pt x="5032" y="14486"/>
                  <a:pt x="4881" y="14393"/>
                  <a:pt x="4787" y="14362"/>
                </a:cubicBezTo>
                <a:cubicBezTo>
                  <a:pt x="4754" y="14354"/>
                  <a:pt x="4721" y="14345"/>
                  <a:pt x="4688" y="14337"/>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95360" y="4205160"/>
            <a:ext cx="285840" cy="509760"/>
          </a:xfrm>
          <a:custGeom>
            <a:avLst/>
            <a:gdLst/>
            <a:ahLst/>
            <a:rect l="l" t="t" r="r" b="b"/>
            <a:pathLst>
              <a:path w="795" h="1415">
                <a:moveTo>
                  <a:pt x="6499" y="12402"/>
                </a:moveTo>
                <a:cubicBezTo>
                  <a:pt x="6436" y="12418"/>
                  <a:pt x="6418" y="12459"/>
                  <a:pt x="6400" y="12526"/>
                </a:cubicBezTo>
                <a:cubicBezTo>
                  <a:pt x="6389" y="12569"/>
                  <a:pt x="6375" y="12604"/>
                  <a:pt x="6375" y="12650"/>
                </a:cubicBezTo>
                <a:cubicBezTo>
                  <a:pt x="6375" y="12731"/>
                  <a:pt x="6369" y="12737"/>
                  <a:pt x="6424" y="12774"/>
                </a:cubicBezTo>
                <a:cubicBezTo>
                  <a:pt x="6455" y="12795"/>
                  <a:pt x="6508" y="12817"/>
                  <a:pt x="6548" y="12824"/>
                </a:cubicBezTo>
                <a:cubicBezTo>
                  <a:pt x="6604" y="12834"/>
                  <a:pt x="6668" y="12844"/>
                  <a:pt x="6722" y="12849"/>
                </a:cubicBezTo>
                <a:cubicBezTo>
                  <a:pt x="6767" y="12853"/>
                  <a:pt x="6814" y="12870"/>
                  <a:pt x="6846" y="12898"/>
                </a:cubicBezTo>
                <a:cubicBezTo>
                  <a:pt x="6892" y="12939"/>
                  <a:pt x="6905" y="12966"/>
                  <a:pt x="6871" y="13022"/>
                </a:cubicBezTo>
                <a:cubicBezTo>
                  <a:pt x="6848" y="13060"/>
                  <a:pt x="6794" y="13113"/>
                  <a:pt x="6747" y="13097"/>
                </a:cubicBezTo>
                <a:cubicBezTo>
                  <a:pt x="6697" y="13080"/>
                  <a:pt x="6686" y="13046"/>
                  <a:pt x="6672" y="12998"/>
                </a:cubicBezTo>
                <a:cubicBezTo>
                  <a:pt x="6644" y="12903"/>
                  <a:pt x="6626" y="12824"/>
                  <a:pt x="6623" y="12725"/>
                </a:cubicBezTo>
                <a:cubicBezTo>
                  <a:pt x="6619" y="12603"/>
                  <a:pt x="6648" y="12480"/>
                  <a:pt x="6648" y="12353"/>
                </a:cubicBezTo>
                <a:cubicBezTo>
                  <a:pt x="6648" y="12313"/>
                  <a:pt x="6669" y="12227"/>
                  <a:pt x="6623" y="12204"/>
                </a:cubicBezTo>
                <a:cubicBezTo>
                  <a:pt x="6579" y="12182"/>
                  <a:pt x="6531" y="12218"/>
                  <a:pt x="6499" y="12229"/>
                </a:cubicBezTo>
                <a:cubicBezTo>
                  <a:pt x="6471" y="12229"/>
                  <a:pt x="6460" y="12231"/>
                  <a:pt x="6449" y="12254"/>
                </a:cubicBezTo>
              </a:path>
              <a:path w="795" h="1415">
                <a:moveTo>
                  <a:pt x="6772" y="12005"/>
                </a:moveTo>
                <a:cubicBezTo>
                  <a:pt x="6772" y="11997"/>
                  <a:pt x="6772" y="11989"/>
                  <a:pt x="6772" y="11981"/>
                </a:cubicBezTo>
                <a:cubicBezTo>
                  <a:pt x="6815" y="11966"/>
                  <a:pt x="6786" y="11924"/>
                  <a:pt x="6821" y="11881"/>
                </a:cubicBezTo>
                <a:cubicBezTo>
                  <a:pt x="6856" y="11838"/>
                  <a:pt x="6881" y="11807"/>
                  <a:pt x="6896" y="11757"/>
                </a:cubicBezTo>
                <a:cubicBezTo>
                  <a:pt x="6902" y="11737"/>
                  <a:pt x="6921" y="11653"/>
                  <a:pt x="6921" y="11708"/>
                </a:cubicBezTo>
              </a:path>
              <a:path w="795" h="1415">
                <a:moveTo>
                  <a:pt x="6772" y="11956"/>
                </a:moveTo>
                <a:cubicBezTo>
                  <a:pt x="6796" y="11998"/>
                  <a:pt x="6853" y="12039"/>
                  <a:pt x="6871" y="12080"/>
                </a:cubicBezTo>
                <a:cubicBezTo>
                  <a:pt x="6888" y="12119"/>
                  <a:pt x="6885" y="12142"/>
                  <a:pt x="6921" y="12154"/>
                </a:cubicBezTo>
                <a:cubicBezTo>
                  <a:pt x="6928" y="12127"/>
                  <a:pt x="6968" y="12043"/>
                  <a:pt x="6995" y="12030"/>
                </a:cubicBezTo>
                <a:cubicBezTo>
                  <a:pt x="7027" y="12014"/>
                  <a:pt x="7054" y="12005"/>
                  <a:pt x="7094" y="12005"/>
                </a:cubicBezTo>
                <a:cubicBezTo>
                  <a:pt x="7155" y="12005"/>
                  <a:pt x="7165" y="12057"/>
                  <a:pt x="7169" y="12105"/>
                </a:cubicBezTo>
                <a:cubicBezTo>
                  <a:pt x="7174" y="12169"/>
                  <a:pt x="7107" y="12250"/>
                  <a:pt x="7094" y="12303"/>
                </a:cubicBezTo>
                <a:cubicBezTo>
                  <a:pt x="7073" y="12392"/>
                  <a:pt x="7062" y="12391"/>
                  <a:pt x="6995" y="12452"/>
                </a:cubicBezTo>
                <a:cubicBezTo>
                  <a:pt x="6965" y="12479"/>
                  <a:pt x="6954" y="12491"/>
                  <a:pt x="6945" y="1252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946680" y="3768840"/>
            <a:ext cx="527040" cy="561960"/>
          </a:xfrm>
          <a:custGeom>
            <a:avLst/>
            <a:gdLst/>
            <a:ahLst/>
            <a:rect l="l" t="t" r="r" b="b"/>
            <a:pathLst>
              <a:path w="1464" h="1563">
                <a:moveTo>
                  <a:pt x="10964" y="11931"/>
                </a:moveTo>
                <a:cubicBezTo>
                  <a:pt x="10984" y="11903"/>
                  <a:pt x="11024" y="11864"/>
                  <a:pt x="11038" y="11832"/>
                </a:cubicBezTo>
                <a:cubicBezTo>
                  <a:pt x="11056" y="11791"/>
                  <a:pt x="11088" y="11732"/>
                  <a:pt x="11137" y="11708"/>
                </a:cubicBezTo>
                <a:cubicBezTo>
                  <a:pt x="11145" y="11708"/>
                  <a:pt x="11154" y="11708"/>
                  <a:pt x="11162" y="11708"/>
                </a:cubicBezTo>
                <a:cubicBezTo>
                  <a:pt x="11175" y="11656"/>
                  <a:pt x="11168" y="11661"/>
                  <a:pt x="11212" y="11683"/>
                </a:cubicBezTo>
                <a:cubicBezTo>
                  <a:pt x="11184" y="11711"/>
                  <a:pt x="11175" y="11724"/>
                  <a:pt x="11187" y="11757"/>
                </a:cubicBezTo>
              </a:path>
              <a:path w="1464" h="1563">
                <a:moveTo>
                  <a:pt x="11112" y="12030"/>
                </a:moveTo>
                <a:cubicBezTo>
                  <a:pt x="11162" y="11981"/>
                  <a:pt x="11191" y="11930"/>
                  <a:pt x="11237" y="11881"/>
                </a:cubicBezTo>
                <a:cubicBezTo>
                  <a:pt x="11291" y="11823"/>
                  <a:pt x="11328" y="11784"/>
                  <a:pt x="11385" y="11733"/>
                </a:cubicBezTo>
                <a:cubicBezTo>
                  <a:pt x="11408" y="11710"/>
                  <a:pt x="11416" y="11706"/>
                  <a:pt x="11410" y="11683"/>
                </a:cubicBezTo>
              </a:path>
              <a:path w="1464" h="1563">
                <a:moveTo>
                  <a:pt x="11311" y="11063"/>
                </a:moveTo>
                <a:cubicBezTo>
                  <a:pt x="11326" y="11122"/>
                  <a:pt x="11379" y="11178"/>
                  <a:pt x="11410" y="11237"/>
                </a:cubicBezTo>
                <a:cubicBezTo>
                  <a:pt x="11452" y="11316"/>
                  <a:pt x="11488" y="11387"/>
                  <a:pt x="11534" y="11460"/>
                </a:cubicBezTo>
                <a:cubicBezTo>
                  <a:pt x="11565" y="11509"/>
                  <a:pt x="11603" y="11577"/>
                  <a:pt x="11609" y="11633"/>
                </a:cubicBezTo>
                <a:cubicBezTo>
                  <a:pt x="11615" y="11697"/>
                  <a:pt x="11609" y="11619"/>
                  <a:pt x="11609" y="11609"/>
                </a:cubicBezTo>
              </a:path>
              <a:path w="1464" h="1563">
                <a:moveTo>
                  <a:pt x="11460" y="11013"/>
                </a:moveTo>
                <a:cubicBezTo>
                  <a:pt x="11499" y="10940"/>
                  <a:pt x="11543" y="10883"/>
                  <a:pt x="11584" y="10815"/>
                </a:cubicBezTo>
                <a:cubicBezTo>
                  <a:pt x="11629" y="10740"/>
                  <a:pt x="11641" y="10756"/>
                  <a:pt x="11708" y="10716"/>
                </a:cubicBezTo>
                <a:cubicBezTo>
                  <a:pt x="11730" y="10694"/>
                  <a:pt x="11735" y="10685"/>
                  <a:pt x="11757" y="10691"/>
                </a:cubicBezTo>
                <a:cubicBezTo>
                  <a:pt x="11800" y="10748"/>
                  <a:pt x="11785" y="10797"/>
                  <a:pt x="11757" y="10864"/>
                </a:cubicBezTo>
                <a:cubicBezTo>
                  <a:pt x="11735" y="10917"/>
                  <a:pt x="11696" y="10963"/>
                  <a:pt x="11683" y="11013"/>
                </a:cubicBezTo>
                <a:cubicBezTo>
                  <a:pt x="11736" y="10981"/>
                  <a:pt x="11792" y="10946"/>
                  <a:pt x="11857" y="10939"/>
                </a:cubicBezTo>
                <a:cubicBezTo>
                  <a:pt x="11914" y="10933"/>
                  <a:pt x="11964" y="10976"/>
                  <a:pt x="12005" y="11013"/>
                </a:cubicBezTo>
                <a:cubicBezTo>
                  <a:pt x="12041" y="11046"/>
                  <a:pt x="12040" y="11115"/>
                  <a:pt x="12030" y="11162"/>
                </a:cubicBezTo>
                <a:cubicBezTo>
                  <a:pt x="12011" y="11249"/>
                  <a:pt x="11959" y="11340"/>
                  <a:pt x="11906" y="11410"/>
                </a:cubicBezTo>
                <a:cubicBezTo>
                  <a:pt x="11868" y="11460"/>
                  <a:pt x="11854" y="11470"/>
                  <a:pt x="11807" y="11435"/>
                </a:cubicBezTo>
              </a:path>
              <a:path w="1464" h="1563">
                <a:moveTo>
                  <a:pt x="12129" y="10492"/>
                </a:moveTo>
                <a:cubicBezTo>
                  <a:pt x="12136" y="10512"/>
                  <a:pt x="12085" y="10579"/>
                  <a:pt x="12080" y="10641"/>
                </a:cubicBezTo>
                <a:cubicBezTo>
                  <a:pt x="12075" y="10704"/>
                  <a:pt x="12054" y="10726"/>
                  <a:pt x="12080" y="10790"/>
                </a:cubicBezTo>
                <a:cubicBezTo>
                  <a:pt x="12105" y="10852"/>
                  <a:pt x="12094" y="10864"/>
                  <a:pt x="12154" y="10864"/>
                </a:cubicBezTo>
                <a:cubicBezTo>
                  <a:pt x="12198" y="10864"/>
                  <a:pt x="12210" y="10823"/>
                  <a:pt x="12229" y="10790"/>
                </a:cubicBezTo>
                <a:cubicBezTo>
                  <a:pt x="12262" y="10732"/>
                  <a:pt x="12254" y="10680"/>
                  <a:pt x="12254" y="10616"/>
                </a:cubicBezTo>
                <a:cubicBezTo>
                  <a:pt x="12254" y="10605"/>
                  <a:pt x="12232" y="10495"/>
                  <a:pt x="12229" y="10492"/>
                </a:cubicBezTo>
                <a:cubicBezTo>
                  <a:pt x="12221" y="10492"/>
                  <a:pt x="12212" y="10492"/>
                  <a:pt x="12204" y="10492"/>
                </a:cubicBezTo>
                <a:cubicBezTo>
                  <a:pt x="12204" y="10440"/>
                  <a:pt x="12222" y="10546"/>
                  <a:pt x="12229" y="10567"/>
                </a:cubicBezTo>
                <a:cubicBezTo>
                  <a:pt x="12259" y="10661"/>
                  <a:pt x="12285" y="10750"/>
                  <a:pt x="12328" y="10840"/>
                </a:cubicBezTo>
                <a:cubicBezTo>
                  <a:pt x="12350" y="10887"/>
                  <a:pt x="12397" y="10940"/>
                  <a:pt x="12402" y="10988"/>
                </a:cubicBezTo>
                <a:cubicBezTo>
                  <a:pt x="12407" y="11033"/>
                  <a:pt x="12418" y="11016"/>
                  <a:pt x="12427" y="1098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16680" y="4010040"/>
            <a:ext cx="590400" cy="438120"/>
          </a:xfrm>
          <a:custGeom>
            <a:avLst/>
            <a:gdLst/>
            <a:ahLst/>
            <a:rect l="l" t="t" r="r" b="b"/>
            <a:pathLst>
              <a:path w="1638" h="1217">
                <a:moveTo>
                  <a:pt x="14213" y="11559"/>
                </a:moveTo>
                <a:cubicBezTo>
                  <a:pt x="14213" y="11639"/>
                  <a:pt x="14226" y="11708"/>
                  <a:pt x="14238" y="11782"/>
                </a:cubicBezTo>
                <a:cubicBezTo>
                  <a:pt x="14253" y="11878"/>
                  <a:pt x="14234" y="11960"/>
                  <a:pt x="14263" y="12055"/>
                </a:cubicBezTo>
                <a:cubicBezTo>
                  <a:pt x="14286" y="12132"/>
                  <a:pt x="14280" y="12233"/>
                  <a:pt x="14312" y="12303"/>
                </a:cubicBezTo>
                <a:cubicBezTo>
                  <a:pt x="14335" y="12326"/>
                  <a:pt x="14343" y="12330"/>
                  <a:pt x="14337" y="12353"/>
                </a:cubicBezTo>
              </a:path>
              <a:path w="1638" h="1217">
                <a:moveTo>
                  <a:pt x="14684" y="11435"/>
                </a:moveTo>
                <a:cubicBezTo>
                  <a:pt x="14741" y="11401"/>
                  <a:pt x="14791" y="11365"/>
                  <a:pt x="14858" y="11361"/>
                </a:cubicBezTo>
                <a:cubicBezTo>
                  <a:pt x="14890" y="11359"/>
                  <a:pt x="14924" y="11361"/>
                  <a:pt x="14957" y="11361"/>
                </a:cubicBezTo>
                <a:cubicBezTo>
                  <a:pt x="14946" y="11405"/>
                  <a:pt x="14930" y="11444"/>
                  <a:pt x="14908" y="11485"/>
                </a:cubicBezTo>
                <a:cubicBezTo>
                  <a:pt x="14884" y="11530"/>
                  <a:pt x="14828" y="11566"/>
                  <a:pt x="14808" y="11609"/>
                </a:cubicBezTo>
                <a:cubicBezTo>
                  <a:pt x="14808" y="11617"/>
                  <a:pt x="14808" y="11625"/>
                  <a:pt x="14808" y="11633"/>
                </a:cubicBezTo>
                <a:cubicBezTo>
                  <a:pt x="14897" y="11633"/>
                  <a:pt x="14973" y="11643"/>
                  <a:pt x="15056" y="11658"/>
                </a:cubicBezTo>
                <a:cubicBezTo>
                  <a:pt x="15128" y="11671"/>
                  <a:pt x="15152" y="11681"/>
                  <a:pt x="15205" y="11733"/>
                </a:cubicBezTo>
                <a:cubicBezTo>
                  <a:pt x="15238" y="11765"/>
                  <a:pt x="15230" y="11787"/>
                  <a:pt x="15230" y="11832"/>
                </a:cubicBezTo>
                <a:cubicBezTo>
                  <a:pt x="15230" y="11933"/>
                  <a:pt x="15150" y="12039"/>
                  <a:pt x="15081" y="12105"/>
                </a:cubicBezTo>
                <a:cubicBezTo>
                  <a:pt x="15057" y="12128"/>
                  <a:pt x="14998" y="12202"/>
                  <a:pt x="14957" y="12179"/>
                </a:cubicBezTo>
                <a:cubicBezTo>
                  <a:pt x="14949" y="12171"/>
                  <a:pt x="14940" y="12162"/>
                  <a:pt x="14932" y="12154"/>
                </a:cubicBezTo>
              </a:path>
              <a:path w="1638" h="1217">
                <a:moveTo>
                  <a:pt x="15627" y="11137"/>
                </a:moveTo>
                <a:cubicBezTo>
                  <a:pt x="15586" y="11168"/>
                  <a:pt x="15556" y="11187"/>
                  <a:pt x="15528" y="11237"/>
                </a:cubicBezTo>
                <a:cubicBezTo>
                  <a:pt x="15473" y="11334"/>
                  <a:pt x="15478" y="11381"/>
                  <a:pt x="15478" y="11485"/>
                </a:cubicBezTo>
                <a:cubicBezTo>
                  <a:pt x="15478" y="11543"/>
                  <a:pt x="15489" y="11602"/>
                  <a:pt x="15553" y="11609"/>
                </a:cubicBezTo>
                <a:cubicBezTo>
                  <a:pt x="15620" y="11617"/>
                  <a:pt x="15592" y="11586"/>
                  <a:pt x="15627" y="11534"/>
                </a:cubicBezTo>
                <a:cubicBezTo>
                  <a:pt x="15668" y="11473"/>
                  <a:pt x="15697" y="11410"/>
                  <a:pt x="15701" y="11336"/>
                </a:cubicBezTo>
                <a:cubicBezTo>
                  <a:pt x="15705" y="11264"/>
                  <a:pt x="15693" y="11227"/>
                  <a:pt x="15677" y="11162"/>
                </a:cubicBezTo>
                <a:cubicBezTo>
                  <a:pt x="15677" y="11137"/>
                  <a:pt x="15677" y="11129"/>
                  <a:pt x="15652" y="11137"/>
                </a:cubicBezTo>
                <a:cubicBezTo>
                  <a:pt x="15652" y="11204"/>
                  <a:pt x="15663" y="11272"/>
                  <a:pt x="15677" y="11336"/>
                </a:cubicBezTo>
                <a:cubicBezTo>
                  <a:pt x="15699" y="11436"/>
                  <a:pt x="15729" y="11536"/>
                  <a:pt x="15751" y="11633"/>
                </a:cubicBezTo>
                <a:cubicBezTo>
                  <a:pt x="15772" y="11729"/>
                  <a:pt x="15800" y="11839"/>
                  <a:pt x="15825" y="11931"/>
                </a:cubicBezTo>
                <a:cubicBezTo>
                  <a:pt x="15848" y="12015"/>
                  <a:pt x="15850" y="12088"/>
                  <a:pt x="15850" y="12179"/>
                </a:cubicBezTo>
                <a:cubicBezTo>
                  <a:pt x="15850" y="12239"/>
                  <a:pt x="15831" y="12413"/>
                  <a:pt x="15825" y="12353"/>
                </a:cubicBezTo>
                <a:cubicBezTo>
                  <a:pt x="15825" y="12328"/>
                  <a:pt x="15825" y="12303"/>
                  <a:pt x="15825" y="1227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045120" y="3330720"/>
            <a:ext cx="1474920" cy="982440"/>
          </a:xfrm>
          <a:custGeom>
            <a:avLst/>
            <a:gdLst/>
            <a:ahLst/>
            <a:rect l="l" t="t" r="r" b="b"/>
            <a:pathLst>
              <a:path w="4094" h="2730">
                <a:moveTo>
                  <a:pt x="17090" y="10220"/>
                </a:moveTo>
                <a:cubicBezTo>
                  <a:pt x="17238" y="10220"/>
                  <a:pt x="17405" y="10202"/>
                  <a:pt x="17537" y="10244"/>
                </a:cubicBezTo>
                <a:cubicBezTo>
                  <a:pt x="17545" y="10244"/>
                  <a:pt x="17554" y="10244"/>
                  <a:pt x="17562" y="10244"/>
                </a:cubicBezTo>
              </a:path>
              <a:path w="4094" h="2730">
                <a:moveTo>
                  <a:pt x="17190" y="10443"/>
                </a:moveTo>
                <a:cubicBezTo>
                  <a:pt x="17289" y="10443"/>
                  <a:pt x="17371" y="10452"/>
                  <a:pt x="17462" y="10468"/>
                </a:cubicBezTo>
                <a:cubicBezTo>
                  <a:pt x="17519" y="10478"/>
                  <a:pt x="17731" y="10468"/>
                  <a:pt x="17711" y="10468"/>
                </a:cubicBezTo>
                <a:cubicBezTo>
                  <a:pt x="17703" y="10468"/>
                  <a:pt x="17694" y="10468"/>
                  <a:pt x="17686" y="10468"/>
                </a:cubicBezTo>
              </a:path>
              <a:path w="4094" h="2730">
                <a:moveTo>
                  <a:pt x="18579" y="9525"/>
                </a:moveTo>
                <a:cubicBezTo>
                  <a:pt x="18545" y="9578"/>
                  <a:pt x="18510" y="9652"/>
                  <a:pt x="18479" y="9699"/>
                </a:cubicBezTo>
                <a:cubicBezTo>
                  <a:pt x="18451" y="9741"/>
                  <a:pt x="18442" y="9755"/>
                  <a:pt x="18479" y="9798"/>
                </a:cubicBezTo>
                <a:cubicBezTo>
                  <a:pt x="18510" y="9833"/>
                  <a:pt x="18542" y="9851"/>
                  <a:pt x="18579" y="9872"/>
                </a:cubicBezTo>
                <a:cubicBezTo>
                  <a:pt x="18645" y="9910"/>
                  <a:pt x="18686" y="9927"/>
                  <a:pt x="18752" y="9971"/>
                </a:cubicBezTo>
                <a:cubicBezTo>
                  <a:pt x="18807" y="10007"/>
                  <a:pt x="18884" y="10018"/>
                  <a:pt x="18926" y="10071"/>
                </a:cubicBezTo>
                <a:cubicBezTo>
                  <a:pt x="18995" y="10158"/>
                  <a:pt x="19001" y="10159"/>
                  <a:pt x="18976" y="10244"/>
                </a:cubicBezTo>
                <a:cubicBezTo>
                  <a:pt x="18953" y="10324"/>
                  <a:pt x="18939" y="10320"/>
                  <a:pt x="18876" y="10368"/>
                </a:cubicBezTo>
                <a:cubicBezTo>
                  <a:pt x="18822" y="10409"/>
                  <a:pt x="18797" y="10418"/>
                  <a:pt x="18728" y="10418"/>
                </a:cubicBezTo>
                <a:cubicBezTo>
                  <a:pt x="18696" y="10418"/>
                  <a:pt x="18683" y="10401"/>
                  <a:pt x="18653" y="10393"/>
                </a:cubicBezTo>
              </a:path>
              <a:path w="4094" h="2730">
                <a:moveTo>
                  <a:pt x="19199" y="9922"/>
                </a:moveTo>
                <a:cubicBezTo>
                  <a:pt x="19238" y="9989"/>
                  <a:pt x="19243" y="10022"/>
                  <a:pt x="19273" y="10096"/>
                </a:cubicBezTo>
                <a:cubicBezTo>
                  <a:pt x="19294" y="10148"/>
                  <a:pt x="19291" y="10204"/>
                  <a:pt x="19323" y="10244"/>
                </a:cubicBezTo>
                <a:cubicBezTo>
                  <a:pt x="19331" y="10252"/>
                  <a:pt x="19340" y="10261"/>
                  <a:pt x="19348" y="10269"/>
                </a:cubicBezTo>
              </a:path>
              <a:path w="4094" h="2730">
                <a:moveTo>
                  <a:pt x="19199" y="9773"/>
                </a:moveTo>
                <a:lnTo>
                  <a:pt x="19199" y="9773"/>
                </a:lnTo>
              </a:path>
              <a:path w="4094" h="2730">
                <a:moveTo>
                  <a:pt x="19348" y="9798"/>
                </a:moveTo>
                <a:cubicBezTo>
                  <a:pt x="19368" y="9847"/>
                  <a:pt x="19378" y="9900"/>
                  <a:pt x="19397" y="9947"/>
                </a:cubicBezTo>
                <a:cubicBezTo>
                  <a:pt x="19419" y="10000"/>
                  <a:pt x="19462" y="10046"/>
                  <a:pt x="19472" y="10096"/>
                </a:cubicBezTo>
                <a:cubicBezTo>
                  <a:pt x="19475" y="10109"/>
                  <a:pt x="19496" y="10234"/>
                  <a:pt x="19496" y="10170"/>
                </a:cubicBezTo>
                <a:cubicBezTo>
                  <a:pt x="19496" y="10123"/>
                  <a:pt x="19521" y="10080"/>
                  <a:pt x="19521" y="10021"/>
                </a:cubicBezTo>
                <a:cubicBezTo>
                  <a:pt x="19521" y="9983"/>
                  <a:pt x="19541" y="9895"/>
                  <a:pt x="19571" y="9872"/>
                </a:cubicBezTo>
                <a:cubicBezTo>
                  <a:pt x="19594" y="9855"/>
                  <a:pt x="19660" y="9804"/>
                  <a:pt x="19695" y="9823"/>
                </a:cubicBezTo>
                <a:cubicBezTo>
                  <a:pt x="19746" y="9850"/>
                  <a:pt x="19785" y="9925"/>
                  <a:pt x="19794" y="9971"/>
                </a:cubicBezTo>
                <a:cubicBezTo>
                  <a:pt x="19806" y="10030"/>
                  <a:pt x="19834" y="10087"/>
                  <a:pt x="19844" y="10145"/>
                </a:cubicBezTo>
                <a:cubicBezTo>
                  <a:pt x="19856" y="10210"/>
                  <a:pt x="19833" y="10241"/>
                  <a:pt x="19819" y="10269"/>
                </a:cubicBezTo>
                <a:cubicBezTo>
                  <a:pt x="19819" y="10277"/>
                  <a:pt x="19819" y="10286"/>
                  <a:pt x="19819" y="10294"/>
                </a:cubicBezTo>
              </a:path>
              <a:path w="4094" h="2730">
                <a:moveTo>
                  <a:pt x="20563" y="9252"/>
                </a:moveTo>
                <a:cubicBezTo>
                  <a:pt x="20543" y="9279"/>
                  <a:pt x="20503" y="9320"/>
                  <a:pt x="20489" y="9351"/>
                </a:cubicBezTo>
                <a:cubicBezTo>
                  <a:pt x="20465" y="9406"/>
                  <a:pt x="20426" y="9489"/>
                  <a:pt x="20414" y="9550"/>
                </a:cubicBezTo>
                <a:cubicBezTo>
                  <a:pt x="20397" y="9640"/>
                  <a:pt x="20353" y="9733"/>
                  <a:pt x="20340" y="9823"/>
                </a:cubicBezTo>
                <a:cubicBezTo>
                  <a:pt x="20324" y="9932"/>
                  <a:pt x="20334" y="10044"/>
                  <a:pt x="20340" y="10145"/>
                </a:cubicBezTo>
                <a:cubicBezTo>
                  <a:pt x="20344" y="10210"/>
                  <a:pt x="20327" y="10309"/>
                  <a:pt x="20414" y="10319"/>
                </a:cubicBezTo>
                <a:cubicBezTo>
                  <a:pt x="20466" y="10325"/>
                  <a:pt x="20478" y="10304"/>
                  <a:pt x="20513" y="10269"/>
                </a:cubicBezTo>
                <a:cubicBezTo>
                  <a:pt x="20585" y="10197"/>
                  <a:pt x="20606" y="10144"/>
                  <a:pt x="20638" y="10046"/>
                </a:cubicBezTo>
                <a:cubicBezTo>
                  <a:pt x="20673" y="9939"/>
                  <a:pt x="20691" y="9831"/>
                  <a:pt x="20712" y="9723"/>
                </a:cubicBezTo>
                <a:cubicBezTo>
                  <a:pt x="20725" y="9656"/>
                  <a:pt x="20765" y="9479"/>
                  <a:pt x="20737" y="9401"/>
                </a:cubicBezTo>
                <a:cubicBezTo>
                  <a:pt x="20717" y="9346"/>
                  <a:pt x="20707" y="9335"/>
                  <a:pt x="20662" y="9302"/>
                </a:cubicBezTo>
              </a:path>
              <a:path w="4094" h="2730">
                <a:moveTo>
                  <a:pt x="20017" y="9947"/>
                </a:moveTo>
                <a:cubicBezTo>
                  <a:pt x="20075" y="9914"/>
                  <a:pt x="20127" y="9872"/>
                  <a:pt x="20191" y="9847"/>
                </a:cubicBezTo>
                <a:cubicBezTo>
                  <a:pt x="20285" y="9811"/>
                  <a:pt x="20357" y="9756"/>
                  <a:pt x="20439" y="9699"/>
                </a:cubicBezTo>
                <a:cubicBezTo>
                  <a:pt x="20543" y="9627"/>
                  <a:pt x="20663" y="9553"/>
                  <a:pt x="20762" y="9475"/>
                </a:cubicBezTo>
                <a:cubicBezTo>
                  <a:pt x="20824" y="9426"/>
                  <a:pt x="20811" y="9426"/>
                  <a:pt x="20886" y="9426"/>
                </a:cubicBezTo>
              </a:path>
              <a:path w="4094" h="2730">
                <a:moveTo>
                  <a:pt x="18529" y="10840"/>
                </a:moveTo>
                <a:cubicBezTo>
                  <a:pt x="18582" y="10825"/>
                  <a:pt x="18649" y="10797"/>
                  <a:pt x="18703" y="10790"/>
                </a:cubicBezTo>
                <a:cubicBezTo>
                  <a:pt x="18842" y="10772"/>
                  <a:pt x="18983" y="10732"/>
                  <a:pt x="19124" y="10716"/>
                </a:cubicBezTo>
                <a:cubicBezTo>
                  <a:pt x="19257" y="10701"/>
                  <a:pt x="19387" y="10653"/>
                  <a:pt x="19521" y="10641"/>
                </a:cubicBezTo>
                <a:cubicBezTo>
                  <a:pt x="19664" y="10628"/>
                  <a:pt x="19801" y="10581"/>
                  <a:pt x="19943" y="10567"/>
                </a:cubicBezTo>
                <a:cubicBezTo>
                  <a:pt x="20109" y="10551"/>
                  <a:pt x="20274" y="10529"/>
                  <a:pt x="20439" y="10492"/>
                </a:cubicBezTo>
                <a:cubicBezTo>
                  <a:pt x="20531" y="10472"/>
                  <a:pt x="20622" y="10432"/>
                  <a:pt x="20712" y="10418"/>
                </a:cubicBezTo>
                <a:cubicBezTo>
                  <a:pt x="20737" y="10418"/>
                  <a:pt x="20745" y="10418"/>
                  <a:pt x="20762" y="10418"/>
                </a:cubicBezTo>
              </a:path>
              <a:path w="4094" h="2730">
                <a:moveTo>
                  <a:pt x="19100" y="11063"/>
                </a:moveTo>
                <a:cubicBezTo>
                  <a:pt x="19038" y="11195"/>
                  <a:pt x="19044" y="11146"/>
                  <a:pt x="19075" y="11237"/>
                </a:cubicBezTo>
                <a:cubicBezTo>
                  <a:pt x="19087" y="11272"/>
                  <a:pt x="19140" y="11326"/>
                  <a:pt x="19174" y="11361"/>
                </a:cubicBezTo>
                <a:cubicBezTo>
                  <a:pt x="19230" y="11421"/>
                  <a:pt x="19261" y="11460"/>
                  <a:pt x="19298" y="11534"/>
                </a:cubicBezTo>
                <a:cubicBezTo>
                  <a:pt x="19336" y="11610"/>
                  <a:pt x="19331" y="11679"/>
                  <a:pt x="19298" y="11757"/>
                </a:cubicBezTo>
                <a:cubicBezTo>
                  <a:pt x="19273" y="11816"/>
                  <a:pt x="19245" y="11932"/>
                  <a:pt x="19174" y="11956"/>
                </a:cubicBezTo>
                <a:cubicBezTo>
                  <a:pt x="19102" y="11980"/>
                  <a:pt x="19044" y="11982"/>
                  <a:pt x="18976" y="11931"/>
                </a:cubicBezTo>
                <a:cubicBezTo>
                  <a:pt x="18937" y="11902"/>
                  <a:pt x="18909" y="11847"/>
                  <a:pt x="18901" y="11807"/>
                </a:cubicBezTo>
                <a:cubicBezTo>
                  <a:pt x="18890" y="11751"/>
                  <a:pt x="18928" y="11660"/>
                  <a:pt x="18951" y="11609"/>
                </a:cubicBezTo>
                <a:cubicBezTo>
                  <a:pt x="18986" y="11531"/>
                  <a:pt x="19054" y="11479"/>
                  <a:pt x="19100" y="11410"/>
                </a:cubicBezTo>
                <a:cubicBezTo>
                  <a:pt x="19160" y="11319"/>
                  <a:pt x="19210" y="11231"/>
                  <a:pt x="19273" y="11137"/>
                </a:cubicBezTo>
                <a:cubicBezTo>
                  <a:pt x="19311" y="11081"/>
                  <a:pt x="19307" y="11054"/>
                  <a:pt x="19298" y="11013"/>
                </a:cubicBezTo>
                <a:cubicBezTo>
                  <a:pt x="19289" y="10974"/>
                  <a:pt x="19266" y="10988"/>
                  <a:pt x="19224" y="10988"/>
                </a:cubicBezTo>
                <a:cubicBezTo>
                  <a:pt x="19216" y="10988"/>
                  <a:pt x="19207" y="10988"/>
                  <a:pt x="19199" y="10988"/>
                </a:cubicBezTo>
              </a:path>
              <a:path w="4094" h="2730">
                <a:moveTo>
                  <a:pt x="19571" y="11013"/>
                </a:moveTo>
                <a:cubicBezTo>
                  <a:pt x="19618" y="11007"/>
                  <a:pt x="19676" y="11003"/>
                  <a:pt x="19720" y="10988"/>
                </a:cubicBezTo>
                <a:cubicBezTo>
                  <a:pt x="19765" y="10972"/>
                  <a:pt x="19835" y="10937"/>
                  <a:pt x="19869" y="10914"/>
                </a:cubicBezTo>
                <a:cubicBezTo>
                  <a:pt x="19891" y="10891"/>
                  <a:pt x="19896" y="10883"/>
                  <a:pt x="19918" y="10889"/>
                </a:cubicBezTo>
                <a:cubicBezTo>
                  <a:pt x="19862" y="10908"/>
                  <a:pt x="19761" y="10965"/>
                  <a:pt x="19720" y="11013"/>
                </a:cubicBezTo>
                <a:cubicBezTo>
                  <a:pt x="19697" y="11039"/>
                  <a:pt x="19649" y="11104"/>
                  <a:pt x="19645" y="11137"/>
                </a:cubicBezTo>
                <a:cubicBezTo>
                  <a:pt x="19645" y="11162"/>
                  <a:pt x="19645" y="11170"/>
                  <a:pt x="19645" y="11187"/>
                </a:cubicBezTo>
                <a:cubicBezTo>
                  <a:pt x="19691" y="11187"/>
                  <a:pt x="19704" y="11209"/>
                  <a:pt x="19745" y="11212"/>
                </a:cubicBezTo>
                <a:cubicBezTo>
                  <a:pt x="19815" y="11217"/>
                  <a:pt x="19910" y="11232"/>
                  <a:pt x="19968" y="11261"/>
                </a:cubicBezTo>
                <a:cubicBezTo>
                  <a:pt x="20038" y="11296"/>
                  <a:pt x="20061" y="11334"/>
                  <a:pt x="20067" y="11410"/>
                </a:cubicBezTo>
                <a:cubicBezTo>
                  <a:pt x="20073" y="11481"/>
                  <a:pt x="20048" y="11521"/>
                  <a:pt x="20017" y="11584"/>
                </a:cubicBezTo>
                <a:cubicBezTo>
                  <a:pt x="19992" y="11634"/>
                  <a:pt x="19912" y="11720"/>
                  <a:pt x="19869" y="11757"/>
                </a:cubicBezTo>
                <a:cubicBezTo>
                  <a:pt x="19826" y="11794"/>
                  <a:pt x="19771" y="11782"/>
                  <a:pt x="19720" y="11782"/>
                </a:cubicBezTo>
              </a:path>
              <a:path w="4094" h="2730">
                <a:moveTo>
                  <a:pt x="16991" y="11187"/>
                </a:moveTo>
                <a:cubicBezTo>
                  <a:pt x="17011" y="11146"/>
                  <a:pt x="17032" y="11103"/>
                  <a:pt x="17066" y="11063"/>
                </a:cubicBezTo>
                <a:cubicBezTo>
                  <a:pt x="17143" y="10972"/>
                  <a:pt x="17217" y="10886"/>
                  <a:pt x="17289" y="10790"/>
                </a:cubicBezTo>
                <a:cubicBezTo>
                  <a:pt x="17373" y="10678"/>
                  <a:pt x="17463" y="10558"/>
                  <a:pt x="17537" y="10443"/>
                </a:cubicBezTo>
                <a:cubicBezTo>
                  <a:pt x="17614" y="10323"/>
                  <a:pt x="17672" y="10193"/>
                  <a:pt x="17735" y="10071"/>
                </a:cubicBezTo>
                <a:cubicBezTo>
                  <a:pt x="17783" y="9978"/>
                  <a:pt x="17826" y="9888"/>
                  <a:pt x="17859" y="9798"/>
                </a:cubicBezTo>
                <a:cubicBezTo>
                  <a:pt x="17889" y="9717"/>
                  <a:pt x="17865" y="9742"/>
                  <a:pt x="17835" y="9674"/>
                </a:cubicBezTo>
              </a:path>
              <a:path w="4094" h="2730">
                <a:moveTo>
                  <a:pt x="16793" y="9971"/>
                </a:moveTo>
                <a:cubicBezTo>
                  <a:pt x="16804" y="10048"/>
                  <a:pt x="16834" y="10062"/>
                  <a:pt x="16892" y="10120"/>
                </a:cubicBezTo>
                <a:cubicBezTo>
                  <a:pt x="16961" y="10188"/>
                  <a:pt x="17028" y="10273"/>
                  <a:pt x="17090" y="10344"/>
                </a:cubicBezTo>
                <a:cubicBezTo>
                  <a:pt x="17179" y="10445"/>
                  <a:pt x="17260" y="10556"/>
                  <a:pt x="17338" y="10666"/>
                </a:cubicBezTo>
                <a:cubicBezTo>
                  <a:pt x="17433" y="10801"/>
                  <a:pt x="17511" y="10959"/>
                  <a:pt x="17562" y="11112"/>
                </a:cubicBezTo>
                <a:cubicBezTo>
                  <a:pt x="17593" y="11206"/>
                  <a:pt x="17639" y="11292"/>
                  <a:pt x="17661" y="11385"/>
                </a:cubicBezTo>
                <a:cubicBezTo>
                  <a:pt x="17661" y="11393"/>
                  <a:pt x="17661" y="11402"/>
                  <a:pt x="17661" y="11410"/>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01760" y="5384880"/>
            <a:ext cx="233280" cy="339480"/>
          </a:xfrm>
          <a:custGeom>
            <a:avLst/>
            <a:gdLst/>
            <a:ahLst/>
            <a:rect l="l" t="t" r="r" b="b"/>
            <a:pathLst>
              <a:path w="646" h="944">
                <a:moveTo>
                  <a:pt x="1563" y="14957"/>
                </a:moveTo>
                <a:cubicBezTo>
                  <a:pt x="1520" y="14979"/>
                  <a:pt x="1481" y="15049"/>
                  <a:pt x="1463" y="15106"/>
                </a:cubicBezTo>
                <a:cubicBezTo>
                  <a:pt x="1429" y="15215"/>
                  <a:pt x="1356" y="15343"/>
                  <a:pt x="1339" y="15453"/>
                </a:cubicBezTo>
                <a:cubicBezTo>
                  <a:pt x="1319" y="15583"/>
                  <a:pt x="1330" y="15723"/>
                  <a:pt x="1389" y="15825"/>
                </a:cubicBezTo>
                <a:cubicBezTo>
                  <a:pt x="1440" y="15913"/>
                  <a:pt x="1508" y="15912"/>
                  <a:pt x="1588" y="15850"/>
                </a:cubicBezTo>
                <a:cubicBezTo>
                  <a:pt x="1668" y="15788"/>
                  <a:pt x="1708" y="15670"/>
                  <a:pt x="1736" y="15577"/>
                </a:cubicBezTo>
                <a:cubicBezTo>
                  <a:pt x="1772" y="15458"/>
                  <a:pt x="1770" y="15347"/>
                  <a:pt x="1736" y="15230"/>
                </a:cubicBezTo>
                <a:cubicBezTo>
                  <a:pt x="1716" y="15160"/>
                  <a:pt x="1690" y="15055"/>
                  <a:pt x="1612" y="15032"/>
                </a:cubicBezTo>
                <a:cubicBezTo>
                  <a:pt x="1557" y="15016"/>
                  <a:pt x="1533" y="14998"/>
                  <a:pt x="1488" y="15032"/>
                </a:cubicBezTo>
              </a:path>
              <a:path w="646" h="944">
                <a:moveTo>
                  <a:pt x="1116" y="15429"/>
                </a:moveTo>
                <a:cubicBezTo>
                  <a:pt x="1219" y="15454"/>
                  <a:pt x="1309" y="15474"/>
                  <a:pt x="1414" y="15478"/>
                </a:cubicBezTo>
                <a:cubicBezTo>
                  <a:pt x="1529" y="15482"/>
                  <a:pt x="1646" y="15478"/>
                  <a:pt x="1761" y="1547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8880" y="5340240"/>
            <a:ext cx="1795320" cy="482760"/>
          </a:xfrm>
          <a:custGeom>
            <a:avLst/>
            <a:gdLst/>
            <a:ahLst/>
            <a:rect l="l" t="t" r="r" b="b"/>
            <a:pathLst>
              <a:path w="4987" h="1341">
                <a:moveTo>
                  <a:pt x="2108" y="15280"/>
                </a:moveTo>
                <a:cubicBezTo>
                  <a:pt x="2182" y="15280"/>
                  <a:pt x="2273" y="15261"/>
                  <a:pt x="2332" y="15304"/>
                </a:cubicBezTo>
              </a:path>
              <a:path w="4987" h="1341">
                <a:moveTo>
                  <a:pt x="2108" y="15528"/>
                </a:moveTo>
                <a:cubicBezTo>
                  <a:pt x="2191" y="15511"/>
                  <a:pt x="2273" y="15495"/>
                  <a:pt x="2356" y="15478"/>
                </a:cubicBezTo>
              </a:path>
              <a:path w="4987" h="1341">
                <a:moveTo>
                  <a:pt x="2803" y="15032"/>
                </a:moveTo>
                <a:cubicBezTo>
                  <a:pt x="2796" y="15160"/>
                  <a:pt x="2778" y="15274"/>
                  <a:pt x="2778" y="15404"/>
                </a:cubicBezTo>
                <a:cubicBezTo>
                  <a:pt x="2778" y="15515"/>
                  <a:pt x="2753" y="15614"/>
                  <a:pt x="2753" y="15726"/>
                </a:cubicBezTo>
                <a:cubicBezTo>
                  <a:pt x="2753" y="15779"/>
                  <a:pt x="2774" y="15859"/>
                  <a:pt x="2729" y="15875"/>
                </a:cubicBezTo>
              </a:path>
              <a:path w="4987" h="1341">
                <a:moveTo>
                  <a:pt x="2555" y="15329"/>
                </a:moveTo>
                <a:cubicBezTo>
                  <a:pt x="2742" y="15347"/>
                  <a:pt x="2917" y="15370"/>
                  <a:pt x="3101" y="15379"/>
                </a:cubicBezTo>
              </a:path>
              <a:path w="4987" h="1341">
                <a:moveTo>
                  <a:pt x="3274" y="15354"/>
                </a:moveTo>
                <a:cubicBezTo>
                  <a:pt x="3173" y="15391"/>
                  <a:pt x="3127" y="15427"/>
                  <a:pt x="3051" y="15503"/>
                </a:cubicBezTo>
                <a:cubicBezTo>
                  <a:pt x="2981" y="15573"/>
                  <a:pt x="2977" y="15606"/>
                  <a:pt x="2977" y="15701"/>
                </a:cubicBezTo>
                <a:cubicBezTo>
                  <a:pt x="2977" y="15770"/>
                  <a:pt x="3005" y="15794"/>
                  <a:pt x="3076" y="15801"/>
                </a:cubicBezTo>
                <a:cubicBezTo>
                  <a:pt x="3127" y="15806"/>
                  <a:pt x="3155" y="15738"/>
                  <a:pt x="3175" y="15701"/>
                </a:cubicBezTo>
                <a:cubicBezTo>
                  <a:pt x="3222" y="15613"/>
                  <a:pt x="3225" y="15553"/>
                  <a:pt x="3225" y="15453"/>
                </a:cubicBezTo>
                <a:cubicBezTo>
                  <a:pt x="3225" y="15445"/>
                  <a:pt x="3225" y="15437"/>
                  <a:pt x="3225" y="15429"/>
                </a:cubicBezTo>
                <a:cubicBezTo>
                  <a:pt x="3260" y="15441"/>
                  <a:pt x="3258" y="15506"/>
                  <a:pt x="3274" y="15553"/>
                </a:cubicBezTo>
                <a:cubicBezTo>
                  <a:pt x="3299" y="15624"/>
                  <a:pt x="3348" y="15686"/>
                  <a:pt x="3373" y="15751"/>
                </a:cubicBezTo>
                <a:cubicBezTo>
                  <a:pt x="3373" y="15776"/>
                  <a:pt x="3373" y="15784"/>
                  <a:pt x="3398" y="15776"/>
                </a:cubicBezTo>
              </a:path>
              <a:path w="4987" h="1341">
                <a:moveTo>
                  <a:pt x="3473" y="15478"/>
                </a:moveTo>
                <a:cubicBezTo>
                  <a:pt x="3481" y="15525"/>
                  <a:pt x="3528" y="15699"/>
                  <a:pt x="3522" y="15751"/>
                </a:cubicBezTo>
                <a:cubicBezTo>
                  <a:pt x="3500" y="15795"/>
                  <a:pt x="3487" y="15806"/>
                  <a:pt x="3522" y="15825"/>
                </a:cubicBezTo>
                <a:cubicBezTo>
                  <a:pt x="3522" y="15892"/>
                  <a:pt x="3522" y="15787"/>
                  <a:pt x="3522" y="15776"/>
                </a:cubicBezTo>
                <a:cubicBezTo>
                  <a:pt x="3522" y="15675"/>
                  <a:pt x="3508" y="15571"/>
                  <a:pt x="3547" y="15478"/>
                </a:cubicBezTo>
                <a:cubicBezTo>
                  <a:pt x="3576" y="15410"/>
                  <a:pt x="3588" y="15389"/>
                  <a:pt x="3646" y="15379"/>
                </a:cubicBezTo>
                <a:cubicBezTo>
                  <a:pt x="3691" y="15435"/>
                  <a:pt x="3732" y="15504"/>
                  <a:pt x="3746" y="15577"/>
                </a:cubicBezTo>
                <a:cubicBezTo>
                  <a:pt x="3759" y="15645"/>
                  <a:pt x="3770" y="15704"/>
                  <a:pt x="3770" y="15776"/>
                </a:cubicBezTo>
              </a:path>
              <a:path w="4987" h="1341">
                <a:moveTo>
                  <a:pt x="3870" y="15180"/>
                </a:moveTo>
                <a:cubicBezTo>
                  <a:pt x="3971" y="15180"/>
                  <a:pt x="4043" y="15175"/>
                  <a:pt x="4142" y="15156"/>
                </a:cubicBezTo>
              </a:path>
              <a:path w="4987" h="1341">
                <a:moveTo>
                  <a:pt x="4366" y="14982"/>
                </a:moveTo>
                <a:cubicBezTo>
                  <a:pt x="4366" y="15062"/>
                  <a:pt x="4344" y="15132"/>
                  <a:pt x="4341" y="15205"/>
                </a:cubicBezTo>
                <a:cubicBezTo>
                  <a:pt x="4341" y="15238"/>
                  <a:pt x="4341" y="15271"/>
                  <a:pt x="4341" y="15304"/>
                </a:cubicBezTo>
              </a:path>
              <a:path w="4987" h="1341">
                <a:moveTo>
                  <a:pt x="4787" y="15056"/>
                </a:moveTo>
                <a:cubicBezTo>
                  <a:pt x="4723" y="15186"/>
                  <a:pt x="4640" y="15318"/>
                  <a:pt x="4589" y="15453"/>
                </a:cubicBezTo>
                <a:cubicBezTo>
                  <a:pt x="4546" y="15567"/>
                  <a:pt x="4539" y="15681"/>
                  <a:pt x="4539" y="15801"/>
                </a:cubicBezTo>
                <a:cubicBezTo>
                  <a:pt x="4539" y="15889"/>
                  <a:pt x="4556" y="15958"/>
                  <a:pt x="4614" y="16024"/>
                </a:cubicBezTo>
                <a:cubicBezTo>
                  <a:pt x="4649" y="16063"/>
                  <a:pt x="4689" y="16049"/>
                  <a:pt x="4738" y="16049"/>
                </a:cubicBezTo>
              </a:path>
              <a:path w="4987" h="1341">
                <a:moveTo>
                  <a:pt x="5184" y="15280"/>
                </a:moveTo>
                <a:cubicBezTo>
                  <a:pt x="5108" y="15265"/>
                  <a:pt x="5082" y="15255"/>
                  <a:pt x="5035" y="15329"/>
                </a:cubicBezTo>
                <a:cubicBezTo>
                  <a:pt x="4996" y="15392"/>
                  <a:pt x="5000" y="15506"/>
                  <a:pt x="5011" y="15577"/>
                </a:cubicBezTo>
                <a:cubicBezTo>
                  <a:pt x="5029" y="15694"/>
                  <a:pt x="5069" y="15809"/>
                  <a:pt x="5085" y="15925"/>
                </a:cubicBezTo>
                <a:cubicBezTo>
                  <a:pt x="5092" y="15978"/>
                  <a:pt x="5072" y="16037"/>
                  <a:pt x="5035" y="16049"/>
                </a:cubicBezTo>
                <a:cubicBezTo>
                  <a:pt x="4995" y="15994"/>
                  <a:pt x="4989" y="15922"/>
                  <a:pt x="4986" y="15850"/>
                </a:cubicBezTo>
                <a:cubicBezTo>
                  <a:pt x="4983" y="15769"/>
                  <a:pt x="4979" y="15700"/>
                  <a:pt x="5011" y="15627"/>
                </a:cubicBezTo>
                <a:cubicBezTo>
                  <a:pt x="5043" y="15553"/>
                  <a:pt x="5093" y="15517"/>
                  <a:pt x="5135" y="15453"/>
                </a:cubicBezTo>
                <a:cubicBezTo>
                  <a:pt x="5159" y="15404"/>
                  <a:pt x="5168" y="15387"/>
                  <a:pt x="5209" y="15379"/>
                </a:cubicBezTo>
              </a:path>
              <a:path w="4987" h="1341">
                <a:moveTo>
                  <a:pt x="5482" y="15255"/>
                </a:moveTo>
                <a:cubicBezTo>
                  <a:pt x="5567" y="15278"/>
                  <a:pt x="5623" y="15283"/>
                  <a:pt x="5705" y="15255"/>
                </a:cubicBezTo>
                <a:cubicBezTo>
                  <a:pt x="5722" y="15247"/>
                  <a:pt x="5738" y="15238"/>
                  <a:pt x="5755" y="15230"/>
                </a:cubicBezTo>
              </a:path>
              <a:path w="4987" h="1341">
                <a:moveTo>
                  <a:pt x="5407" y="15329"/>
                </a:moveTo>
                <a:cubicBezTo>
                  <a:pt x="5359" y="15386"/>
                  <a:pt x="5331" y="15412"/>
                  <a:pt x="5383" y="15478"/>
                </a:cubicBezTo>
                <a:cubicBezTo>
                  <a:pt x="5425" y="15531"/>
                  <a:pt x="5481" y="15538"/>
                  <a:pt x="5531" y="15577"/>
                </a:cubicBezTo>
                <a:cubicBezTo>
                  <a:pt x="5602" y="15632"/>
                  <a:pt x="5650" y="15687"/>
                  <a:pt x="5655" y="15776"/>
                </a:cubicBezTo>
                <a:cubicBezTo>
                  <a:pt x="5660" y="15874"/>
                  <a:pt x="5654" y="15872"/>
                  <a:pt x="5581" y="15925"/>
                </a:cubicBezTo>
                <a:cubicBezTo>
                  <a:pt x="5529" y="15963"/>
                  <a:pt x="5477" y="15994"/>
                  <a:pt x="5407" y="15974"/>
                </a:cubicBezTo>
                <a:cubicBezTo>
                  <a:pt x="5362" y="15961"/>
                  <a:pt x="5311" y="15921"/>
                  <a:pt x="5308" y="15875"/>
                </a:cubicBezTo>
                <a:cubicBezTo>
                  <a:pt x="5308" y="15858"/>
                  <a:pt x="5308" y="15842"/>
                  <a:pt x="5308" y="15825"/>
                </a:cubicBezTo>
              </a:path>
              <a:path w="4987" h="1341">
                <a:moveTo>
                  <a:pt x="5978" y="15255"/>
                </a:moveTo>
                <a:cubicBezTo>
                  <a:pt x="5928" y="15392"/>
                  <a:pt x="5832" y="15559"/>
                  <a:pt x="5804" y="15701"/>
                </a:cubicBezTo>
                <a:cubicBezTo>
                  <a:pt x="5784" y="15804"/>
                  <a:pt x="5747" y="15922"/>
                  <a:pt x="5730" y="16024"/>
                </a:cubicBezTo>
                <a:cubicBezTo>
                  <a:pt x="5700" y="16206"/>
                  <a:pt x="5770" y="15975"/>
                  <a:pt x="5779" y="15949"/>
                </a:cubicBezTo>
              </a:path>
              <a:path w="4987" h="1341">
                <a:moveTo>
                  <a:pt x="6176" y="15280"/>
                </a:moveTo>
                <a:lnTo>
                  <a:pt x="6176" y="15528"/>
                </a:lnTo>
                <a:lnTo>
                  <a:pt x="6176" y="15627"/>
                </a:lnTo>
                <a:lnTo>
                  <a:pt x="6152" y="15726"/>
                </a:lnTo>
                <a:lnTo>
                  <a:pt x="6152" y="15825"/>
                </a:lnTo>
                <a:lnTo>
                  <a:pt x="6127" y="15900"/>
                </a:lnTo>
                <a:lnTo>
                  <a:pt x="6127" y="15949"/>
                </a:lnTo>
                <a:lnTo>
                  <a:pt x="6127" y="15999"/>
                </a:lnTo>
                <a:lnTo>
                  <a:pt x="6127" y="16024"/>
                </a:lnTo>
                <a:lnTo>
                  <a:pt x="6127" y="15999"/>
                </a:lnTo>
              </a:path>
              <a:path w="4987" h="1341">
                <a:moveTo>
                  <a:pt x="6449" y="15404"/>
                </a:moveTo>
                <a:cubicBezTo>
                  <a:pt x="6433" y="15560"/>
                  <a:pt x="6405" y="15720"/>
                  <a:pt x="6400" y="15875"/>
                </a:cubicBezTo>
                <a:cubicBezTo>
                  <a:pt x="6398" y="15941"/>
                  <a:pt x="6400" y="16007"/>
                  <a:pt x="6400" y="16073"/>
                </a:cubicBezTo>
              </a:path>
              <a:path w="4987" h="1341">
                <a:moveTo>
                  <a:pt x="6648" y="15404"/>
                </a:moveTo>
                <a:cubicBezTo>
                  <a:pt x="6656" y="15404"/>
                  <a:pt x="6664" y="15404"/>
                  <a:pt x="6672" y="15404"/>
                </a:cubicBezTo>
              </a:path>
              <a:path w="4987" h="1341">
                <a:moveTo>
                  <a:pt x="6648" y="15404"/>
                </a:moveTo>
                <a:cubicBezTo>
                  <a:pt x="6656" y="15420"/>
                  <a:pt x="6664" y="15437"/>
                  <a:pt x="6672" y="15453"/>
                </a:cubicBezTo>
              </a:path>
              <a:path w="4987" h="1341">
                <a:moveTo>
                  <a:pt x="6672" y="15453"/>
                </a:moveTo>
                <a:cubicBezTo>
                  <a:pt x="6660" y="15513"/>
                  <a:pt x="6627" y="15548"/>
                  <a:pt x="6598" y="15602"/>
                </a:cubicBezTo>
                <a:cubicBezTo>
                  <a:pt x="6569" y="15657"/>
                  <a:pt x="6573" y="15690"/>
                  <a:pt x="6573" y="15751"/>
                </a:cubicBezTo>
                <a:cubicBezTo>
                  <a:pt x="6573" y="15805"/>
                  <a:pt x="6600" y="15844"/>
                  <a:pt x="6648" y="15875"/>
                </a:cubicBezTo>
                <a:cubicBezTo>
                  <a:pt x="6711" y="15916"/>
                  <a:pt x="6740" y="15892"/>
                  <a:pt x="6796" y="15850"/>
                </a:cubicBezTo>
                <a:cubicBezTo>
                  <a:pt x="6855" y="15805"/>
                  <a:pt x="6909" y="15678"/>
                  <a:pt x="6896" y="15602"/>
                </a:cubicBezTo>
                <a:cubicBezTo>
                  <a:pt x="6880" y="15508"/>
                  <a:pt x="6822" y="15454"/>
                  <a:pt x="6747" y="15404"/>
                </a:cubicBezTo>
                <a:cubicBezTo>
                  <a:pt x="6695" y="15370"/>
                  <a:pt x="6680" y="15362"/>
                  <a:pt x="6623" y="15354"/>
                </a:cubicBezTo>
              </a:path>
              <a:path w="4987" h="1341">
                <a:moveTo>
                  <a:pt x="6722" y="14833"/>
                </a:moveTo>
                <a:cubicBezTo>
                  <a:pt x="6836" y="14862"/>
                  <a:pt x="6918" y="14967"/>
                  <a:pt x="6970" y="15081"/>
                </a:cubicBezTo>
                <a:cubicBezTo>
                  <a:pt x="7052" y="15259"/>
                  <a:pt x="7112" y="15480"/>
                  <a:pt x="7094" y="15677"/>
                </a:cubicBezTo>
                <a:cubicBezTo>
                  <a:pt x="7083" y="15795"/>
                  <a:pt x="7009" y="15965"/>
                  <a:pt x="6921" y="16049"/>
                </a:cubicBezTo>
                <a:cubicBezTo>
                  <a:pt x="6863" y="16104"/>
                  <a:pt x="6728" y="16158"/>
                  <a:pt x="6648" y="16173"/>
                </a:cubicBezTo>
                <a:cubicBezTo>
                  <a:pt x="6631" y="16173"/>
                  <a:pt x="6615" y="16173"/>
                  <a:pt x="6598" y="16173"/>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126040" y="4606920"/>
            <a:ext cx="1446120" cy="465120"/>
          </a:xfrm>
          <a:custGeom>
            <a:avLst/>
            <a:gdLst/>
            <a:ahLst/>
            <a:rect l="l" t="t" r="r" b="b"/>
            <a:pathLst>
              <a:path w="4019" h="1291">
                <a:moveTo>
                  <a:pt x="14486" y="13295"/>
                </a:moveTo>
                <a:cubicBezTo>
                  <a:pt x="14486" y="13287"/>
                  <a:pt x="14486" y="13279"/>
                  <a:pt x="14486" y="13271"/>
                </a:cubicBezTo>
                <a:cubicBezTo>
                  <a:pt x="14427" y="13271"/>
                  <a:pt x="14449" y="13278"/>
                  <a:pt x="14412" y="13320"/>
                </a:cubicBezTo>
                <a:cubicBezTo>
                  <a:pt x="14373" y="13364"/>
                  <a:pt x="14340" y="13391"/>
                  <a:pt x="14312" y="13444"/>
                </a:cubicBezTo>
                <a:cubicBezTo>
                  <a:pt x="14291" y="13484"/>
                  <a:pt x="14246" y="13554"/>
                  <a:pt x="14238" y="13593"/>
                </a:cubicBezTo>
                <a:cubicBezTo>
                  <a:pt x="14238" y="13610"/>
                  <a:pt x="14238" y="13626"/>
                  <a:pt x="14238" y="13643"/>
                </a:cubicBezTo>
                <a:cubicBezTo>
                  <a:pt x="14311" y="13643"/>
                  <a:pt x="14368" y="13655"/>
                  <a:pt x="14436" y="13667"/>
                </a:cubicBezTo>
                <a:cubicBezTo>
                  <a:pt x="14517" y="13681"/>
                  <a:pt x="14557" y="13686"/>
                  <a:pt x="14635" y="13717"/>
                </a:cubicBezTo>
                <a:cubicBezTo>
                  <a:pt x="14681" y="13735"/>
                  <a:pt x="14771" y="13767"/>
                  <a:pt x="14759" y="13841"/>
                </a:cubicBezTo>
                <a:cubicBezTo>
                  <a:pt x="14752" y="13880"/>
                  <a:pt x="14712" y="13952"/>
                  <a:pt x="14684" y="13990"/>
                </a:cubicBezTo>
                <a:cubicBezTo>
                  <a:pt x="14649" y="14038"/>
                  <a:pt x="14602" y="14038"/>
                  <a:pt x="14560" y="14064"/>
                </a:cubicBezTo>
                <a:cubicBezTo>
                  <a:pt x="14515" y="14092"/>
                  <a:pt x="14469" y="14110"/>
                  <a:pt x="14461" y="14039"/>
                </a:cubicBezTo>
                <a:cubicBezTo>
                  <a:pt x="14461" y="14031"/>
                  <a:pt x="14461" y="14023"/>
                  <a:pt x="14461" y="14015"/>
                </a:cubicBezTo>
              </a:path>
              <a:path w="4019" h="1291">
                <a:moveTo>
                  <a:pt x="14883" y="13593"/>
                </a:moveTo>
                <a:cubicBezTo>
                  <a:pt x="14913" y="13646"/>
                  <a:pt x="14923" y="13699"/>
                  <a:pt x="14957" y="13742"/>
                </a:cubicBezTo>
                <a:cubicBezTo>
                  <a:pt x="14986" y="13778"/>
                  <a:pt x="14972" y="13780"/>
                  <a:pt x="15007" y="13791"/>
                </a:cubicBezTo>
              </a:path>
              <a:path w="4019" h="1291">
                <a:moveTo>
                  <a:pt x="15007" y="13444"/>
                </a:moveTo>
                <a:cubicBezTo>
                  <a:pt x="15007" y="13492"/>
                  <a:pt x="15008" y="13532"/>
                  <a:pt x="15032" y="13568"/>
                </a:cubicBezTo>
                <a:cubicBezTo>
                  <a:pt x="15058" y="13609"/>
                  <a:pt x="15102" y="13653"/>
                  <a:pt x="15131" y="13692"/>
                </a:cubicBezTo>
                <a:cubicBezTo>
                  <a:pt x="15155" y="13723"/>
                  <a:pt x="15171" y="13734"/>
                  <a:pt x="15205" y="13742"/>
                </a:cubicBezTo>
                <a:cubicBezTo>
                  <a:pt x="15205" y="13667"/>
                  <a:pt x="15212" y="13613"/>
                  <a:pt x="15230" y="13543"/>
                </a:cubicBezTo>
                <a:cubicBezTo>
                  <a:pt x="15242" y="13494"/>
                  <a:pt x="15219" y="13447"/>
                  <a:pt x="15280" y="13419"/>
                </a:cubicBezTo>
                <a:cubicBezTo>
                  <a:pt x="15319" y="13401"/>
                  <a:pt x="15360" y="13440"/>
                  <a:pt x="15379" y="13469"/>
                </a:cubicBezTo>
                <a:cubicBezTo>
                  <a:pt x="15416" y="13526"/>
                  <a:pt x="15447" y="13582"/>
                  <a:pt x="15478" y="13643"/>
                </a:cubicBezTo>
                <a:cubicBezTo>
                  <a:pt x="15510" y="13707"/>
                  <a:pt x="15480" y="13742"/>
                  <a:pt x="15553" y="13742"/>
                </a:cubicBezTo>
              </a:path>
              <a:path w="4019" h="1291">
                <a:moveTo>
                  <a:pt x="15776" y="12998"/>
                </a:moveTo>
                <a:cubicBezTo>
                  <a:pt x="15739" y="13084"/>
                  <a:pt x="15706" y="13154"/>
                  <a:pt x="15701" y="13246"/>
                </a:cubicBezTo>
                <a:cubicBezTo>
                  <a:pt x="15698" y="13297"/>
                  <a:pt x="15715" y="13333"/>
                  <a:pt x="15751" y="13345"/>
                </a:cubicBezTo>
                <a:cubicBezTo>
                  <a:pt x="15787" y="13297"/>
                  <a:pt x="15783" y="13252"/>
                  <a:pt x="15801" y="13196"/>
                </a:cubicBezTo>
                <a:cubicBezTo>
                  <a:pt x="15819" y="13140"/>
                  <a:pt x="15825" y="13105"/>
                  <a:pt x="15825" y="13047"/>
                </a:cubicBezTo>
                <a:cubicBezTo>
                  <a:pt x="15825" y="13040"/>
                  <a:pt x="15825" y="12957"/>
                  <a:pt x="15825" y="13022"/>
                </a:cubicBezTo>
                <a:cubicBezTo>
                  <a:pt x="15784" y="13079"/>
                  <a:pt x="15809" y="13079"/>
                  <a:pt x="15825" y="13146"/>
                </a:cubicBezTo>
                <a:cubicBezTo>
                  <a:pt x="15839" y="13202"/>
                  <a:pt x="15832" y="13265"/>
                  <a:pt x="15850" y="13320"/>
                </a:cubicBezTo>
                <a:cubicBezTo>
                  <a:pt x="15869" y="13377"/>
                  <a:pt x="15870" y="13449"/>
                  <a:pt x="15900" y="13494"/>
                </a:cubicBezTo>
                <a:cubicBezTo>
                  <a:pt x="15927" y="13534"/>
                  <a:pt x="15925" y="13543"/>
                  <a:pt x="15925" y="13593"/>
                </a:cubicBezTo>
                <a:cubicBezTo>
                  <a:pt x="15925" y="13604"/>
                  <a:pt x="15925" y="13707"/>
                  <a:pt x="15925" y="13643"/>
                </a:cubicBezTo>
                <a:cubicBezTo>
                  <a:pt x="15925" y="13635"/>
                  <a:pt x="15925" y="13626"/>
                  <a:pt x="15925" y="13618"/>
                </a:cubicBezTo>
              </a:path>
              <a:path w="4019" h="1291">
                <a:moveTo>
                  <a:pt x="16073" y="12948"/>
                </a:moveTo>
                <a:cubicBezTo>
                  <a:pt x="16046" y="13072"/>
                  <a:pt x="16007" y="13192"/>
                  <a:pt x="16024" y="13320"/>
                </a:cubicBezTo>
                <a:cubicBezTo>
                  <a:pt x="16039" y="13436"/>
                  <a:pt x="16060" y="13583"/>
                  <a:pt x="16098" y="13692"/>
                </a:cubicBezTo>
                <a:cubicBezTo>
                  <a:pt x="16117" y="13746"/>
                  <a:pt x="16159" y="13777"/>
                  <a:pt x="16197" y="13816"/>
                </a:cubicBezTo>
                <a:cubicBezTo>
                  <a:pt x="16253" y="13770"/>
                  <a:pt x="16268" y="13726"/>
                  <a:pt x="16272" y="13643"/>
                </a:cubicBezTo>
                <a:cubicBezTo>
                  <a:pt x="16279" y="13490"/>
                  <a:pt x="16267" y="13344"/>
                  <a:pt x="16247" y="13196"/>
                </a:cubicBezTo>
                <a:cubicBezTo>
                  <a:pt x="16239" y="13138"/>
                  <a:pt x="16234" y="13090"/>
                  <a:pt x="16197" y="13047"/>
                </a:cubicBezTo>
                <a:cubicBezTo>
                  <a:pt x="16170" y="13015"/>
                  <a:pt x="16161" y="13022"/>
                  <a:pt x="16123" y="13022"/>
                </a:cubicBezTo>
              </a:path>
              <a:path w="4019" h="1291">
                <a:moveTo>
                  <a:pt x="16446" y="13370"/>
                </a:moveTo>
                <a:cubicBezTo>
                  <a:pt x="16408" y="13357"/>
                  <a:pt x="16421" y="13340"/>
                  <a:pt x="16421" y="13295"/>
                </a:cubicBezTo>
                <a:cubicBezTo>
                  <a:pt x="16421" y="13243"/>
                  <a:pt x="16454" y="13246"/>
                  <a:pt x="16495" y="13246"/>
                </a:cubicBezTo>
                <a:cubicBezTo>
                  <a:pt x="16495" y="13268"/>
                  <a:pt x="16515" y="13441"/>
                  <a:pt x="16470" y="13419"/>
                </a:cubicBezTo>
                <a:cubicBezTo>
                  <a:pt x="16462" y="13411"/>
                  <a:pt x="16454" y="13403"/>
                  <a:pt x="16446" y="13395"/>
                </a:cubicBezTo>
              </a:path>
              <a:path w="4019" h="1291">
                <a:moveTo>
                  <a:pt x="16718" y="13022"/>
                </a:moveTo>
                <a:cubicBezTo>
                  <a:pt x="16702" y="13092"/>
                  <a:pt x="16694" y="13112"/>
                  <a:pt x="16694" y="13171"/>
                </a:cubicBezTo>
                <a:cubicBezTo>
                  <a:pt x="16741" y="13171"/>
                  <a:pt x="16773" y="13193"/>
                  <a:pt x="16818" y="13196"/>
                </a:cubicBezTo>
                <a:cubicBezTo>
                  <a:pt x="16878" y="13200"/>
                  <a:pt x="16917" y="13225"/>
                  <a:pt x="16966" y="13246"/>
                </a:cubicBezTo>
                <a:cubicBezTo>
                  <a:pt x="17043" y="13279"/>
                  <a:pt x="17060" y="13315"/>
                  <a:pt x="17066" y="13395"/>
                </a:cubicBezTo>
                <a:cubicBezTo>
                  <a:pt x="17072" y="13467"/>
                  <a:pt x="17069" y="13528"/>
                  <a:pt x="17041" y="13593"/>
                </a:cubicBezTo>
                <a:cubicBezTo>
                  <a:pt x="17009" y="13669"/>
                  <a:pt x="16971" y="13686"/>
                  <a:pt x="16892" y="13692"/>
                </a:cubicBezTo>
                <a:cubicBezTo>
                  <a:pt x="16862" y="13694"/>
                  <a:pt x="16844" y="13649"/>
                  <a:pt x="16842" y="13618"/>
                </a:cubicBezTo>
                <a:cubicBezTo>
                  <a:pt x="16836" y="13529"/>
                  <a:pt x="16879" y="13475"/>
                  <a:pt x="16892" y="13395"/>
                </a:cubicBezTo>
                <a:cubicBezTo>
                  <a:pt x="16907" y="13305"/>
                  <a:pt x="16929" y="13212"/>
                  <a:pt x="16942" y="13122"/>
                </a:cubicBezTo>
                <a:cubicBezTo>
                  <a:pt x="16951" y="13060"/>
                  <a:pt x="16944" y="13020"/>
                  <a:pt x="16917" y="12973"/>
                </a:cubicBezTo>
                <a:cubicBezTo>
                  <a:pt x="16881" y="12910"/>
                  <a:pt x="16842" y="12928"/>
                  <a:pt x="16818" y="12898"/>
                </a:cubicBezTo>
                <a:cubicBezTo>
                  <a:pt x="16789" y="12862"/>
                  <a:pt x="16880" y="12874"/>
                  <a:pt x="16892" y="12874"/>
                </a:cubicBezTo>
              </a:path>
              <a:path w="4019" h="1291">
                <a:moveTo>
                  <a:pt x="17190" y="12923"/>
                </a:moveTo>
                <a:cubicBezTo>
                  <a:pt x="17240" y="12923"/>
                  <a:pt x="17248" y="12912"/>
                  <a:pt x="17289" y="12898"/>
                </a:cubicBezTo>
                <a:cubicBezTo>
                  <a:pt x="17322" y="12887"/>
                  <a:pt x="17359" y="12893"/>
                  <a:pt x="17388" y="12874"/>
                </a:cubicBezTo>
                <a:cubicBezTo>
                  <a:pt x="17411" y="12851"/>
                  <a:pt x="17415" y="12843"/>
                  <a:pt x="17438" y="12849"/>
                </a:cubicBezTo>
                <a:cubicBezTo>
                  <a:pt x="17451" y="12809"/>
                  <a:pt x="17449" y="12839"/>
                  <a:pt x="17462" y="12799"/>
                </a:cubicBezTo>
                <a:cubicBezTo>
                  <a:pt x="17438" y="12799"/>
                  <a:pt x="17429" y="12799"/>
                  <a:pt x="17413" y="12799"/>
                </a:cubicBezTo>
              </a:path>
              <a:path w="4019" h="1291">
                <a:moveTo>
                  <a:pt x="17239" y="12948"/>
                </a:moveTo>
                <a:cubicBezTo>
                  <a:pt x="17251" y="12998"/>
                  <a:pt x="17254" y="13095"/>
                  <a:pt x="17314" y="13122"/>
                </a:cubicBezTo>
                <a:cubicBezTo>
                  <a:pt x="17378" y="13151"/>
                  <a:pt x="17495" y="13125"/>
                  <a:pt x="17562" y="13146"/>
                </a:cubicBezTo>
                <a:cubicBezTo>
                  <a:pt x="17613" y="13162"/>
                  <a:pt x="17611" y="13183"/>
                  <a:pt x="17636" y="13221"/>
                </a:cubicBezTo>
                <a:cubicBezTo>
                  <a:pt x="17677" y="13283"/>
                  <a:pt x="17653" y="13299"/>
                  <a:pt x="17636" y="13370"/>
                </a:cubicBezTo>
                <a:cubicBezTo>
                  <a:pt x="17623" y="13426"/>
                  <a:pt x="17603" y="13453"/>
                  <a:pt x="17562" y="13494"/>
                </a:cubicBezTo>
                <a:cubicBezTo>
                  <a:pt x="17515" y="13540"/>
                  <a:pt x="17468" y="13585"/>
                  <a:pt x="17413" y="13618"/>
                </a:cubicBezTo>
                <a:cubicBezTo>
                  <a:pt x="17369" y="13644"/>
                  <a:pt x="17358" y="13643"/>
                  <a:pt x="17314" y="13643"/>
                </a:cubicBezTo>
                <a:cubicBezTo>
                  <a:pt x="17330" y="13610"/>
                  <a:pt x="17354" y="13596"/>
                  <a:pt x="17388" y="13568"/>
                </a:cubicBezTo>
              </a:path>
              <a:path w="4019" h="1291">
                <a:moveTo>
                  <a:pt x="17810" y="13047"/>
                </a:moveTo>
                <a:cubicBezTo>
                  <a:pt x="17810" y="13055"/>
                  <a:pt x="17810" y="13064"/>
                  <a:pt x="17810" y="13072"/>
                </a:cubicBezTo>
                <a:cubicBezTo>
                  <a:pt x="17885" y="13072"/>
                  <a:pt x="17945" y="13076"/>
                  <a:pt x="18008" y="13097"/>
                </a:cubicBezTo>
                <a:cubicBezTo>
                  <a:pt x="18054" y="13112"/>
                  <a:pt x="18121" y="13105"/>
                  <a:pt x="18132" y="13072"/>
                </a:cubicBezTo>
              </a:path>
              <a:path w="4019" h="1291">
                <a:moveTo>
                  <a:pt x="17934" y="13246"/>
                </a:moveTo>
                <a:cubicBezTo>
                  <a:pt x="17998" y="13285"/>
                  <a:pt x="18012" y="13253"/>
                  <a:pt x="18083" y="13246"/>
                </a:cubicBezTo>
                <a:cubicBezTo>
                  <a:pt x="18139" y="13240"/>
                  <a:pt x="18199" y="13246"/>
                  <a:pt x="18256" y="1324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742080" y="4375080"/>
            <a:ext cx="1241280" cy="492120"/>
          </a:xfrm>
          <a:custGeom>
            <a:avLst/>
            <a:gdLst/>
            <a:ahLst/>
            <a:rect l="l" t="t" r="r" b="b"/>
            <a:pathLst>
              <a:path w="3448" h="1366">
                <a:moveTo>
                  <a:pt x="18728" y="12675"/>
                </a:moveTo>
                <a:cubicBezTo>
                  <a:pt x="18728" y="12745"/>
                  <a:pt x="18741" y="12785"/>
                  <a:pt x="18752" y="12849"/>
                </a:cubicBezTo>
                <a:cubicBezTo>
                  <a:pt x="18769" y="12949"/>
                  <a:pt x="18801" y="13046"/>
                  <a:pt x="18827" y="13146"/>
                </a:cubicBezTo>
                <a:cubicBezTo>
                  <a:pt x="18853" y="13246"/>
                  <a:pt x="18880" y="13347"/>
                  <a:pt x="18901" y="13444"/>
                </a:cubicBezTo>
                <a:cubicBezTo>
                  <a:pt x="18901" y="13477"/>
                  <a:pt x="18901" y="13494"/>
                  <a:pt x="18901" y="13519"/>
                </a:cubicBezTo>
              </a:path>
              <a:path w="3448" h="1366">
                <a:moveTo>
                  <a:pt x="18926" y="12948"/>
                </a:moveTo>
                <a:cubicBezTo>
                  <a:pt x="18942" y="12910"/>
                  <a:pt x="18956" y="12844"/>
                  <a:pt x="19000" y="12824"/>
                </a:cubicBezTo>
                <a:cubicBezTo>
                  <a:pt x="19015" y="12817"/>
                  <a:pt x="19118" y="12781"/>
                  <a:pt x="19124" y="12774"/>
                </a:cubicBezTo>
                <a:cubicBezTo>
                  <a:pt x="19137" y="12758"/>
                  <a:pt x="19169" y="12758"/>
                  <a:pt x="19174" y="12799"/>
                </a:cubicBezTo>
                <a:cubicBezTo>
                  <a:pt x="19180" y="12847"/>
                  <a:pt x="19150" y="12955"/>
                  <a:pt x="19124" y="12998"/>
                </a:cubicBezTo>
                <a:cubicBezTo>
                  <a:pt x="19102" y="13035"/>
                  <a:pt x="19100" y="13028"/>
                  <a:pt x="19100" y="13072"/>
                </a:cubicBezTo>
                <a:cubicBezTo>
                  <a:pt x="19153" y="13072"/>
                  <a:pt x="19170" y="13052"/>
                  <a:pt x="19224" y="13047"/>
                </a:cubicBezTo>
                <a:cubicBezTo>
                  <a:pt x="19258" y="13044"/>
                  <a:pt x="19322" y="13059"/>
                  <a:pt x="19348" y="13072"/>
                </a:cubicBezTo>
                <a:cubicBezTo>
                  <a:pt x="19375" y="13086"/>
                  <a:pt x="19414" y="13146"/>
                  <a:pt x="19422" y="13171"/>
                </a:cubicBezTo>
                <a:cubicBezTo>
                  <a:pt x="19443" y="13233"/>
                  <a:pt x="19397" y="13293"/>
                  <a:pt x="19372" y="13345"/>
                </a:cubicBezTo>
                <a:cubicBezTo>
                  <a:pt x="19342" y="13406"/>
                  <a:pt x="19327" y="13446"/>
                  <a:pt x="19273" y="13419"/>
                </a:cubicBezTo>
              </a:path>
              <a:path w="3448" h="1366">
                <a:moveTo>
                  <a:pt x="19596" y="12626"/>
                </a:moveTo>
                <a:cubicBezTo>
                  <a:pt x="19596" y="12671"/>
                  <a:pt x="19574" y="12685"/>
                  <a:pt x="19571" y="12725"/>
                </a:cubicBezTo>
                <a:cubicBezTo>
                  <a:pt x="19566" y="12794"/>
                  <a:pt x="19579" y="12842"/>
                  <a:pt x="19596" y="12898"/>
                </a:cubicBezTo>
                <a:cubicBezTo>
                  <a:pt x="19596" y="12926"/>
                  <a:pt x="19598" y="12937"/>
                  <a:pt x="19621" y="12948"/>
                </a:cubicBezTo>
                <a:cubicBezTo>
                  <a:pt x="19653" y="12940"/>
                  <a:pt x="19687" y="12909"/>
                  <a:pt x="19695" y="12874"/>
                </a:cubicBezTo>
                <a:cubicBezTo>
                  <a:pt x="19706" y="12822"/>
                  <a:pt x="19715" y="12752"/>
                  <a:pt x="19720" y="12700"/>
                </a:cubicBezTo>
                <a:cubicBezTo>
                  <a:pt x="19720" y="12675"/>
                  <a:pt x="19720" y="12667"/>
                  <a:pt x="19720" y="12650"/>
                </a:cubicBezTo>
                <a:cubicBezTo>
                  <a:pt x="19720" y="12571"/>
                  <a:pt x="19720" y="12748"/>
                  <a:pt x="19720" y="12750"/>
                </a:cubicBezTo>
                <a:cubicBezTo>
                  <a:pt x="19720" y="12824"/>
                  <a:pt x="19746" y="12903"/>
                  <a:pt x="19769" y="12973"/>
                </a:cubicBezTo>
                <a:cubicBezTo>
                  <a:pt x="19797" y="13057"/>
                  <a:pt x="19816" y="13140"/>
                  <a:pt x="19844" y="13221"/>
                </a:cubicBezTo>
                <a:cubicBezTo>
                  <a:pt x="19865" y="13280"/>
                  <a:pt x="19850" y="13440"/>
                  <a:pt x="19893" y="13395"/>
                </a:cubicBezTo>
                <a:cubicBezTo>
                  <a:pt x="19893" y="13370"/>
                  <a:pt x="19893" y="13362"/>
                  <a:pt x="19893" y="13345"/>
                </a:cubicBezTo>
              </a:path>
              <a:path w="3448" h="1366">
                <a:moveTo>
                  <a:pt x="20092" y="12874"/>
                </a:moveTo>
                <a:cubicBezTo>
                  <a:pt x="20067" y="12874"/>
                  <a:pt x="20059" y="12874"/>
                  <a:pt x="20067" y="12849"/>
                </a:cubicBezTo>
                <a:cubicBezTo>
                  <a:pt x="20077" y="12819"/>
                  <a:pt x="20111" y="12804"/>
                  <a:pt x="20117" y="12849"/>
                </a:cubicBezTo>
                <a:cubicBezTo>
                  <a:pt x="20119" y="12866"/>
                  <a:pt x="20106" y="12962"/>
                  <a:pt x="20067" y="12923"/>
                </a:cubicBezTo>
                <a:cubicBezTo>
                  <a:pt x="20067" y="12915"/>
                  <a:pt x="20067" y="12906"/>
                  <a:pt x="20067" y="12898"/>
                </a:cubicBezTo>
              </a:path>
              <a:path w="3448" h="1366">
                <a:moveTo>
                  <a:pt x="20439" y="12402"/>
                </a:moveTo>
                <a:cubicBezTo>
                  <a:pt x="20402" y="12470"/>
                  <a:pt x="20372" y="12524"/>
                  <a:pt x="20365" y="12601"/>
                </a:cubicBezTo>
                <a:cubicBezTo>
                  <a:pt x="20365" y="12626"/>
                  <a:pt x="20365" y="12634"/>
                  <a:pt x="20365" y="12650"/>
                </a:cubicBezTo>
                <a:cubicBezTo>
                  <a:pt x="20450" y="12650"/>
                  <a:pt x="20416" y="12668"/>
                  <a:pt x="20489" y="12675"/>
                </a:cubicBezTo>
                <a:cubicBezTo>
                  <a:pt x="20540" y="12680"/>
                  <a:pt x="20574" y="12691"/>
                  <a:pt x="20613" y="12700"/>
                </a:cubicBezTo>
                <a:cubicBezTo>
                  <a:pt x="20666" y="12712"/>
                  <a:pt x="20704" y="12679"/>
                  <a:pt x="20712" y="12750"/>
                </a:cubicBezTo>
                <a:cubicBezTo>
                  <a:pt x="20719" y="12814"/>
                  <a:pt x="20713" y="12866"/>
                  <a:pt x="20687" y="12923"/>
                </a:cubicBezTo>
                <a:cubicBezTo>
                  <a:pt x="20659" y="12985"/>
                  <a:pt x="20613" y="13079"/>
                  <a:pt x="20563" y="13122"/>
                </a:cubicBezTo>
                <a:cubicBezTo>
                  <a:pt x="20526" y="13154"/>
                  <a:pt x="20483" y="13146"/>
                  <a:pt x="20439" y="13146"/>
                </a:cubicBezTo>
                <a:cubicBezTo>
                  <a:pt x="20439" y="13103"/>
                  <a:pt x="20438" y="13107"/>
                  <a:pt x="20464" y="13072"/>
                </a:cubicBezTo>
              </a:path>
              <a:path w="3448" h="1366">
                <a:moveTo>
                  <a:pt x="20886" y="12650"/>
                </a:moveTo>
                <a:cubicBezTo>
                  <a:pt x="20896" y="12691"/>
                  <a:pt x="20895" y="12690"/>
                  <a:pt x="20935" y="12700"/>
                </a:cubicBezTo>
                <a:cubicBezTo>
                  <a:pt x="20952" y="12751"/>
                  <a:pt x="20994" y="12801"/>
                  <a:pt x="21010" y="12849"/>
                </a:cubicBezTo>
                <a:cubicBezTo>
                  <a:pt x="21010" y="12857"/>
                  <a:pt x="21010" y="12866"/>
                  <a:pt x="21010" y="12874"/>
                </a:cubicBezTo>
              </a:path>
              <a:path w="3448" h="1366">
                <a:moveTo>
                  <a:pt x="20861" y="12502"/>
                </a:moveTo>
                <a:lnTo>
                  <a:pt x="20861" y="12502"/>
                </a:lnTo>
              </a:path>
              <a:path w="3448" h="1366">
                <a:moveTo>
                  <a:pt x="21109" y="12576"/>
                </a:moveTo>
                <a:cubicBezTo>
                  <a:pt x="21132" y="12630"/>
                  <a:pt x="21114" y="12676"/>
                  <a:pt x="21134" y="12725"/>
                </a:cubicBezTo>
                <a:cubicBezTo>
                  <a:pt x="21149" y="12762"/>
                  <a:pt x="21167" y="12810"/>
                  <a:pt x="21183" y="12849"/>
                </a:cubicBezTo>
                <a:cubicBezTo>
                  <a:pt x="21203" y="12897"/>
                  <a:pt x="21204" y="12935"/>
                  <a:pt x="21233" y="12973"/>
                </a:cubicBezTo>
                <a:cubicBezTo>
                  <a:pt x="21233" y="12911"/>
                  <a:pt x="21198" y="12706"/>
                  <a:pt x="21258" y="12675"/>
                </a:cubicBezTo>
                <a:cubicBezTo>
                  <a:pt x="21301" y="12653"/>
                  <a:pt x="21323" y="12695"/>
                  <a:pt x="21332" y="12700"/>
                </a:cubicBezTo>
                <a:cubicBezTo>
                  <a:pt x="21385" y="12727"/>
                  <a:pt x="21383" y="12740"/>
                  <a:pt x="21406" y="12799"/>
                </a:cubicBezTo>
                <a:cubicBezTo>
                  <a:pt x="21431" y="12863"/>
                  <a:pt x="21431" y="12905"/>
                  <a:pt x="21431" y="12973"/>
                </a:cubicBezTo>
                <a:cubicBezTo>
                  <a:pt x="21431" y="13006"/>
                  <a:pt x="21431" y="13039"/>
                  <a:pt x="21431" y="13072"/>
                </a:cubicBezTo>
                <a:cubicBezTo>
                  <a:pt x="21409" y="13065"/>
                  <a:pt x="21386" y="13033"/>
                  <a:pt x="21406" y="12998"/>
                </a:cubicBezTo>
                <a:cubicBezTo>
                  <a:pt x="21414" y="12990"/>
                  <a:pt x="21423" y="12981"/>
                  <a:pt x="21431" y="12973"/>
                </a:cubicBezTo>
              </a:path>
              <a:path w="3448" h="1366">
                <a:moveTo>
                  <a:pt x="21779" y="12154"/>
                </a:moveTo>
                <a:cubicBezTo>
                  <a:pt x="21756" y="12162"/>
                  <a:pt x="21740" y="12197"/>
                  <a:pt x="21729" y="12229"/>
                </a:cubicBezTo>
                <a:cubicBezTo>
                  <a:pt x="21710" y="12286"/>
                  <a:pt x="21686" y="12365"/>
                  <a:pt x="21679" y="12427"/>
                </a:cubicBezTo>
                <a:cubicBezTo>
                  <a:pt x="21667" y="12530"/>
                  <a:pt x="21635" y="12644"/>
                  <a:pt x="21654" y="12750"/>
                </a:cubicBezTo>
                <a:cubicBezTo>
                  <a:pt x="21668" y="12828"/>
                  <a:pt x="21673" y="12951"/>
                  <a:pt x="21704" y="13022"/>
                </a:cubicBezTo>
                <a:cubicBezTo>
                  <a:pt x="21729" y="13047"/>
                  <a:pt x="21737" y="13055"/>
                  <a:pt x="21754" y="13072"/>
                </a:cubicBezTo>
                <a:cubicBezTo>
                  <a:pt x="21797" y="13050"/>
                  <a:pt x="21826" y="12999"/>
                  <a:pt x="21853" y="12948"/>
                </a:cubicBezTo>
                <a:cubicBezTo>
                  <a:pt x="21884" y="12889"/>
                  <a:pt x="21914" y="12790"/>
                  <a:pt x="21927" y="12725"/>
                </a:cubicBezTo>
                <a:cubicBezTo>
                  <a:pt x="21942" y="12653"/>
                  <a:pt x="21965" y="12573"/>
                  <a:pt x="21977" y="12502"/>
                </a:cubicBezTo>
                <a:cubicBezTo>
                  <a:pt x="21984" y="12462"/>
                  <a:pt x="21965" y="12367"/>
                  <a:pt x="21952" y="12328"/>
                </a:cubicBezTo>
                <a:cubicBezTo>
                  <a:pt x="21936" y="12281"/>
                  <a:pt x="21899" y="12259"/>
                  <a:pt x="21853" y="12254"/>
                </a:cubicBezTo>
                <a:cubicBezTo>
                  <a:pt x="21812" y="12250"/>
                  <a:pt x="21814" y="12247"/>
                  <a:pt x="21803" y="12278"/>
                </a:cubicBezTo>
              </a:path>
              <a:path w="3448" h="1366">
                <a:moveTo>
                  <a:pt x="21456" y="12799"/>
                </a:moveTo>
                <a:cubicBezTo>
                  <a:pt x="21508" y="12786"/>
                  <a:pt x="21540" y="12740"/>
                  <a:pt x="21580" y="12700"/>
                </a:cubicBezTo>
                <a:cubicBezTo>
                  <a:pt x="21718" y="12562"/>
                  <a:pt x="21856" y="12429"/>
                  <a:pt x="22002" y="12303"/>
                </a:cubicBezTo>
                <a:cubicBezTo>
                  <a:pt x="22066" y="12239"/>
                  <a:pt x="22102" y="12214"/>
                  <a:pt x="22175" y="1220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37200" y="5929200"/>
            <a:ext cx="365040" cy="295560"/>
          </a:xfrm>
          <a:custGeom>
            <a:avLst/>
            <a:gdLst/>
            <a:ahLst/>
            <a:rect l="l" t="t" r="r" b="b"/>
            <a:pathLst>
              <a:path w="1018" h="820">
                <a:moveTo>
                  <a:pt x="16768" y="16966"/>
                </a:moveTo>
                <a:cubicBezTo>
                  <a:pt x="16792" y="16911"/>
                  <a:pt x="16799" y="16885"/>
                  <a:pt x="16842" y="16842"/>
                </a:cubicBezTo>
                <a:cubicBezTo>
                  <a:pt x="16904" y="16781"/>
                  <a:pt x="16949" y="16750"/>
                  <a:pt x="17016" y="16718"/>
                </a:cubicBezTo>
                <a:cubicBezTo>
                  <a:pt x="17082" y="16686"/>
                  <a:pt x="17101" y="16700"/>
                  <a:pt x="17165" y="16718"/>
                </a:cubicBezTo>
                <a:cubicBezTo>
                  <a:pt x="17198" y="16727"/>
                  <a:pt x="17254" y="16775"/>
                  <a:pt x="17264" y="16793"/>
                </a:cubicBezTo>
                <a:cubicBezTo>
                  <a:pt x="17289" y="16836"/>
                  <a:pt x="17295" y="16851"/>
                  <a:pt x="17264" y="16892"/>
                </a:cubicBezTo>
                <a:cubicBezTo>
                  <a:pt x="17270" y="16875"/>
                  <a:pt x="17287" y="16832"/>
                  <a:pt x="17314" y="16818"/>
                </a:cubicBezTo>
                <a:cubicBezTo>
                  <a:pt x="17362" y="16794"/>
                  <a:pt x="17414" y="16807"/>
                  <a:pt x="17462" y="16793"/>
                </a:cubicBezTo>
                <a:cubicBezTo>
                  <a:pt x="17516" y="16777"/>
                  <a:pt x="17598" y="16776"/>
                  <a:pt x="17661" y="16793"/>
                </a:cubicBezTo>
                <a:cubicBezTo>
                  <a:pt x="17673" y="16796"/>
                  <a:pt x="17780" y="16835"/>
                  <a:pt x="17785" y="16842"/>
                </a:cubicBezTo>
                <a:cubicBezTo>
                  <a:pt x="17813" y="16884"/>
                  <a:pt x="17773" y="16984"/>
                  <a:pt x="17760" y="17016"/>
                </a:cubicBezTo>
                <a:cubicBezTo>
                  <a:pt x="17721" y="17113"/>
                  <a:pt x="17710" y="17125"/>
                  <a:pt x="17636" y="17190"/>
                </a:cubicBezTo>
                <a:cubicBezTo>
                  <a:pt x="17581" y="17239"/>
                  <a:pt x="17591" y="17251"/>
                  <a:pt x="17611" y="17190"/>
                </a:cubicBezTo>
                <a:cubicBezTo>
                  <a:pt x="17611" y="17182"/>
                  <a:pt x="17611" y="17173"/>
                  <a:pt x="17611" y="17165"/>
                </a:cubicBezTo>
              </a:path>
              <a:path w="1018" h="820">
                <a:moveTo>
                  <a:pt x="16892" y="16768"/>
                </a:moveTo>
                <a:cubicBezTo>
                  <a:pt x="16899" y="16712"/>
                  <a:pt x="16913" y="16693"/>
                  <a:pt x="16942" y="16644"/>
                </a:cubicBezTo>
                <a:cubicBezTo>
                  <a:pt x="16972" y="16593"/>
                  <a:pt x="16979" y="16580"/>
                  <a:pt x="17041" y="16545"/>
                </a:cubicBezTo>
                <a:cubicBezTo>
                  <a:pt x="17074" y="16586"/>
                  <a:pt x="17088" y="16614"/>
                  <a:pt x="17090" y="16669"/>
                </a:cubicBezTo>
                <a:cubicBezTo>
                  <a:pt x="17093" y="16740"/>
                  <a:pt x="17086" y="16785"/>
                  <a:pt x="17115" y="16842"/>
                </a:cubicBezTo>
                <a:cubicBezTo>
                  <a:pt x="17138" y="16820"/>
                  <a:pt x="17158" y="16782"/>
                  <a:pt x="17190" y="16743"/>
                </a:cubicBezTo>
                <a:cubicBezTo>
                  <a:pt x="17241" y="16680"/>
                  <a:pt x="17265" y="16608"/>
                  <a:pt x="17314" y="16545"/>
                </a:cubicBezTo>
                <a:cubicBezTo>
                  <a:pt x="17358" y="16488"/>
                  <a:pt x="17369" y="16507"/>
                  <a:pt x="17413" y="16470"/>
                </a:cubicBezTo>
                <a:cubicBezTo>
                  <a:pt x="17436" y="16516"/>
                  <a:pt x="17460" y="16561"/>
                  <a:pt x="17462" y="16619"/>
                </a:cubicBezTo>
                <a:cubicBezTo>
                  <a:pt x="17467" y="16739"/>
                  <a:pt x="17427" y="16892"/>
                  <a:pt x="17487" y="16991"/>
                </a:cubicBezTo>
                <a:cubicBezTo>
                  <a:pt x="17501" y="16973"/>
                  <a:pt x="17532" y="16924"/>
                  <a:pt x="17562" y="16892"/>
                </a:cubicBezTo>
                <a:cubicBezTo>
                  <a:pt x="17610" y="16840"/>
                  <a:pt x="17657" y="16799"/>
                  <a:pt x="17711" y="16768"/>
                </a:cubicBezTo>
                <a:cubicBezTo>
                  <a:pt x="17746" y="16828"/>
                  <a:pt x="17735" y="16892"/>
                  <a:pt x="17735" y="16966"/>
                </a:cubicBezTo>
                <a:cubicBezTo>
                  <a:pt x="17735" y="17078"/>
                  <a:pt x="17740" y="17181"/>
                  <a:pt x="17760" y="17289"/>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491240" y="4348080"/>
            <a:ext cx="1430640" cy="930240"/>
          </a:xfrm>
          <a:custGeom>
            <a:avLst/>
            <a:gdLst/>
            <a:ahLst/>
            <a:rect l="l" t="t" r="r" b="b"/>
            <a:pathLst>
              <a:path w="3970" h="2581">
                <a:moveTo>
                  <a:pt x="21059" y="14015"/>
                </a:moveTo>
                <a:cubicBezTo>
                  <a:pt x="21022" y="14042"/>
                  <a:pt x="20995" y="14054"/>
                  <a:pt x="20960" y="14089"/>
                </a:cubicBezTo>
                <a:cubicBezTo>
                  <a:pt x="20916" y="14133"/>
                  <a:pt x="20897" y="14190"/>
                  <a:pt x="20861" y="14238"/>
                </a:cubicBezTo>
                <a:cubicBezTo>
                  <a:pt x="20837" y="14271"/>
                  <a:pt x="20821" y="14274"/>
                  <a:pt x="20811" y="14312"/>
                </a:cubicBezTo>
                <a:cubicBezTo>
                  <a:pt x="20875" y="14312"/>
                  <a:pt x="20922" y="14297"/>
                  <a:pt x="20985" y="14288"/>
                </a:cubicBezTo>
                <a:cubicBezTo>
                  <a:pt x="21051" y="14279"/>
                  <a:pt x="21098" y="14299"/>
                  <a:pt x="21158" y="14312"/>
                </a:cubicBezTo>
                <a:cubicBezTo>
                  <a:pt x="21226" y="14327"/>
                  <a:pt x="21219" y="14335"/>
                  <a:pt x="21258" y="14362"/>
                </a:cubicBezTo>
                <a:cubicBezTo>
                  <a:pt x="21274" y="14373"/>
                  <a:pt x="21302" y="14423"/>
                  <a:pt x="21282" y="14461"/>
                </a:cubicBezTo>
                <a:cubicBezTo>
                  <a:pt x="21262" y="14498"/>
                  <a:pt x="21185" y="14563"/>
                  <a:pt x="21158" y="14585"/>
                </a:cubicBezTo>
                <a:cubicBezTo>
                  <a:pt x="21108" y="14625"/>
                  <a:pt x="21049" y="14660"/>
                  <a:pt x="20985" y="14660"/>
                </a:cubicBezTo>
              </a:path>
              <a:path w="3970" h="2581">
                <a:moveTo>
                  <a:pt x="21431" y="14139"/>
                </a:moveTo>
                <a:cubicBezTo>
                  <a:pt x="21395" y="14221"/>
                  <a:pt x="21423" y="14191"/>
                  <a:pt x="21431" y="14263"/>
                </a:cubicBezTo>
                <a:cubicBezTo>
                  <a:pt x="21436" y="14307"/>
                  <a:pt x="21475" y="14352"/>
                  <a:pt x="21506" y="14387"/>
                </a:cubicBezTo>
                <a:cubicBezTo>
                  <a:pt x="21543" y="14429"/>
                  <a:pt x="21511" y="14440"/>
                  <a:pt x="21555" y="14412"/>
                </a:cubicBezTo>
              </a:path>
              <a:path w="3970" h="2581">
                <a:moveTo>
                  <a:pt x="21357" y="14039"/>
                </a:moveTo>
                <a:lnTo>
                  <a:pt x="21357" y="14039"/>
                </a:lnTo>
              </a:path>
              <a:path w="3970" h="2581">
                <a:moveTo>
                  <a:pt x="21605" y="13940"/>
                </a:moveTo>
                <a:cubicBezTo>
                  <a:pt x="21605" y="14028"/>
                  <a:pt x="21616" y="14069"/>
                  <a:pt x="21630" y="14139"/>
                </a:cubicBezTo>
                <a:cubicBezTo>
                  <a:pt x="21641" y="14192"/>
                  <a:pt x="21649" y="14260"/>
                  <a:pt x="21654" y="14312"/>
                </a:cubicBezTo>
                <a:cubicBezTo>
                  <a:pt x="21654" y="14337"/>
                  <a:pt x="21654" y="14345"/>
                  <a:pt x="21679" y="14337"/>
                </a:cubicBezTo>
                <a:cubicBezTo>
                  <a:pt x="21666" y="14287"/>
                  <a:pt x="21654" y="14274"/>
                  <a:pt x="21654" y="14213"/>
                </a:cubicBezTo>
                <a:cubicBezTo>
                  <a:pt x="21654" y="14165"/>
                  <a:pt x="21655" y="14104"/>
                  <a:pt x="21679" y="14064"/>
                </a:cubicBezTo>
                <a:cubicBezTo>
                  <a:pt x="21705" y="14021"/>
                  <a:pt x="21757" y="13995"/>
                  <a:pt x="21803" y="13990"/>
                </a:cubicBezTo>
                <a:cubicBezTo>
                  <a:pt x="21847" y="13986"/>
                  <a:pt x="21960" y="14071"/>
                  <a:pt x="21977" y="14089"/>
                </a:cubicBezTo>
                <a:cubicBezTo>
                  <a:pt x="22017" y="14131"/>
                  <a:pt x="22024" y="14237"/>
                  <a:pt x="22027" y="14288"/>
                </a:cubicBezTo>
                <a:cubicBezTo>
                  <a:pt x="22028" y="14308"/>
                  <a:pt x="22027" y="14425"/>
                  <a:pt x="22027" y="14362"/>
                </a:cubicBezTo>
                <a:cubicBezTo>
                  <a:pt x="22027" y="14354"/>
                  <a:pt x="22027" y="14345"/>
                  <a:pt x="22027" y="14337"/>
                </a:cubicBezTo>
              </a:path>
              <a:path w="3970" h="2581">
                <a:moveTo>
                  <a:pt x="21779" y="13618"/>
                </a:moveTo>
                <a:cubicBezTo>
                  <a:pt x="21836" y="13574"/>
                  <a:pt x="21859" y="13595"/>
                  <a:pt x="21927" y="13568"/>
                </a:cubicBezTo>
                <a:cubicBezTo>
                  <a:pt x="21971" y="13550"/>
                  <a:pt x="21998" y="13543"/>
                  <a:pt x="22051" y="13543"/>
                </a:cubicBezTo>
                <a:cubicBezTo>
                  <a:pt x="22084" y="13543"/>
                  <a:pt x="22046" y="13595"/>
                  <a:pt x="22027" y="13568"/>
                </a:cubicBezTo>
                <a:cubicBezTo>
                  <a:pt x="22027" y="13540"/>
                  <a:pt x="22029" y="13530"/>
                  <a:pt x="22051" y="13519"/>
                </a:cubicBezTo>
              </a:path>
              <a:path w="3970" h="2581">
                <a:moveTo>
                  <a:pt x="22175" y="12973"/>
                </a:moveTo>
                <a:cubicBezTo>
                  <a:pt x="22175" y="13062"/>
                  <a:pt x="22185" y="13138"/>
                  <a:pt x="22200" y="13221"/>
                </a:cubicBezTo>
                <a:cubicBezTo>
                  <a:pt x="22211" y="13285"/>
                  <a:pt x="22221" y="13356"/>
                  <a:pt x="22225" y="13419"/>
                </a:cubicBezTo>
                <a:cubicBezTo>
                  <a:pt x="22229" y="13487"/>
                  <a:pt x="22235" y="13529"/>
                  <a:pt x="22250" y="13593"/>
                </a:cubicBezTo>
                <a:cubicBezTo>
                  <a:pt x="22260" y="13637"/>
                  <a:pt x="22257" y="13749"/>
                  <a:pt x="22225" y="13717"/>
                </a:cubicBezTo>
                <a:cubicBezTo>
                  <a:pt x="22225" y="13709"/>
                  <a:pt x="22225" y="13700"/>
                  <a:pt x="22225" y="13692"/>
                </a:cubicBezTo>
              </a:path>
              <a:path w="3970" h="2581">
                <a:moveTo>
                  <a:pt x="22547" y="13643"/>
                </a:moveTo>
                <a:cubicBezTo>
                  <a:pt x="22638" y="13643"/>
                  <a:pt x="22729" y="13643"/>
                  <a:pt x="22820" y="13643"/>
                </a:cubicBezTo>
              </a:path>
              <a:path w="3970" h="2581">
                <a:moveTo>
                  <a:pt x="22622" y="13816"/>
                </a:moveTo>
                <a:cubicBezTo>
                  <a:pt x="22706" y="13816"/>
                  <a:pt x="22773" y="13813"/>
                  <a:pt x="22845" y="13791"/>
                </a:cubicBezTo>
                <a:cubicBezTo>
                  <a:pt x="22886" y="13779"/>
                  <a:pt x="22951" y="13791"/>
                  <a:pt x="22994" y="13791"/>
                </a:cubicBezTo>
              </a:path>
              <a:path w="3970" h="2581">
                <a:moveTo>
                  <a:pt x="23316" y="13171"/>
                </a:moveTo>
                <a:cubicBezTo>
                  <a:pt x="23308" y="13179"/>
                  <a:pt x="23300" y="13188"/>
                  <a:pt x="23292" y="13196"/>
                </a:cubicBezTo>
                <a:cubicBezTo>
                  <a:pt x="23301" y="13158"/>
                  <a:pt x="23327" y="13134"/>
                  <a:pt x="23366" y="13122"/>
                </a:cubicBezTo>
                <a:cubicBezTo>
                  <a:pt x="23413" y="13107"/>
                  <a:pt x="23433" y="13115"/>
                  <a:pt x="23465" y="13122"/>
                </a:cubicBezTo>
                <a:cubicBezTo>
                  <a:pt x="23489" y="13127"/>
                  <a:pt x="23509" y="13162"/>
                  <a:pt x="23490" y="13196"/>
                </a:cubicBezTo>
                <a:cubicBezTo>
                  <a:pt x="23469" y="13234"/>
                  <a:pt x="23449" y="13262"/>
                  <a:pt x="23416" y="13295"/>
                </a:cubicBezTo>
                <a:cubicBezTo>
                  <a:pt x="23408" y="13303"/>
                  <a:pt x="23399" y="13312"/>
                  <a:pt x="23391" y="13320"/>
                </a:cubicBezTo>
                <a:cubicBezTo>
                  <a:pt x="23404" y="13360"/>
                  <a:pt x="23438" y="13366"/>
                  <a:pt x="23490" y="13370"/>
                </a:cubicBezTo>
                <a:cubicBezTo>
                  <a:pt x="23534" y="13374"/>
                  <a:pt x="23574" y="13379"/>
                  <a:pt x="23614" y="13395"/>
                </a:cubicBezTo>
                <a:cubicBezTo>
                  <a:pt x="23664" y="13414"/>
                  <a:pt x="23697" y="13420"/>
                  <a:pt x="23713" y="13469"/>
                </a:cubicBezTo>
                <a:cubicBezTo>
                  <a:pt x="23730" y="13519"/>
                  <a:pt x="23708" y="13575"/>
                  <a:pt x="23688" y="13618"/>
                </a:cubicBezTo>
                <a:cubicBezTo>
                  <a:pt x="23643" y="13716"/>
                  <a:pt x="23576" y="13732"/>
                  <a:pt x="23490" y="13791"/>
                </a:cubicBezTo>
                <a:cubicBezTo>
                  <a:pt x="23441" y="13825"/>
                  <a:pt x="23440" y="13821"/>
                  <a:pt x="23391" y="13791"/>
                </a:cubicBezTo>
              </a:path>
              <a:path w="3970" h="2581">
                <a:moveTo>
                  <a:pt x="23763" y="13047"/>
                </a:moveTo>
                <a:cubicBezTo>
                  <a:pt x="23735" y="13023"/>
                  <a:pt x="23656" y="12986"/>
                  <a:pt x="23639" y="12948"/>
                </a:cubicBezTo>
                <a:cubicBezTo>
                  <a:pt x="23624" y="12913"/>
                  <a:pt x="23682" y="12838"/>
                  <a:pt x="23713" y="12824"/>
                </a:cubicBezTo>
                <a:cubicBezTo>
                  <a:pt x="23780" y="12794"/>
                  <a:pt x="23906" y="12830"/>
                  <a:pt x="23961" y="12849"/>
                </a:cubicBezTo>
                <a:cubicBezTo>
                  <a:pt x="23990" y="12859"/>
                  <a:pt x="24006" y="12882"/>
                  <a:pt x="24011" y="12923"/>
                </a:cubicBezTo>
                <a:cubicBezTo>
                  <a:pt x="24018" y="12989"/>
                  <a:pt x="24015" y="13014"/>
                  <a:pt x="24011" y="13097"/>
                </a:cubicBezTo>
                <a:cubicBezTo>
                  <a:pt x="24008" y="13154"/>
                  <a:pt x="23991" y="13192"/>
                  <a:pt x="23986" y="13246"/>
                </a:cubicBezTo>
                <a:cubicBezTo>
                  <a:pt x="23982" y="13287"/>
                  <a:pt x="23979" y="13285"/>
                  <a:pt x="24011" y="13295"/>
                </a:cubicBezTo>
              </a:path>
              <a:path w="3970" h="2581">
                <a:moveTo>
                  <a:pt x="24185" y="13271"/>
                </a:moveTo>
                <a:cubicBezTo>
                  <a:pt x="24177" y="13263"/>
                  <a:pt x="24168" y="13254"/>
                  <a:pt x="24160" y="13246"/>
                </a:cubicBezTo>
                <a:cubicBezTo>
                  <a:pt x="24198" y="13233"/>
                  <a:pt x="24180" y="13221"/>
                  <a:pt x="24234" y="13221"/>
                </a:cubicBezTo>
                <a:cubicBezTo>
                  <a:pt x="24242" y="13221"/>
                  <a:pt x="24251" y="13221"/>
                  <a:pt x="24259" y="13221"/>
                </a:cubicBezTo>
                <a:cubicBezTo>
                  <a:pt x="24259" y="13247"/>
                  <a:pt x="24252" y="13308"/>
                  <a:pt x="24234" y="13320"/>
                </a:cubicBezTo>
                <a:cubicBezTo>
                  <a:pt x="24194" y="13347"/>
                  <a:pt x="24174" y="13349"/>
                  <a:pt x="24135" y="13320"/>
                </a:cubicBezTo>
              </a:path>
              <a:path w="3970" h="2581">
                <a:moveTo>
                  <a:pt x="24284" y="12675"/>
                </a:moveTo>
                <a:cubicBezTo>
                  <a:pt x="24252" y="12643"/>
                  <a:pt x="24231" y="12618"/>
                  <a:pt x="24209" y="12601"/>
                </a:cubicBezTo>
                <a:cubicBezTo>
                  <a:pt x="24148" y="12554"/>
                  <a:pt x="24168" y="12553"/>
                  <a:pt x="24185" y="12502"/>
                </a:cubicBezTo>
                <a:cubicBezTo>
                  <a:pt x="24195" y="12473"/>
                  <a:pt x="24218" y="12457"/>
                  <a:pt x="24259" y="12452"/>
                </a:cubicBezTo>
                <a:cubicBezTo>
                  <a:pt x="24327" y="12444"/>
                  <a:pt x="24371" y="12463"/>
                  <a:pt x="24433" y="12477"/>
                </a:cubicBezTo>
                <a:cubicBezTo>
                  <a:pt x="24450" y="12481"/>
                  <a:pt x="24494" y="12523"/>
                  <a:pt x="24507" y="12551"/>
                </a:cubicBezTo>
                <a:cubicBezTo>
                  <a:pt x="24519" y="12577"/>
                  <a:pt x="24528" y="12654"/>
                  <a:pt x="24532" y="12675"/>
                </a:cubicBezTo>
                <a:cubicBezTo>
                  <a:pt x="24561" y="12821"/>
                  <a:pt x="24523" y="12977"/>
                  <a:pt x="24557" y="13122"/>
                </a:cubicBezTo>
                <a:cubicBezTo>
                  <a:pt x="24570" y="13179"/>
                  <a:pt x="24537" y="13179"/>
                  <a:pt x="24557" y="13171"/>
                </a:cubicBezTo>
                <a:cubicBezTo>
                  <a:pt x="24590" y="13157"/>
                  <a:pt x="24581" y="13165"/>
                  <a:pt x="24581" y="13122"/>
                </a:cubicBezTo>
              </a:path>
              <a:path w="3970" h="2581">
                <a:moveTo>
                  <a:pt x="24656" y="12303"/>
                </a:moveTo>
                <a:cubicBezTo>
                  <a:pt x="24604" y="12290"/>
                  <a:pt x="24614" y="12267"/>
                  <a:pt x="24581" y="12229"/>
                </a:cubicBezTo>
                <a:cubicBezTo>
                  <a:pt x="24537" y="12179"/>
                  <a:pt x="24565" y="12178"/>
                  <a:pt x="24581" y="12129"/>
                </a:cubicBezTo>
                <a:cubicBezTo>
                  <a:pt x="24598" y="12076"/>
                  <a:pt x="24653" y="12080"/>
                  <a:pt x="24705" y="12080"/>
                </a:cubicBezTo>
                <a:cubicBezTo>
                  <a:pt x="24747" y="12080"/>
                  <a:pt x="24776" y="12115"/>
                  <a:pt x="24780" y="12154"/>
                </a:cubicBezTo>
                <a:cubicBezTo>
                  <a:pt x="24787" y="12213"/>
                  <a:pt x="24749" y="12232"/>
                  <a:pt x="24730" y="12278"/>
                </a:cubicBezTo>
                <a:cubicBezTo>
                  <a:pt x="24707" y="12336"/>
                  <a:pt x="24700" y="12328"/>
                  <a:pt x="24631" y="1232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180040" y="4848120"/>
            <a:ext cx="2035080" cy="679680"/>
          </a:xfrm>
          <a:custGeom>
            <a:avLst/>
            <a:gdLst/>
            <a:ahLst/>
            <a:rect l="l" t="t" r="r" b="b"/>
            <a:pathLst>
              <a:path w="5656" h="1886">
                <a:moveTo>
                  <a:pt x="18628" y="13643"/>
                </a:moveTo>
                <a:cubicBezTo>
                  <a:pt x="18667" y="13652"/>
                  <a:pt x="18684" y="13667"/>
                  <a:pt x="18728" y="13667"/>
                </a:cubicBezTo>
                <a:cubicBezTo>
                  <a:pt x="18833" y="13667"/>
                  <a:pt x="18923" y="13657"/>
                  <a:pt x="19025" y="13643"/>
                </a:cubicBezTo>
                <a:cubicBezTo>
                  <a:pt x="19098" y="13633"/>
                  <a:pt x="19179" y="13627"/>
                  <a:pt x="19248" y="13618"/>
                </a:cubicBezTo>
                <a:cubicBezTo>
                  <a:pt x="19343" y="13606"/>
                  <a:pt x="19428" y="13582"/>
                  <a:pt x="19521" y="13568"/>
                </a:cubicBezTo>
                <a:cubicBezTo>
                  <a:pt x="19606" y="13555"/>
                  <a:pt x="19688" y="13569"/>
                  <a:pt x="19769" y="13543"/>
                </a:cubicBezTo>
                <a:cubicBezTo>
                  <a:pt x="19836" y="13521"/>
                  <a:pt x="19897" y="13499"/>
                  <a:pt x="19968" y="13494"/>
                </a:cubicBezTo>
                <a:cubicBezTo>
                  <a:pt x="20003" y="13494"/>
                  <a:pt x="20020" y="13489"/>
                  <a:pt x="20042" y="13469"/>
                </a:cubicBezTo>
              </a:path>
              <a:path w="5656" h="1886">
                <a:moveTo>
                  <a:pt x="19000" y="14064"/>
                </a:moveTo>
                <a:cubicBezTo>
                  <a:pt x="19031" y="14136"/>
                  <a:pt x="19062" y="14209"/>
                  <a:pt x="19075" y="14288"/>
                </a:cubicBezTo>
                <a:cubicBezTo>
                  <a:pt x="19084" y="14341"/>
                  <a:pt x="19097" y="14415"/>
                  <a:pt x="19124" y="14461"/>
                </a:cubicBezTo>
                <a:cubicBezTo>
                  <a:pt x="19147" y="14484"/>
                  <a:pt x="19155" y="14488"/>
                  <a:pt x="19149" y="14511"/>
                </a:cubicBezTo>
              </a:path>
              <a:path w="5656" h="1886">
                <a:moveTo>
                  <a:pt x="19248" y="14039"/>
                </a:moveTo>
                <a:cubicBezTo>
                  <a:pt x="19300" y="13995"/>
                  <a:pt x="19316" y="13990"/>
                  <a:pt x="19348" y="13965"/>
                </a:cubicBezTo>
                <a:cubicBezTo>
                  <a:pt x="19366" y="13951"/>
                  <a:pt x="19451" y="13906"/>
                  <a:pt x="19472" y="13915"/>
                </a:cubicBezTo>
                <a:cubicBezTo>
                  <a:pt x="19512" y="13933"/>
                  <a:pt x="19496" y="14006"/>
                  <a:pt x="19496" y="14039"/>
                </a:cubicBezTo>
                <a:cubicBezTo>
                  <a:pt x="19496" y="14104"/>
                  <a:pt x="19461" y="14134"/>
                  <a:pt x="19447" y="14188"/>
                </a:cubicBezTo>
                <a:cubicBezTo>
                  <a:pt x="19482" y="14176"/>
                  <a:pt x="19492" y="14164"/>
                  <a:pt x="19546" y="14139"/>
                </a:cubicBezTo>
                <a:cubicBezTo>
                  <a:pt x="19578" y="14124"/>
                  <a:pt x="19656" y="14092"/>
                  <a:pt x="19695" y="14114"/>
                </a:cubicBezTo>
                <a:cubicBezTo>
                  <a:pt x="19735" y="14136"/>
                  <a:pt x="19720" y="14200"/>
                  <a:pt x="19720" y="14238"/>
                </a:cubicBezTo>
                <a:cubicBezTo>
                  <a:pt x="19720" y="14294"/>
                  <a:pt x="19697" y="14342"/>
                  <a:pt x="19670" y="14387"/>
                </a:cubicBezTo>
              </a:path>
              <a:path w="5656" h="1886">
                <a:moveTo>
                  <a:pt x="19844" y="13643"/>
                </a:moveTo>
                <a:cubicBezTo>
                  <a:pt x="19818" y="13702"/>
                  <a:pt x="19799" y="13751"/>
                  <a:pt x="19794" y="13816"/>
                </a:cubicBezTo>
                <a:cubicBezTo>
                  <a:pt x="19787" y="13911"/>
                  <a:pt x="19806" y="13888"/>
                  <a:pt x="19844" y="13965"/>
                </a:cubicBezTo>
                <a:cubicBezTo>
                  <a:pt x="19844" y="13990"/>
                  <a:pt x="19844" y="13998"/>
                  <a:pt x="19869" y="13990"/>
                </a:cubicBezTo>
                <a:cubicBezTo>
                  <a:pt x="19880" y="13946"/>
                  <a:pt x="19906" y="13914"/>
                  <a:pt x="19918" y="13866"/>
                </a:cubicBezTo>
                <a:cubicBezTo>
                  <a:pt x="19931" y="13814"/>
                  <a:pt x="19943" y="13773"/>
                  <a:pt x="19943" y="13717"/>
                </a:cubicBezTo>
                <a:cubicBezTo>
                  <a:pt x="19943" y="13677"/>
                  <a:pt x="19919" y="13651"/>
                  <a:pt x="19893" y="13643"/>
                </a:cubicBezTo>
                <a:cubicBezTo>
                  <a:pt x="19893" y="13688"/>
                  <a:pt x="19915" y="13702"/>
                  <a:pt x="19918" y="13742"/>
                </a:cubicBezTo>
                <a:cubicBezTo>
                  <a:pt x="19923" y="13810"/>
                  <a:pt x="19940" y="13877"/>
                  <a:pt x="19968" y="13940"/>
                </a:cubicBezTo>
                <a:cubicBezTo>
                  <a:pt x="19998" y="14008"/>
                  <a:pt x="20026" y="14069"/>
                  <a:pt x="20042" y="14139"/>
                </a:cubicBezTo>
                <a:cubicBezTo>
                  <a:pt x="20057" y="14202"/>
                  <a:pt x="20062" y="14253"/>
                  <a:pt x="20017" y="14238"/>
                </a:cubicBezTo>
              </a:path>
              <a:path w="5656" h="1886">
                <a:moveTo>
                  <a:pt x="17636" y="13816"/>
                </a:moveTo>
                <a:cubicBezTo>
                  <a:pt x="17567" y="13822"/>
                  <a:pt x="17508" y="13827"/>
                  <a:pt x="17438" y="13841"/>
                </a:cubicBezTo>
                <a:cubicBezTo>
                  <a:pt x="17396" y="13849"/>
                  <a:pt x="17310" y="13875"/>
                  <a:pt x="17264" y="13891"/>
                </a:cubicBezTo>
                <a:cubicBezTo>
                  <a:pt x="17196" y="13915"/>
                  <a:pt x="17135" y="13926"/>
                  <a:pt x="17066" y="13940"/>
                </a:cubicBezTo>
                <a:cubicBezTo>
                  <a:pt x="16979" y="13957"/>
                  <a:pt x="16877" y="13964"/>
                  <a:pt x="16793" y="13990"/>
                </a:cubicBezTo>
                <a:cubicBezTo>
                  <a:pt x="16699" y="14019"/>
                  <a:pt x="16593" y="14030"/>
                  <a:pt x="16495" y="14039"/>
                </a:cubicBezTo>
                <a:cubicBezTo>
                  <a:pt x="16402" y="14048"/>
                  <a:pt x="16313" y="14061"/>
                  <a:pt x="16222" y="14064"/>
                </a:cubicBezTo>
                <a:cubicBezTo>
                  <a:pt x="16135" y="14066"/>
                  <a:pt x="16059" y="14081"/>
                  <a:pt x="15974" y="14089"/>
                </a:cubicBezTo>
                <a:cubicBezTo>
                  <a:pt x="15880" y="14098"/>
                  <a:pt x="15797" y="14111"/>
                  <a:pt x="15701" y="14114"/>
                </a:cubicBezTo>
                <a:cubicBezTo>
                  <a:pt x="15531" y="14120"/>
                  <a:pt x="15372" y="14100"/>
                  <a:pt x="15205" y="14089"/>
                </a:cubicBezTo>
                <a:cubicBezTo>
                  <a:pt x="15071" y="14081"/>
                  <a:pt x="14939" y="14076"/>
                  <a:pt x="14808" y="14064"/>
                </a:cubicBezTo>
                <a:cubicBezTo>
                  <a:pt x="14735" y="14057"/>
                  <a:pt x="14656" y="14035"/>
                  <a:pt x="14585" y="14039"/>
                </a:cubicBezTo>
                <a:cubicBezTo>
                  <a:pt x="14525" y="14043"/>
                  <a:pt x="14461" y="14077"/>
                  <a:pt x="14412" y="14089"/>
                </a:cubicBezTo>
                <a:cubicBezTo>
                  <a:pt x="14404" y="14089"/>
                  <a:pt x="14395" y="14089"/>
                  <a:pt x="14387" y="14089"/>
                </a:cubicBezTo>
              </a:path>
              <a:path w="5656" h="1886">
                <a:moveTo>
                  <a:pt x="15205" y="14709"/>
                </a:moveTo>
                <a:cubicBezTo>
                  <a:pt x="15205" y="14762"/>
                  <a:pt x="15221" y="14783"/>
                  <a:pt x="15230" y="14833"/>
                </a:cubicBezTo>
                <a:cubicBezTo>
                  <a:pt x="15245" y="14915"/>
                  <a:pt x="15271" y="15000"/>
                  <a:pt x="15304" y="15081"/>
                </a:cubicBezTo>
                <a:cubicBezTo>
                  <a:pt x="15332" y="15150"/>
                  <a:pt x="15350" y="15242"/>
                  <a:pt x="15379" y="15304"/>
                </a:cubicBezTo>
                <a:cubicBezTo>
                  <a:pt x="15394" y="15336"/>
                  <a:pt x="15426" y="15347"/>
                  <a:pt x="15453" y="15354"/>
                </a:cubicBezTo>
              </a:path>
              <a:path w="5656" h="1886">
                <a:moveTo>
                  <a:pt x="15478" y="14709"/>
                </a:moveTo>
                <a:cubicBezTo>
                  <a:pt x="15488" y="14695"/>
                  <a:pt x="15557" y="14565"/>
                  <a:pt x="15602" y="14585"/>
                </a:cubicBezTo>
                <a:cubicBezTo>
                  <a:pt x="15646" y="14605"/>
                  <a:pt x="15685" y="14610"/>
                  <a:pt x="15701" y="14660"/>
                </a:cubicBezTo>
                <a:cubicBezTo>
                  <a:pt x="15715" y="14704"/>
                  <a:pt x="15726" y="14731"/>
                  <a:pt x="15726" y="14784"/>
                </a:cubicBezTo>
                <a:cubicBezTo>
                  <a:pt x="15726" y="14792"/>
                  <a:pt x="15726" y="14800"/>
                  <a:pt x="15726" y="14808"/>
                </a:cubicBezTo>
                <a:cubicBezTo>
                  <a:pt x="15739" y="14770"/>
                  <a:pt x="15764" y="14793"/>
                  <a:pt x="15801" y="14759"/>
                </a:cubicBezTo>
                <a:cubicBezTo>
                  <a:pt x="15833" y="14730"/>
                  <a:pt x="15879" y="14712"/>
                  <a:pt x="15925" y="14709"/>
                </a:cubicBezTo>
                <a:cubicBezTo>
                  <a:pt x="15988" y="14705"/>
                  <a:pt x="16023" y="14707"/>
                  <a:pt x="16049" y="14759"/>
                </a:cubicBezTo>
                <a:cubicBezTo>
                  <a:pt x="16075" y="14812"/>
                  <a:pt x="16089" y="14897"/>
                  <a:pt x="16073" y="14957"/>
                </a:cubicBezTo>
                <a:cubicBezTo>
                  <a:pt x="16065" y="14987"/>
                  <a:pt x="16028" y="15091"/>
                  <a:pt x="15999" y="15106"/>
                </a:cubicBezTo>
                <a:cubicBezTo>
                  <a:pt x="15963" y="15124"/>
                  <a:pt x="15956" y="15102"/>
                  <a:pt x="15949" y="15081"/>
                </a:cubicBezTo>
              </a:path>
              <a:path w="5656" h="1886">
                <a:moveTo>
                  <a:pt x="16173" y="14362"/>
                </a:moveTo>
                <a:cubicBezTo>
                  <a:pt x="16144" y="14400"/>
                  <a:pt x="16139" y="14434"/>
                  <a:pt x="16148" y="14486"/>
                </a:cubicBezTo>
                <a:cubicBezTo>
                  <a:pt x="16158" y="14547"/>
                  <a:pt x="16149" y="14652"/>
                  <a:pt x="16222" y="14660"/>
                </a:cubicBezTo>
                <a:cubicBezTo>
                  <a:pt x="16264" y="14665"/>
                  <a:pt x="16283" y="14651"/>
                  <a:pt x="16297" y="14610"/>
                </a:cubicBezTo>
                <a:cubicBezTo>
                  <a:pt x="16314" y="14559"/>
                  <a:pt x="16321" y="14517"/>
                  <a:pt x="16321" y="14461"/>
                </a:cubicBezTo>
                <a:cubicBezTo>
                  <a:pt x="16321" y="14399"/>
                  <a:pt x="16338" y="14334"/>
                  <a:pt x="16297" y="14288"/>
                </a:cubicBezTo>
                <a:cubicBezTo>
                  <a:pt x="16254" y="14240"/>
                  <a:pt x="16257" y="14276"/>
                  <a:pt x="16222" y="14288"/>
                </a:cubicBezTo>
                <a:cubicBezTo>
                  <a:pt x="16250" y="14297"/>
                  <a:pt x="16261" y="14345"/>
                  <a:pt x="16272" y="14387"/>
                </a:cubicBezTo>
                <a:cubicBezTo>
                  <a:pt x="16290" y="14459"/>
                  <a:pt x="16335" y="14518"/>
                  <a:pt x="16371" y="14585"/>
                </a:cubicBezTo>
                <a:cubicBezTo>
                  <a:pt x="16394" y="14628"/>
                  <a:pt x="16459" y="14690"/>
                  <a:pt x="16470" y="14734"/>
                </a:cubicBezTo>
                <a:cubicBezTo>
                  <a:pt x="16486" y="14794"/>
                  <a:pt x="16516" y="14848"/>
                  <a:pt x="16520" y="14908"/>
                </a:cubicBezTo>
                <a:cubicBezTo>
                  <a:pt x="16524" y="14969"/>
                  <a:pt x="16529" y="15005"/>
                  <a:pt x="16545" y="15056"/>
                </a:cubicBezTo>
                <a:cubicBezTo>
                  <a:pt x="16545" y="15064"/>
                  <a:pt x="16545" y="15073"/>
                  <a:pt x="16545" y="1508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62720" y="5545080"/>
            <a:ext cx="492120" cy="438120"/>
          </a:xfrm>
          <a:custGeom>
            <a:avLst/>
            <a:gdLst/>
            <a:ahLst/>
            <a:rect l="l" t="t" r="r" b="b"/>
            <a:pathLst>
              <a:path w="1366" h="1216">
                <a:moveTo>
                  <a:pt x="15553" y="16495"/>
                </a:moveTo>
                <a:cubicBezTo>
                  <a:pt x="15514" y="16495"/>
                  <a:pt x="15483" y="16511"/>
                  <a:pt x="15478" y="16470"/>
                </a:cubicBezTo>
                <a:cubicBezTo>
                  <a:pt x="15471" y="16415"/>
                  <a:pt x="15453" y="16447"/>
                  <a:pt x="15478" y="16396"/>
                </a:cubicBezTo>
                <a:cubicBezTo>
                  <a:pt x="15485" y="16398"/>
                  <a:pt x="15553" y="16446"/>
                  <a:pt x="15528" y="16470"/>
                </a:cubicBezTo>
                <a:cubicBezTo>
                  <a:pt x="15503" y="16494"/>
                  <a:pt x="15535" y="16440"/>
                  <a:pt x="15553" y="16495"/>
                </a:cubicBezTo>
              </a:path>
              <a:path w="1366" h="1216">
                <a:moveTo>
                  <a:pt x="15677" y="15726"/>
                </a:moveTo>
                <a:cubicBezTo>
                  <a:pt x="15677" y="15778"/>
                  <a:pt x="15693" y="15801"/>
                  <a:pt x="15701" y="15850"/>
                </a:cubicBezTo>
                <a:cubicBezTo>
                  <a:pt x="15715" y="15935"/>
                  <a:pt x="15748" y="16014"/>
                  <a:pt x="15776" y="16098"/>
                </a:cubicBezTo>
                <a:cubicBezTo>
                  <a:pt x="15818" y="16223"/>
                  <a:pt x="15872" y="16363"/>
                  <a:pt x="15949" y="16470"/>
                </a:cubicBezTo>
                <a:cubicBezTo>
                  <a:pt x="15973" y="16504"/>
                  <a:pt x="16030" y="16600"/>
                  <a:pt x="16073" y="16619"/>
                </a:cubicBezTo>
                <a:cubicBezTo>
                  <a:pt x="16088" y="16626"/>
                  <a:pt x="16168" y="16587"/>
                  <a:pt x="16173" y="16570"/>
                </a:cubicBezTo>
                <a:cubicBezTo>
                  <a:pt x="16195" y="16499"/>
                  <a:pt x="16197" y="16423"/>
                  <a:pt x="16197" y="16346"/>
                </a:cubicBezTo>
                <a:cubicBezTo>
                  <a:pt x="16197" y="16310"/>
                  <a:pt x="16204" y="16218"/>
                  <a:pt x="16173" y="16197"/>
                </a:cubicBezTo>
                <a:cubicBezTo>
                  <a:pt x="16138" y="16174"/>
                  <a:pt x="16089" y="16222"/>
                  <a:pt x="16073" y="16247"/>
                </a:cubicBezTo>
                <a:cubicBezTo>
                  <a:pt x="16060" y="16267"/>
                  <a:pt x="16013" y="16362"/>
                  <a:pt x="15999" y="16371"/>
                </a:cubicBezTo>
                <a:cubicBezTo>
                  <a:pt x="15970" y="16390"/>
                  <a:pt x="15985" y="16329"/>
                  <a:pt x="15999" y="16297"/>
                </a:cubicBezTo>
              </a:path>
              <a:path w="1366" h="1216">
                <a:moveTo>
                  <a:pt x="16123" y="15726"/>
                </a:moveTo>
                <a:cubicBezTo>
                  <a:pt x="16123" y="15762"/>
                  <a:pt x="16130" y="15798"/>
                  <a:pt x="16148" y="15825"/>
                </a:cubicBezTo>
                <a:cubicBezTo>
                  <a:pt x="16185" y="15879"/>
                  <a:pt x="16222" y="15936"/>
                  <a:pt x="16247" y="15999"/>
                </a:cubicBezTo>
                <a:cubicBezTo>
                  <a:pt x="16284" y="16092"/>
                  <a:pt x="16331" y="16179"/>
                  <a:pt x="16371" y="16272"/>
                </a:cubicBezTo>
                <a:cubicBezTo>
                  <a:pt x="16391" y="16317"/>
                  <a:pt x="16413" y="16338"/>
                  <a:pt x="16446" y="16371"/>
                </a:cubicBezTo>
                <a:cubicBezTo>
                  <a:pt x="16475" y="16341"/>
                  <a:pt x="16486" y="16327"/>
                  <a:pt x="16495" y="16297"/>
                </a:cubicBezTo>
              </a:path>
              <a:path w="1366" h="1216">
                <a:moveTo>
                  <a:pt x="16470" y="15404"/>
                </a:moveTo>
                <a:cubicBezTo>
                  <a:pt x="16506" y="15452"/>
                  <a:pt x="16501" y="15499"/>
                  <a:pt x="16520" y="15553"/>
                </a:cubicBezTo>
                <a:cubicBezTo>
                  <a:pt x="16549" y="15634"/>
                  <a:pt x="16587" y="15699"/>
                  <a:pt x="16619" y="15776"/>
                </a:cubicBezTo>
                <a:cubicBezTo>
                  <a:pt x="16657" y="15865"/>
                  <a:pt x="16681" y="15959"/>
                  <a:pt x="16718" y="16049"/>
                </a:cubicBezTo>
                <a:cubicBezTo>
                  <a:pt x="16747" y="16119"/>
                  <a:pt x="16766" y="16208"/>
                  <a:pt x="16793" y="16272"/>
                </a:cubicBezTo>
                <a:cubicBezTo>
                  <a:pt x="16811" y="16314"/>
                  <a:pt x="16818" y="16342"/>
                  <a:pt x="16818" y="1639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153120" y="5589720"/>
            <a:ext cx="169920" cy="98280"/>
          </a:xfrm>
          <a:custGeom>
            <a:avLst/>
            <a:gdLst/>
            <a:ahLst/>
            <a:rect l="l" t="t" r="r" b="b"/>
            <a:pathLst>
              <a:path w="473" h="274">
                <a:moveTo>
                  <a:pt x="17090" y="15577"/>
                </a:moveTo>
                <a:cubicBezTo>
                  <a:pt x="17129" y="15549"/>
                  <a:pt x="17155" y="15573"/>
                  <a:pt x="17190" y="15553"/>
                </a:cubicBezTo>
                <a:cubicBezTo>
                  <a:pt x="17233" y="15529"/>
                  <a:pt x="17232" y="15553"/>
                  <a:pt x="17289" y="15553"/>
                </a:cubicBezTo>
              </a:path>
              <a:path w="473" h="274">
                <a:moveTo>
                  <a:pt x="17140" y="15776"/>
                </a:moveTo>
                <a:cubicBezTo>
                  <a:pt x="17148" y="15784"/>
                  <a:pt x="17157" y="15793"/>
                  <a:pt x="17165" y="15801"/>
                </a:cubicBezTo>
                <a:cubicBezTo>
                  <a:pt x="17203" y="15772"/>
                  <a:pt x="17216" y="15776"/>
                  <a:pt x="17264" y="15776"/>
                </a:cubicBezTo>
                <a:cubicBezTo>
                  <a:pt x="17343" y="15776"/>
                  <a:pt x="17379" y="15765"/>
                  <a:pt x="17462" y="15751"/>
                </a:cubicBezTo>
                <a:cubicBezTo>
                  <a:pt x="17493" y="15746"/>
                  <a:pt x="17530" y="15751"/>
                  <a:pt x="17562" y="1575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473880" y="5464080"/>
            <a:ext cx="125280" cy="233280"/>
          </a:xfrm>
          <a:custGeom>
            <a:avLst/>
            <a:gdLst/>
            <a:ahLst/>
            <a:rect l="l" t="t" r="r" b="b"/>
            <a:pathLst>
              <a:path w="349" h="646">
                <a:moveTo>
                  <a:pt x="18132" y="15180"/>
                </a:moveTo>
                <a:cubicBezTo>
                  <a:pt x="18083" y="15230"/>
                  <a:pt x="18041" y="15267"/>
                  <a:pt x="18008" y="15329"/>
                </a:cubicBezTo>
                <a:cubicBezTo>
                  <a:pt x="17988" y="15370"/>
                  <a:pt x="17979" y="15376"/>
                  <a:pt x="17983" y="15404"/>
                </a:cubicBezTo>
                <a:cubicBezTo>
                  <a:pt x="18065" y="15404"/>
                  <a:pt x="18130" y="15411"/>
                  <a:pt x="18207" y="15429"/>
                </a:cubicBezTo>
                <a:cubicBezTo>
                  <a:pt x="18251" y="15439"/>
                  <a:pt x="18273" y="15470"/>
                  <a:pt x="18306" y="15503"/>
                </a:cubicBezTo>
                <a:cubicBezTo>
                  <a:pt x="18330" y="15527"/>
                  <a:pt x="18344" y="15566"/>
                  <a:pt x="18331" y="15602"/>
                </a:cubicBezTo>
                <a:cubicBezTo>
                  <a:pt x="18312" y="15655"/>
                  <a:pt x="18263" y="15729"/>
                  <a:pt x="18231" y="15776"/>
                </a:cubicBezTo>
                <a:cubicBezTo>
                  <a:pt x="18198" y="15825"/>
                  <a:pt x="18136" y="15825"/>
                  <a:pt x="18083" y="1582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724800" y="5295960"/>
            <a:ext cx="561960" cy="428400"/>
          </a:xfrm>
          <a:custGeom>
            <a:avLst/>
            <a:gdLst/>
            <a:ahLst/>
            <a:rect l="l" t="t" r="r" b="b"/>
            <a:pathLst>
              <a:path w="1564" h="1192">
                <a:moveTo>
                  <a:pt x="18678" y="15379"/>
                </a:moveTo>
                <a:cubicBezTo>
                  <a:pt x="18694" y="15400"/>
                  <a:pt x="18745" y="15453"/>
                  <a:pt x="18752" y="15478"/>
                </a:cubicBezTo>
                <a:cubicBezTo>
                  <a:pt x="18771" y="15545"/>
                  <a:pt x="18782" y="15593"/>
                  <a:pt x="18827" y="15652"/>
                </a:cubicBezTo>
                <a:cubicBezTo>
                  <a:pt x="18855" y="15680"/>
                  <a:pt x="18864" y="15684"/>
                  <a:pt x="18852" y="15627"/>
                </a:cubicBezTo>
              </a:path>
              <a:path w="1564" h="1192">
                <a:moveTo>
                  <a:pt x="18951" y="15379"/>
                </a:moveTo>
                <a:cubicBezTo>
                  <a:pt x="18985" y="15443"/>
                  <a:pt x="19011" y="15519"/>
                  <a:pt x="19050" y="15577"/>
                </a:cubicBezTo>
                <a:cubicBezTo>
                  <a:pt x="19073" y="15612"/>
                  <a:pt x="19095" y="15701"/>
                  <a:pt x="19124" y="15726"/>
                </a:cubicBezTo>
                <a:cubicBezTo>
                  <a:pt x="19142" y="15742"/>
                  <a:pt x="19162" y="15750"/>
                  <a:pt x="19174" y="15726"/>
                </a:cubicBezTo>
                <a:cubicBezTo>
                  <a:pt x="19200" y="15674"/>
                  <a:pt x="19199" y="15612"/>
                  <a:pt x="19199" y="15553"/>
                </a:cubicBezTo>
                <a:cubicBezTo>
                  <a:pt x="19199" y="15497"/>
                  <a:pt x="19220" y="15416"/>
                  <a:pt x="19273" y="15404"/>
                </a:cubicBezTo>
                <a:cubicBezTo>
                  <a:pt x="19339" y="15390"/>
                  <a:pt x="19340" y="15435"/>
                  <a:pt x="19372" y="15478"/>
                </a:cubicBezTo>
                <a:cubicBezTo>
                  <a:pt x="19416" y="15537"/>
                  <a:pt x="19436" y="15626"/>
                  <a:pt x="19447" y="15701"/>
                </a:cubicBezTo>
                <a:cubicBezTo>
                  <a:pt x="19456" y="15766"/>
                  <a:pt x="19436" y="15753"/>
                  <a:pt x="19472" y="15801"/>
                </a:cubicBezTo>
                <a:cubicBezTo>
                  <a:pt x="19501" y="15771"/>
                  <a:pt x="19512" y="15756"/>
                  <a:pt x="19521" y="15726"/>
                </a:cubicBezTo>
              </a:path>
              <a:path w="1564" h="1192">
                <a:moveTo>
                  <a:pt x="19844" y="14883"/>
                </a:moveTo>
                <a:cubicBezTo>
                  <a:pt x="19834" y="14931"/>
                  <a:pt x="19830" y="14984"/>
                  <a:pt x="19819" y="15032"/>
                </a:cubicBezTo>
                <a:cubicBezTo>
                  <a:pt x="19787" y="15171"/>
                  <a:pt x="19808" y="15287"/>
                  <a:pt x="19819" y="15429"/>
                </a:cubicBezTo>
                <a:cubicBezTo>
                  <a:pt x="19828" y="15545"/>
                  <a:pt x="19845" y="15664"/>
                  <a:pt x="19869" y="15776"/>
                </a:cubicBezTo>
                <a:cubicBezTo>
                  <a:pt x="19882" y="15834"/>
                  <a:pt x="19906" y="15893"/>
                  <a:pt x="19968" y="15900"/>
                </a:cubicBezTo>
                <a:cubicBezTo>
                  <a:pt x="19976" y="15900"/>
                  <a:pt x="19985" y="15900"/>
                  <a:pt x="19993" y="15900"/>
                </a:cubicBezTo>
                <a:cubicBezTo>
                  <a:pt x="20028" y="15840"/>
                  <a:pt x="20039" y="15775"/>
                  <a:pt x="20042" y="15701"/>
                </a:cubicBezTo>
                <a:cubicBezTo>
                  <a:pt x="20047" y="15585"/>
                  <a:pt x="20049" y="15490"/>
                  <a:pt x="20042" y="15379"/>
                </a:cubicBezTo>
                <a:cubicBezTo>
                  <a:pt x="20035" y="15269"/>
                  <a:pt x="20029" y="15163"/>
                  <a:pt x="20017" y="15056"/>
                </a:cubicBezTo>
                <a:cubicBezTo>
                  <a:pt x="20007" y="14963"/>
                  <a:pt x="19962" y="14897"/>
                  <a:pt x="19943" y="14808"/>
                </a:cubicBezTo>
                <a:cubicBezTo>
                  <a:pt x="19932" y="14757"/>
                  <a:pt x="19933" y="14716"/>
                  <a:pt x="19869" y="14709"/>
                </a:cubicBezTo>
                <a:cubicBezTo>
                  <a:pt x="19812" y="14703"/>
                  <a:pt x="19867" y="14740"/>
                  <a:pt x="19869" y="14759"/>
                </a:cubicBezTo>
                <a:cubicBezTo>
                  <a:pt x="19869" y="14767"/>
                  <a:pt x="19869" y="14776"/>
                  <a:pt x="19869" y="14784"/>
                </a:cubicBezTo>
              </a:path>
              <a:path w="1564" h="1192">
                <a:moveTo>
                  <a:pt x="19645" y="15528"/>
                </a:moveTo>
                <a:cubicBezTo>
                  <a:pt x="19675" y="15518"/>
                  <a:pt x="19687" y="15507"/>
                  <a:pt x="19720" y="15478"/>
                </a:cubicBezTo>
                <a:cubicBezTo>
                  <a:pt x="19785" y="15420"/>
                  <a:pt x="19864" y="15378"/>
                  <a:pt x="19918" y="15304"/>
                </a:cubicBezTo>
                <a:cubicBezTo>
                  <a:pt x="19957" y="15252"/>
                  <a:pt x="20017" y="15174"/>
                  <a:pt x="20067" y="15131"/>
                </a:cubicBezTo>
                <a:cubicBezTo>
                  <a:pt x="20102" y="15101"/>
                  <a:pt x="20158" y="15077"/>
                  <a:pt x="20191" y="15056"/>
                </a:cubicBezTo>
                <a:cubicBezTo>
                  <a:pt x="20250" y="15018"/>
                  <a:pt x="20244" y="15043"/>
                  <a:pt x="20191" y="1505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23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  wall is leaning 6° from the vertical toward you.  You are standing 40’ from the base of the wall, and the angle of elevation from your feet to the top of the wall is 22°.  Find the height of the wall to the nearest tenth of a foot.</a:t>
            </a:r>
            <a:endParaRPr b="0" lang="en-US" sz="2800" spc="-1" strike="noStrike">
              <a:solidFill>
                <a:srgbClr val="000000"/>
              </a:solidFill>
              <a:latin typeface="Garamond"/>
            </a:endParaRPr>
          </a:p>
        </p:txBody>
      </p:sp>
      <p:sp>
        <p:nvSpPr>
          <p:cNvPr id="100" name=""/>
          <p:cNvSpPr/>
          <p:nvPr/>
        </p:nvSpPr>
        <p:spPr>
          <a:xfrm>
            <a:off x="285840" y="3463920"/>
            <a:ext cx="1714320" cy="1519200"/>
          </a:xfrm>
          <a:custGeom>
            <a:avLst/>
            <a:gdLst/>
            <a:ahLst/>
            <a:rect l="l" t="t" r="r" b="b"/>
            <a:pathLst>
              <a:path w="4763" h="4218">
                <a:moveTo>
                  <a:pt x="4266" y="12601"/>
                </a:moveTo>
                <a:cubicBezTo>
                  <a:pt x="4265" y="12598"/>
                  <a:pt x="4251" y="12546"/>
                  <a:pt x="4242" y="12526"/>
                </a:cubicBezTo>
                <a:cubicBezTo>
                  <a:pt x="4225" y="12489"/>
                  <a:pt x="4186" y="12465"/>
                  <a:pt x="4167" y="12427"/>
                </a:cubicBezTo>
                <a:cubicBezTo>
                  <a:pt x="4139" y="12372"/>
                  <a:pt x="4122" y="12333"/>
                  <a:pt x="4093" y="12278"/>
                </a:cubicBezTo>
                <a:cubicBezTo>
                  <a:pt x="4046" y="12189"/>
                  <a:pt x="3998" y="12112"/>
                  <a:pt x="3944" y="12030"/>
                </a:cubicBezTo>
                <a:cubicBezTo>
                  <a:pt x="3892" y="11951"/>
                  <a:pt x="3865" y="11864"/>
                  <a:pt x="3820" y="11782"/>
                </a:cubicBezTo>
                <a:cubicBezTo>
                  <a:pt x="3767" y="11685"/>
                  <a:pt x="3725" y="11581"/>
                  <a:pt x="3671" y="11485"/>
                </a:cubicBezTo>
                <a:cubicBezTo>
                  <a:pt x="3610" y="11377"/>
                  <a:pt x="3568" y="11276"/>
                  <a:pt x="3522" y="11162"/>
                </a:cubicBezTo>
                <a:cubicBezTo>
                  <a:pt x="3472" y="11037"/>
                  <a:pt x="3413" y="10884"/>
                  <a:pt x="3349" y="10765"/>
                </a:cubicBezTo>
                <a:cubicBezTo>
                  <a:pt x="3271" y="10619"/>
                  <a:pt x="3191" y="10470"/>
                  <a:pt x="3125" y="10319"/>
                </a:cubicBezTo>
                <a:cubicBezTo>
                  <a:pt x="3090" y="10239"/>
                  <a:pt x="3056" y="10153"/>
                  <a:pt x="3026" y="10071"/>
                </a:cubicBezTo>
                <a:cubicBezTo>
                  <a:pt x="2998" y="9995"/>
                  <a:pt x="2969" y="9939"/>
                  <a:pt x="2927" y="9872"/>
                </a:cubicBezTo>
                <a:cubicBezTo>
                  <a:pt x="2893" y="9817"/>
                  <a:pt x="2886" y="9771"/>
                  <a:pt x="2853" y="9723"/>
                </a:cubicBezTo>
                <a:cubicBezTo>
                  <a:pt x="2819" y="9673"/>
                  <a:pt x="2829" y="9652"/>
                  <a:pt x="2828" y="9649"/>
                </a:cubicBezTo>
              </a:path>
              <a:path w="4763" h="4218">
                <a:moveTo>
                  <a:pt x="2729" y="9624"/>
                </a:moveTo>
                <a:cubicBezTo>
                  <a:pt x="2721" y="9676"/>
                  <a:pt x="2753" y="9629"/>
                  <a:pt x="2729" y="9699"/>
                </a:cubicBezTo>
                <a:cubicBezTo>
                  <a:pt x="2712" y="9747"/>
                  <a:pt x="2697" y="9804"/>
                  <a:pt x="2679" y="9847"/>
                </a:cubicBezTo>
                <a:cubicBezTo>
                  <a:pt x="2640" y="9939"/>
                  <a:pt x="2580" y="10037"/>
                  <a:pt x="2530" y="10120"/>
                </a:cubicBezTo>
                <a:cubicBezTo>
                  <a:pt x="2402" y="10334"/>
                  <a:pt x="2299" y="10547"/>
                  <a:pt x="2183" y="10765"/>
                </a:cubicBezTo>
                <a:cubicBezTo>
                  <a:pt x="2100" y="10921"/>
                  <a:pt x="2007" y="11074"/>
                  <a:pt x="1935" y="11237"/>
                </a:cubicBezTo>
                <a:cubicBezTo>
                  <a:pt x="1874" y="11375"/>
                  <a:pt x="1806" y="11501"/>
                  <a:pt x="1736" y="11633"/>
                </a:cubicBezTo>
                <a:cubicBezTo>
                  <a:pt x="1665" y="11767"/>
                  <a:pt x="1587" y="11896"/>
                  <a:pt x="1513" y="12030"/>
                </a:cubicBezTo>
                <a:cubicBezTo>
                  <a:pt x="1452" y="12142"/>
                  <a:pt x="1389" y="12275"/>
                  <a:pt x="1315" y="12378"/>
                </a:cubicBezTo>
                <a:cubicBezTo>
                  <a:pt x="1243" y="12479"/>
                  <a:pt x="1180" y="12567"/>
                  <a:pt x="1116" y="12675"/>
                </a:cubicBezTo>
                <a:cubicBezTo>
                  <a:pt x="1066" y="12759"/>
                  <a:pt x="1004" y="12806"/>
                  <a:pt x="943" y="12874"/>
                </a:cubicBezTo>
                <a:cubicBezTo>
                  <a:pt x="895" y="12927"/>
                  <a:pt x="835" y="12973"/>
                  <a:pt x="794" y="13022"/>
                </a:cubicBezTo>
                <a:cubicBezTo>
                  <a:pt x="802" y="13022"/>
                  <a:pt x="811" y="13022"/>
                  <a:pt x="819" y="13022"/>
                </a:cubicBezTo>
                <a:cubicBezTo>
                  <a:pt x="856" y="13013"/>
                  <a:pt x="883" y="13006"/>
                  <a:pt x="918" y="12998"/>
                </a:cubicBezTo>
                <a:cubicBezTo>
                  <a:pt x="976" y="12986"/>
                  <a:pt x="1033" y="12985"/>
                  <a:pt x="1091" y="12973"/>
                </a:cubicBezTo>
                <a:cubicBezTo>
                  <a:pt x="1160" y="12959"/>
                  <a:pt x="1218" y="12958"/>
                  <a:pt x="1290" y="12948"/>
                </a:cubicBezTo>
                <a:cubicBezTo>
                  <a:pt x="1376" y="12936"/>
                  <a:pt x="1474" y="12913"/>
                  <a:pt x="1563" y="12898"/>
                </a:cubicBezTo>
                <a:cubicBezTo>
                  <a:pt x="1671" y="12880"/>
                  <a:pt x="1776" y="12865"/>
                  <a:pt x="1885" y="12849"/>
                </a:cubicBezTo>
                <a:cubicBezTo>
                  <a:pt x="2035" y="12827"/>
                  <a:pt x="2183" y="12819"/>
                  <a:pt x="2332" y="12799"/>
                </a:cubicBezTo>
                <a:cubicBezTo>
                  <a:pt x="2480" y="12779"/>
                  <a:pt x="2625" y="12734"/>
                  <a:pt x="2778" y="12725"/>
                </a:cubicBezTo>
                <a:cubicBezTo>
                  <a:pt x="2900" y="12718"/>
                  <a:pt x="3032" y="12705"/>
                  <a:pt x="3150" y="12700"/>
                </a:cubicBezTo>
                <a:cubicBezTo>
                  <a:pt x="3276" y="12694"/>
                  <a:pt x="3397" y="12681"/>
                  <a:pt x="3522" y="12675"/>
                </a:cubicBezTo>
                <a:cubicBezTo>
                  <a:pt x="3795" y="12662"/>
                  <a:pt x="4076" y="12670"/>
                  <a:pt x="4341" y="12650"/>
                </a:cubicBezTo>
                <a:cubicBezTo>
                  <a:pt x="4377" y="12647"/>
                  <a:pt x="4421" y="12652"/>
                  <a:pt x="4465" y="12650"/>
                </a:cubicBezTo>
              </a:path>
              <a:path w="4763" h="4218">
                <a:moveTo>
                  <a:pt x="4986" y="11906"/>
                </a:moveTo>
                <a:cubicBezTo>
                  <a:pt x="4986" y="11852"/>
                  <a:pt x="4973" y="11823"/>
                  <a:pt x="4936" y="11782"/>
                </a:cubicBezTo>
                <a:cubicBezTo>
                  <a:pt x="4902" y="11744"/>
                  <a:pt x="4861" y="11757"/>
                  <a:pt x="4812" y="11757"/>
                </a:cubicBezTo>
                <a:cubicBezTo>
                  <a:pt x="4760" y="11757"/>
                  <a:pt x="4731" y="11754"/>
                  <a:pt x="4688" y="11782"/>
                </a:cubicBezTo>
                <a:cubicBezTo>
                  <a:pt x="4608" y="11835"/>
                  <a:pt x="4574" y="11864"/>
                  <a:pt x="4514" y="11931"/>
                </a:cubicBezTo>
                <a:cubicBezTo>
                  <a:pt x="4496" y="11951"/>
                  <a:pt x="4458" y="12029"/>
                  <a:pt x="4465" y="12055"/>
                </a:cubicBezTo>
                <a:cubicBezTo>
                  <a:pt x="4479" y="12102"/>
                  <a:pt x="4495" y="12139"/>
                  <a:pt x="4539" y="12154"/>
                </a:cubicBezTo>
                <a:cubicBezTo>
                  <a:pt x="4607" y="12177"/>
                  <a:pt x="4613" y="12171"/>
                  <a:pt x="4688" y="12154"/>
                </a:cubicBezTo>
                <a:cubicBezTo>
                  <a:pt x="4732" y="12144"/>
                  <a:pt x="4771" y="12126"/>
                  <a:pt x="4812" y="12105"/>
                </a:cubicBezTo>
                <a:cubicBezTo>
                  <a:pt x="4876" y="12071"/>
                  <a:pt x="4893" y="12044"/>
                  <a:pt x="4911" y="11981"/>
                </a:cubicBezTo>
                <a:cubicBezTo>
                  <a:pt x="4923" y="11939"/>
                  <a:pt x="4911" y="11876"/>
                  <a:pt x="4911" y="11832"/>
                </a:cubicBezTo>
                <a:cubicBezTo>
                  <a:pt x="4872" y="11846"/>
                  <a:pt x="4887" y="11881"/>
                  <a:pt x="4887" y="11931"/>
                </a:cubicBezTo>
                <a:cubicBezTo>
                  <a:pt x="4887" y="12036"/>
                  <a:pt x="4889" y="12130"/>
                  <a:pt x="4911" y="12229"/>
                </a:cubicBezTo>
                <a:cubicBezTo>
                  <a:pt x="4922" y="12278"/>
                  <a:pt x="4922" y="12311"/>
                  <a:pt x="4936" y="12353"/>
                </a:cubicBezTo>
                <a:cubicBezTo>
                  <a:pt x="4937" y="12355"/>
                  <a:pt x="4930" y="12468"/>
                  <a:pt x="4961" y="12427"/>
                </a:cubicBezTo>
                <a:cubicBezTo>
                  <a:pt x="4968" y="12418"/>
                  <a:pt x="4961" y="12365"/>
                  <a:pt x="4961" y="12353"/>
                </a:cubicBezTo>
              </a:path>
              <a:path w="4763" h="4218">
                <a:moveTo>
                  <a:pt x="5135" y="11757"/>
                </a:moveTo>
                <a:cubicBezTo>
                  <a:pt x="5121" y="11809"/>
                  <a:pt x="5130" y="11908"/>
                  <a:pt x="5110" y="11956"/>
                </a:cubicBezTo>
                <a:cubicBezTo>
                  <a:pt x="5086" y="12014"/>
                  <a:pt x="5085" y="12059"/>
                  <a:pt x="5085" y="12129"/>
                </a:cubicBezTo>
                <a:cubicBezTo>
                  <a:pt x="5085" y="12177"/>
                  <a:pt x="5086" y="12238"/>
                  <a:pt x="5110" y="12278"/>
                </a:cubicBezTo>
                <a:cubicBezTo>
                  <a:pt x="5136" y="12321"/>
                  <a:pt x="5195" y="12341"/>
                  <a:pt x="5234" y="12353"/>
                </a:cubicBezTo>
                <a:cubicBezTo>
                  <a:pt x="5281" y="12367"/>
                  <a:pt x="5316" y="12338"/>
                  <a:pt x="5358" y="12328"/>
                </a:cubicBezTo>
                <a:cubicBezTo>
                  <a:pt x="5396" y="12319"/>
                  <a:pt x="5456" y="12290"/>
                  <a:pt x="5482" y="12254"/>
                </a:cubicBezTo>
                <a:cubicBezTo>
                  <a:pt x="5529" y="12188"/>
                  <a:pt x="5511" y="12173"/>
                  <a:pt x="5531" y="12105"/>
                </a:cubicBezTo>
                <a:cubicBezTo>
                  <a:pt x="5549" y="12045"/>
                  <a:pt x="5565" y="12033"/>
                  <a:pt x="5531" y="11981"/>
                </a:cubicBezTo>
                <a:cubicBezTo>
                  <a:pt x="5498" y="11931"/>
                  <a:pt x="5457" y="11930"/>
                  <a:pt x="5407" y="11956"/>
                </a:cubicBezTo>
                <a:cubicBezTo>
                  <a:pt x="5360" y="11980"/>
                  <a:pt x="5336" y="12042"/>
                  <a:pt x="5308" y="12080"/>
                </a:cubicBezTo>
                <a:cubicBezTo>
                  <a:pt x="5266" y="12135"/>
                  <a:pt x="5240" y="12130"/>
                  <a:pt x="5234" y="12204"/>
                </a:cubicBezTo>
                <a:cubicBezTo>
                  <a:pt x="5231" y="12235"/>
                  <a:pt x="5198" y="12279"/>
                  <a:pt x="5234" y="12303"/>
                </a:cubicBezTo>
                <a:cubicBezTo>
                  <a:pt x="5242" y="12303"/>
                  <a:pt x="5251" y="12303"/>
                  <a:pt x="5259" y="12303"/>
                </a:cubicBezTo>
              </a:path>
              <a:path w="4763" h="4218">
                <a:moveTo>
                  <a:pt x="2257" y="13122"/>
                </a:moveTo>
                <a:cubicBezTo>
                  <a:pt x="2257" y="13191"/>
                  <a:pt x="2248" y="13231"/>
                  <a:pt x="2232" y="13295"/>
                </a:cubicBezTo>
                <a:cubicBezTo>
                  <a:pt x="2218" y="13349"/>
                  <a:pt x="2193" y="13398"/>
                  <a:pt x="2158" y="13444"/>
                </a:cubicBezTo>
                <a:cubicBezTo>
                  <a:pt x="2130" y="13481"/>
                  <a:pt x="2119" y="13487"/>
                  <a:pt x="2108" y="13519"/>
                </a:cubicBezTo>
                <a:cubicBezTo>
                  <a:pt x="2163" y="13537"/>
                  <a:pt x="2117" y="13540"/>
                  <a:pt x="2183" y="13519"/>
                </a:cubicBezTo>
                <a:cubicBezTo>
                  <a:pt x="2217" y="13508"/>
                  <a:pt x="2297" y="13500"/>
                  <a:pt x="2332" y="13494"/>
                </a:cubicBezTo>
                <a:cubicBezTo>
                  <a:pt x="2386" y="13484"/>
                  <a:pt x="2605" y="13494"/>
                  <a:pt x="2580" y="13494"/>
                </a:cubicBezTo>
              </a:path>
              <a:path w="4763" h="4218">
                <a:moveTo>
                  <a:pt x="2555" y="13122"/>
                </a:moveTo>
                <a:cubicBezTo>
                  <a:pt x="2555" y="13337"/>
                  <a:pt x="2555" y="13552"/>
                  <a:pt x="2555" y="13767"/>
                </a:cubicBezTo>
              </a:path>
              <a:path w="4763" h="4218">
                <a:moveTo>
                  <a:pt x="2877" y="13122"/>
                </a:moveTo>
                <a:cubicBezTo>
                  <a:pt x="2834" y="13217"/>
                  <a:pt x="2808" y="13268"/>
                  <a:pt x="2803" y="13370"/>
                </a:cubicBezTo>
                <a:cubicBezTo>
                  <a:pt x="2798" y="13475"/>
                  <a:pt x="2786" y="13598"/>
                  <a:pt x="2828" y="13692"/>
                </a:cubicBezTo>
                <a:cubicBezTo>
                  <a:pt x="2864" y="13773"/>
                  <a:pt x="2901" y="13818"/>
                  <a:pt x="2977" y="13841"/>
                </a:cubicBezTo>
                <a:cubicBezTo>
                  <a:pt x="3011" y="13851"/>
                  <a:pt x="3077" y="13831"/>
                  <a:pt x="3101" y="13816"/>
                </a:cubicBezTo>
                <a:cubicBezTo>
                  <a:pt x="3139" y="13792"/>
                  <a:pt x="3191" y="13685"/>
                  <a:pt x="3200" y="13643"/>
                </a:cubicBezTo>
                <a:cubicBezTo>
                  <a:pt x="3215" y="13576"/>
                  <a:pt x="3225" y="13515"/>
                  <a:pt x="3225" y="13444"/>
                </a:cubicBezTo>
                <a:cubicBezTo>
                  <a:pt x="3225" y="13401"/>
                  <a:pt x="3197" y="13331"/>
                  <a:pt x="3175" y="13295"/>
                </a:cubicBezTo>
                <a:cubicBezTo>
                  <a:pt x="3149" y="13253"/>
                  <a:pt x="3089" y="13232"/>
                  <a:pt x="3051" y="13221"/>
                </a:cubicBezTo>
                <a:cubicBezTo>
                  <a:pt x="3026" y="13221"/>
                  <a:pt x="3018" y="13221"/>
                  <a:pt x="3001" y="13221"/>
                </a:cubicBezTo>
              </a:path>
              <a:path w="4763" h="4218">
                <a:moveTo>
                  <a:pt x="3324" y="12154"/>
                </a:moveTo>
                <a:cubicBezTo>
                  <a:pt x="3314" y="12115"/>
                  <a:pt x="3299" y="12100"/>
                  <a:pt x="3299" y="12055"/>
                </a:cubicBezTo>
                <a:cubicBezTo>
                  <a:pt x="3248" y="12055"/>
                  <a:pt x="3241" y="12066"/>
                  <a:pt x="3200" y="12080"/>
                </a:cubicBezTo>
                <a:cubicBezTo>
                  <a:pt x="3165" y="12092"/>
                  <a:pt x="3098" y="12115"/>
                  <a:pt x="3076" y="12154"/>
                </a:cubicBezTo>
                <a:cubicBezTo>
                  <a:pt x="3056" y="12191"/>
                  <a:pt x="3098" y="12220"/>
                  <a:pt x="3125" y="12229"/>
                </a:cubicBezTo>
                <a:cubicBezTo>
                  <a:pt x="3160" y="12241"/>
                  <a:pt x="3217" y="12262"/>
                  <a:pt x="3249" y="12278"/>
                </a:cubicBezTo>
                <a:cubicBezTo>
                  <a:pt x="3283" y="12295"/>
                  <a:pt x="3320" y="12344"/>
                  <a:pt x="3324" y="12378"/>
                </a:cubicBezTo>
                <a:cubicBezTo>
                  <a:pt x="3327" y="12408"/>
                  <a:pt x="3313" y="12445"/>
                  <a:pt x="3299" y="12452"/>
                </a:cubicBezTo>
                <a:cubicBezTo>
                  <a:pt x="3269" y="12467"/>
                  <a:pt x="3165" y="12457"/>
                  <a:pt x="3150" y="12427"/>
                </a:cubicBezTo>
                <a:cubicBezTo>
                  <a:pt x="3122" y="12372"/>
                  <a:pt x="3133" y="12379"/>
                  <a:pt x="3150" y="12328"/>
                </a:cubicBezTo>
                <a:cubicBezTo>
                  <a:pt x="3163" y="12290"/>
                  <a:pt x="3172" y="12260"/>
                  <a:pt x="3200" y="12229"/>
                </a:cubicBezTo>
                <a:cubicBezTo>
                  <a:pt x="3237" y="12187"/>
                  <a:pt x="3229" y="12188"/>
                  <a:pt x="3274" y="12154"/>
                </a:cubicBezTo>
              </a:path>
              <a:path w="4763" h="4218">
                <a:moveTo>
                  <a:pt x="3398" y="12055"/>
                </a:moveTo>
                <a:cubicBezTo>
                  <a:pt x="3398" y="12143"/>
                  <a:pt x="3398" y="12205"/>
                  <a:pt x="3373" y="12278"/>
                </a:cubicBezTo>
                <a:cubicBezTo>
                  <a:pt x="3355" y="12330"/>
                  <a:pt x="3404" y="12342"/>
                  <a:pt x="3448" y="12353"/>
                </a:cubicBezTo>
                <a:cubicBezTo>
                  <a:pt x="3478" y="12360"/>
                  <a:pt x="3530" y="12328"/>
                  <a:pt x="3572" y="12328"/>
                </a:cubicBezTo>
                <a:cubicBezTo>
                  <a:pt x="3632" y="12328"/>
                  <a:pt x="3646" y="12309"/>
                  <a:pt x="3696" y="12303"/>
                </a:cubicBezTo>
                <a:cubicBezTo>
                  <a:pt x="3737" y="12298"/>
                  <a:pt x="3737" y="12291"/>
                  <a:pt x="3746" y="12254"/>
                </a:cubicBezTo>
              </a:path>
              <a:path w="4763" h="4218">
                <a:moveTo>
                  <a:pt x="3696" y="12129"/>
                </a:moveTo>
                <a:cubicBezTo>
                  <a:pt x="3676" y="12203"/>
                  <a:pt x="3671" y="12252"/>
                  <a:pt x="3671" y="12328"/>
                </a:cubicBezTo>
                <a:cubicBezTo>
                  <a:pt x="3671" y="12402"/>
                  <a:pt x="3671" y="12477"/>
                  <a:pt x="3671" y="12551"/>
                </a:cubicBezTo>
              </a:path>
              <a:path w="4763" h="4218">
                <a:moveTo>
                  <a:pt x="1513" y="12502"/>
                </a:moveTo>
                <a:cubicBezTo>
                  <a:pt x="1505" y="12502"/>
                  <a:pt x="1496" y="12502"/>
                  <a:pt x="1488" y="12502"/>
                </a:cubicBezTo>
                <a:cubicBezTo>
                  <a:pt x="1497" y="12464"/>
                  <a:pt x="1511" y="12432"/>
                  <a:pt x="1538" y="12402"/>
                </a:cubicBezTo>
                <a:cubicBezTo>
                  <a:pt x="1571" y="12365"/>
                  <a:pt x="1574" y="12354"/>
                  <a:pt x="1612" y="12328"/>
                </a:cubicBezTo>
                <a:cubicBezTo>
                  <a:pt x="1683" y="12280"/>
                  <a:pt x="1646" y="12326"/>
                  <a:pt x="1687" y="12353"/>
                </a:cubicBezTo>
                <a:cubicBezTo>
                  <a:pt x="1739" y="12388"/>
                  <a:pt x="1703" y="12404"/>
                  <a:pt x="1687" y="12452"/>
                </a:cubicBezTo>
                <a:cubicBezTo>
                  <a:pt x="1675" y="12487"/>
                  <a:pt x="1666" y="12542"/>
                  <a:pt x="1662" y="12576"/>
                </a:cubicBezTo>
                <a:cubicBezTo>
                  <a:pt x="1662" y="12584"/>
                  <a:pt x="1662" y="12593"/>
                  <a:pt x="1662" y="12601"/>
                </a:cubicBezTo>
                <a:cubicBezTo>
                  <a:pt x="1711" y="12589"/>
                  <a:pt x="1719" y="12553"/>
                  <a:pt x="1761" y="12526"/>
                </a:cubicBezTo>
                <a:cubicBezTo>
                  <a:pt x="1810" y="12495"/>
                  <a:pt x="1823" y="12492"/>
                  <a:pt x="1836" y="12452"/>
                </a:cubicBezTo>
              </a:path>
              <a:path w="4763" h="4218">
                <a:moveTo>
                  <a:pt x="1761" y="12204"/>
                </a:moveTo>
                <a:cubicBezTo>
                  <a:pt x="1789" y="12176"/>
                  <a:pt x="1825" y="12141"/>
                  <a:pt x="1860" y="12129"/>
                </a:cubicBezTo>
                <a:cubicBezTo>
                  <a:pt x="1910" y="12112"/>
                  <a:pt x="1967" y="12131"/>
                  <a:pt x="1984" y="12154"/>
                </a:cubicBezTo>
                <a:cubicBezTo>
                  <a:pt x="2025" y="12210"/>
                  <a:pt x="2002" y="12200"/>
                  <a:pt x="1984" y="12254"/>
                </a:cubicBezTo>
                <a:cubicBezTo>
                  <a:pt x="1967" y="12304"/>
                  <a:pt x="1954" y="12353"/>
                  <a:pt x="1935" y="12402"/>
                </a:cubicBezTo>
                <a:cubicBezTo>
                  <a:pt x="1935" y="12410"/>
                  <a:pt x="1935" y="12419"/>
                  <a:pt x="1935" y="12427"/>
                </a:cubicBezTo>
                <a:cubicBezTo>
                  <a:pt x="1973" y="12427"/>
                  <a:pt x="2029" y="12417"/>
                  <a:pt x="2059" y="12402"/>
                </a:cubicBezTo>
                <a:cubicBezTo>
                  <a:pt x="2087" y="12388"/>
                  <a:pt x="2135" y="12369"/>
                  <a:pt x="2158" y="12353"/>
                </a:cubicBezTo>
                <a:cubicBezTo>
                  <a:pt x="2166" y="12345"/>
                  <a:pt x="2175" y="12336"/>
                  <a:pt x="2183" y="1232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47800" y="3724200"/>
            <a:ext cx="206280" cy="169920"/>
          </a:xfrm>
          <a:custGeom>
            <a:avLst/>
            <a:gdLst/>
            <a:ahLst/>
            <a:rect l="l" t="t" r="r" b="b"/>
            <a:pathLst>
              <a:path w="572" h="472">
                <a:moveTo>
                  <a:pt x="2356" y="10616"/>
                </a:moveTo>
                <a:cubicBezTo>
                  <a:pt x="2356" y="10608"/>
                  <a:pt x="2356" y="10600"/>
                  <a:pt x="2356" y="10592"/>
                </a:cubicBezTo>
                <a:cubicBezTo>
                  <a:pt x="2390" y="10581"/>
                  <a:pt x="2387" y="10557"/>
                  <a:pt x="2431" y="10542"/>
                </a:cubicBezTo>
                <a:cubicBezTo>
                  <a:pt x="2439" y="10542"/>
                  <a:pt x="2448" y="10542"/>
                  <a:pt x="2456" y="10542"/>
                </a:cubicBezTo>
                <a:cubicBezTo>
                  <a:pt x="2464" y="10566"/>
                  <a:pt x="2487" y="10589"/>
                  <a:pt x="2505" y="10616"/>
                </a:cubicBezTo>
                <a:cubicBezTo>
                  <a:pt x="2532" y="10656"/>
                  <a:pt x="2530" y="10666"/>
                  <a:pt x="2530" y="10716"/>
                </a:cubicBezTo>
                <a:cubicBezTo>
                  <a:pt x="2530" y="10763"/>
                  <a:pt x="2515" y="10802"/>
                  <a:pt x="2555" y="10815"/>
                </a:cubicBezTo>
              </a:path>
              <a:path w="572" h="472">
                <a:moveTo>
                  <a:pt x="2381" y="10765"/>
                </a:moveTo>
                <a:cubicBezTo>
                  <a:pt x="2381" y="10757"/>
                  <a:pt x="2381" y="10748"/>
                  <a:pt x="2381" y="10740"/>
                </a:cubicBezTo>
                <a:cubicBezTo>
                  <a:pt x="2417" y="10740"/>
                  <a:pt x="2454" y="10734"/>
                  <a:pt x="2480" y="10716"/>
                </a:cubicBezTo>
                <a:cubicBezTo>
                  <a:pt x="2515" y="10692"/>
                  <a:pt x="2539" y="10676"/>
                  <a:pt x="2580" y="10666"/>
                </a:cubicBezTo>
                <a:cubicBezTo>
                  <a:pt x="2591" y="10632"/>
                  <a:pt x="2593" y="10643"/>
                  <a:pt x="2629" y="10616"/>
                </a:cubicBezTo>
              </a:path>
              <a:path w="572" h="472">
                <a:moveTo>
                  <a:pt x="2604" y="10393"/>
                </a:moveTo>
                <a:cubicBezTo>
                  <a:pt x="2613" y="10453"/>
                  <a:pt x="2638" y="10489"/>
                  <a:pt x="2654" y="10542"/>
                </a:cubicBezTo>
                <a:cubicBezTo>
                  <a:pt x="2654" y="10567"/>
                  <a:pt x="2654" y="10575"/>
                  <a:pt x="2654" y="10592"/>
                </a:cubicBezTo>
                <a:cubicBezTo>
                  <a:pt x="2675" y="10599"/>
                  <a:pt x="2693" y="10636"/>
                  <a:pt x="2729" y="10616"/>
                </a:cubicBezTo>
                <a:cubicBezTo>
                  <a:pt x="2761" y="10598"/>
                  <a:pt x="2802" y="10565"/>
                  <a:pt x="2828" y="10542"/>
                </a:cubicBezTo>
                <a:cubicBezTo>
                  <a:pt x="2853" y="10517"/>
                  <a:pt x="2861" y="10509"/>
                  <a:pt x="2877" y="10492"/>
                </a:cubicBezTo>
              </a:path>
              <a:path w="572" h="472">
                <a:moveTo>
                  <a:pt x="2803" y="10344"/>
                </a:moveTo>
                <a:cubicBezTo>
                  <a:pt x="2824" y="10413"/>
                  <a:pt x="2836" y="10476"/>
                  <a:pt x="2853" y="10542"/>
                </a:cubicBezTo>
                <a:cubicBezTo>
                  <a:pt x="2854" y="10547"/>
                  <a:pt x="2897" y="10710"/>
                  <a:pt x="2902" y="10716"/>
                </a:cubicBezTo>
                <a:cubicBezTo>
                  <a:pt x="2919" y="10740"/>
                  <a:pt x="2927" y="10712"/>
                  <a:pt x="2927" y="1076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258920" y="3643200"/>
            <a:ext cx="268200" cy="268560"/>
          </a:xfrm>
          <a:custGeom>
            <a:avLst/>
            <a:gdLst/>
            <a:ahLst/>
            <a:rect l="l" t="t" r="r" b="b"/>
            <a:pathLst>
              <a:path w="746" h="745">
                <a:moveTo>
                  <a:pt x="4142" y="10120"/>
                </a:moveTo>
                <a:cubicBezTo>
                  <a:pt x="4079" y="10193"/>
                  <a:pt x="4069" y="10268"/>
                  <a:pt x="4018" y="10344"/>
                </a:cubicBezTo>
                <a:cubicBezTo>
                  <a:pt x="3967" y="10421"/>
                  <a:pt x="3952" y="10497"/>
                  <a:pt x="3919" y="10592"/>
                </a:cubicBezTo>
                <a:cubicBezTo>
                  <a:pt x="3896" y="10657"/>
                  <a:pt x="3870" y="10729"/>
                  <a:pt x="3845" y="10790"/>
                </a:cubicBezTo>
                <a:cubicBezTo>
                  <a:pt x="3823" y="10834"/>
                  <a:pt x="3820" y="10845"/>
                  <a:pt x="3795" y="10864"/>
                </a:cubicBezTo>
                <a:cubicBezTo>
                  <a:pt x="3772" y="10826"/>
                  <a:pt x="3735" y="10764"/>
                  <a:pt x="3721" y="10716"/>
                </a:cubicBezTo>
                <a:cubicBezTo>
                  <a:pt x="3701" y="10615"/>
                  <a:pt x="3703" y="10595"/>
                  <a:pt x="3671" y="10542"/>
                </a:cubicBezTo>
              </a:path>
              <a:path w="746" h="745">
                <a:moveTo>
                  <a:pt x="3497" y="10195"/>
                </a:moveTo>
                <a:cubicBezTo>
                  <a:pt x="3544" y="10242"/>
                  <a:pt x="3596" y="10278"/>
                  <a:pt x="3646" y="10319"/>
                </a:cubicBezTo>
                <a:cubicBezTo>
                  <a:pt x="3784" y="10433"/>
                  <a:pt x="3886" y="10603"/>
                  <a:pt x="4043" y="10691"/>
                </a:cubicBezTo>
                <a:cubicBezTo>
                  <a:pt x="4099" y="10722"/>
                  <a:pt x="4161" y="10769"/>
                  <a:pt x="4217" y="10790"/>
                </a:cubicBezTo>
                <a:cubicBezTo>
                  <a:pt x="4225" y="10790"/>
                  <a:pt x="4234" y="10790"/>
                  <a:pt x="4242" y="10790"/>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044960" y="2724120"/>
            <a:ext cx="2832120" cy="963720"/>
          </a:xfrm>
          <a:custGeom>
            <a:avLst/>
            <a:gdLst/>
            <a:ahLst/>
            <a:rect l="l" t="t" r="r" b="b"/>
            <a:pathLst>
              <a:path w="7864" h="2680">
                <a:moveTo>
                  <a:pt x="11956" y="8756"/>
                </a:moveTo>
                <a:cubicBezTo>
                  <a:pt x="11961" y="8719"/>
                  <a:pt x="11983" y="8661"/>
                  <a:pt x="11981" y="8632"/>
                </a:cubicBezTo>
                <a:cubicBezTo>
                  <a:pt x="11974" y="8544"/>
                  <a:pt x="11943" y="8555"/>
                  <a:pt x="11881" y="8533"/>
                </a:cubicBezTo>
                <a:cubicBezTo>
                  <a:pt x="11809" y="8507"/>
                  <a:pt x="11713" y="8492"/>
                  <a:pt x="11633" y="8508"/>
                </a:cubicBezTo>
                <a:cubicBezTo>
                  <a:pt x="11530" y="8528"/>
                  <a:pt x="11450" y="8581"/>
                  <a:pt x="11361" y="8632"/>
                </a:cubicBezTo>
                <a:cubicBezTo>
                  <a:pt x="11318" y="8657"/>
                  <a:pt x="11296" y="8672"/>
                  <a:pt x="11261" y="8706"/>
                </a:cubicBezTo>
                <a:cubicBezTo>
                  <a:pt x="11328" y="8773"/>
                  <a:pt x="11370" y="8799"/>
                  <a:pt x="11460" y="8830"/>
                </a:cubicBezTo>
                <a:cubicBezTo>
                  <a:pt x="11548" y="8860"/>
                  <a:pt x="11658" y="8921"/>
                  <a:pt x="11733" y="8979"/>
                </a:cubicBezTo>
                <a:cubicBezTo>
                  <a:pt x="11793" y="9026"/>
                  <a:pt x="11917" y="9087"/>
                  <a:pt x="11956" y="9153"/>
                </a:cubicBezTo>
                <a:cubicBezTo>
                  <a:pt x="12002" y="9230"/>
                  <a:pt x="12044" y="9301"/>
                  <a:pt x="12005" y="9376"/>
                </a:cubicBezTo>
                <a:cubicBezTo>
                  <a:pt x="11963" y="9457"/>
                  <a:pt x="11956" y="9448"/>
                  <a:pt x="11881" y="9475"/>
                </a:cubicBezTo>
                <a:cubicBezTo>
                  <a:pt x="11815" y="9498"/>
                  <a:pt x="11754" y="9521"/>
                  <a:pt x="11683" y="9525"/>
                </a:cubicBezTo>
                <a:cubicBezTo>
                  <a:pt x="11645" y="9527"/>
                  <a:pt x="11582" y="9513"/>
                  <a:pt x="11584" y="9475"/>
                </a:cubicBezTo>
                <a:cubicBezTo>
                  <a:pt x="11586" y="9423"/>
                  <a:pt x="11607" y="9391"/>
                  <a:pt x="11633" y="9351"/>
                </a:cubicBezTo>
              </a:path>
              <a:path w="7864" h="2680">
                <a:moveTo>
                  <a:pt x="12254" y="8607"/>
                </a:moveTo>
                <a:cubicBezTo>
                  <a:pt x="12254" y="8751"/>
                  <a:pt x="12256" y="8891"/>
                  <a:pt x="12278" y="9029"/>
                </a:cubicBezTo>
                <a:cubicBezTo>
                  <a:pt x="12290" y="9105"/>
                  <a:pt x="12289" y="9176"/>
                  <a:pt x="12303" y="9252"/>
                </a:cubicBezTo>
                <a:cubicBezTo>
                  <a:pt x="12303" y="9277"/>
                  <a:pt x="12303" y="9285"/>
                  <a:pt x="12303" y="9302"/>
                </a:cubicBezTo>
                <a:cubicBezTo>
                  <a:pt x="12339" y="9290"/>
                  <a:pt x="12325" y="9265"/>
                  <a:pt x="12353" y="9227"/>
                </a:cubicBezTo>
              </a:path>
              <a:path w="7864" h="2680">
                <a:moveTo>
                  <a:pt x="12402" y="8558"/>
                </a:moveTo>
                <a:cubicBezTo>
                  <a:pt x="12439" y="8582"/>
                  <a:pt x="12427" y="8625"/>
                  <a:pt x="12427" y="8682"/>
                </a:cubicBezTo>
                <a:cubicBezTo>
                  <a:pt x="12427" y="8751"/>
                  <a:pt x="12452" y="8807"/>
                  <a:pt x="12452" y="8880"/>
                </a:cubicBezTo>
                <a:cubicBezTo>
                  <a:pt x="12452" y="8982"/>
                  <a:pt x="12472" y="9077"/>
                  <a:pt x="12477" y="9178"/>
                </a:cubicBezTo>
                <a:cubicBezTo>
                  <a:pt x="12480" y="9245"/>
                  <a:pt x="12483" y="9272"/>
                  <a:pt x="12502" y="9327"/>
                </a:cubicBezTo>
                <a:cubicBezTo>
                  <a:pt x="12502" y="9335"/>
                  <a:pt x="12502" y="9343"/>
                  <a:pt x="12502" y="9351"/>
                </a:cubicBezTo>
                <a:cubicBezTo>
                  <a:pt x="12529" y="9305"/>
                  <a:pt x="12548" y="9259"/>
                  <a:pt x="12551" y="9203"/>
                </a:cubicBezTo>
                <a:cubicBezTo>
                  <a:pt x="12558" y="9089"/>
                  <a:pt x="12542" y="8989"/>
                  <a:pt x="12526" y="8880"/>
                </a:cubicBezTo>
                <a:cubicBezTo>
                  <a:pt x="12516" y="8814"/>
                  <a:pt x="12513" y="8714"/>
                  <a:pt x="12551" y="8657"/>
                </a:cubicBezTo>
                <a:cubicBezTo>
                  <a:pt x="12603" y="8580"/>
                  <a:pt x="12570" y="8598"/>
                  <a:pt x="12650" y="8558"/>
                </a:cubicBezTo>
                <a:cubicBezTo>
                  <a:pt x="12704" y="8531"/>
                  <a:pt x="12709" y="8520"/>
                  <a:pt x="12774" y="8558"/>
                </a:cubicBezTo>
                <a:cubicBezTo>
                  <a:pt x="12878" y="8619"/>
                  <a:pt x="12865" y="8633"/>
                  <a:pt x="12898" y="8731"/>
                </a:cubicBezTo>
                <a:cubicBezTo>
                  <a:pt x="12924" y="8808"/>
                  <a:pt x="12944" y="8870"/>
                  <a:pt x="12948" y="8954"/>
                </a:cubicBezTo>
                <a:cubicBezTo>
                  <a:pt x="12950" y="8988"/>
                  <a:pt x="12985" y="9107"/>
                  <a:pt x="12973" y="9128"/>
                </a:cubicBezTo>
                <a:cubicBezTo>
                  <a:pt x="12960" y="9151"/>
                  <a:pt x="12958" y="9174"/>
                  <a:pt x="12973" y="9128"/>
                </a:cubicBezTo>
              </a:path>
              <a:path w="7864" h="2680">
                <a:moveTo>
                  <a:pt x="13246" y="8285"/>
                </a:moveTo>
                <a:cubicBezTo>
                  <a:pt x="13208" y="8235"/>
                  <a:pt x="13231" y="8214"/>
                  <a:pt x="13271" y="8161"/>
                </a:cubicBezTo>
                <a:cubicBezTo>
                  <a:pt x="13299" y="8123"/>
                  <a:pt x="13348" y="8094"/>
                  <a:pt x="13395" y="8086"/>
                </a:cubicBezTo>
                <a:cubicBezTo>
                  <a:pt x="13443" y="8078"/>
                  <a:pt x="13486" y="8081"/>
                  <a:pt x="13519" y="8111"/>
                </a:cubicBezTo>
                <a:cubicBezTo>
                  <a:pt x="13564" y="8152"/>
                  <a:pt x="13590" y="8204"/>
                  <a:pt x="13593" y="8260"/>
                </a:cubicBezTo>
                <a:cubicBezTo>
                  <a:pt x="13600" y="8373"/>
                  <a:pt x="13536" y="8456"/>
                  <a:pt x="13519" y="8558"/>
                </a:cubicBezTo>
                <a:cubicBezTo>
                  <a:pt x="13505" y="8641"/>
                  <a:pt x="13498" y="8732"/>
                  <a:pt x="13444" y="8806"/>
                </a:cubicBezTo>
                <a:cubicBezTo>
                  <a:pt x="13404" y="8861"/>
                  <a:pt x="13343" y="8912"/>
                  <a:pt x="13320" y="8979"/>
                </a:cubicBezTo>
                <a:cubicBezTo>
                  <a:pt x="13305" y="9022"/>
                  <a:pt x="13329" y="9051"/>
                  <a:pt x="13370" y="9054"/>
                </a:cubicBezTo>
                <a:cubicBezTo>
                  <a:pt x="13445" y="9059"/>
                  <a:pt x="13497" y="9033"/>
                  <a:pt x="13568" y="9029"/>
                </a:cubicBezTo>
                <a:cubicBezTo>
                  <a:pt x="13640" y="9025"/>
                  <a:pt x="13698" y="9008"/>
                  <a:pt x="13767" y="9004"/>
                </a:cubicBezTo>
                <a:cubicBezTo>
                  <a:pt x="13837" y="9000"/>
                  <a:pt x="13841" y="9004"/>
                  <a:pt x="13891" y="8954"/>
                </a:cubicBezTo>
                <a:cubicBezTo>
                  <a:pt x="13913" y="8932"/>
                  <a:pt x="13921" y="8927"/>
                  <a:pt x="13915" y="8905"/>
                </a:cubicBezTo>
              </a:path>
              <a:path w="7864" h="2680">
                <a:moveTo>
                  <a:pt x="13742" y="8136"/>
                </a:moveTo>
                <a:cubicBezTo>
                  <a:pt x="13816" y="8083"/>
                  <a:pt x="13878" y="8019"/>
                  <a:pt x="13965" y="8012"/>
                </a:cubicBezTo>
                <a:cubicBezTo>
                  <a:pt x="14026" y="8007"/>
                  <a:pt x="14087" y="8006"/>
                  <a:pt x="14114" y="8037"/>
                </a:cubicBezTo>
                <a:cubicBezTo>
                  <a:pt x="14160" y="8090"/>
                  <a:pt x="14163" y="8088"/>
                  <a:pt x="14163" y="8161"/>
                </a:cubicBezTo>
                <a:cubicBezTo>
                  <a:pt x="14163" y="8227"/>
                  <a:pt x="14166" y="8273"/>
                  <a:pt x="14139" y="8334"/>
                </a:cubicBezTo>
                <a:cubicBezTo>
                  <a:pt x="14094" y="8435"/>
                  <a:pt x="14096" y="8485"/>
                  <a:pt x="14015" y="8582"/>
                </a:cubicBezTo>
                <a:cubicBezTo>
                  <a:pt x="13981" y="8622"/>
                  <a:pt x="13912" y="8682"/>
                  <a:pt x="13891" y="8731"/>
                </a:cubicBezTo>
                <a:cubicBezTo>
                  <a:pt x="13874" y="8770"/>
                  <a:pt x="13893" y="8796"/>
                  <a:pt x="13915" y="8806"/>
                </a:cubicBezTo>
                <a:cubicBezTo>
                  <a:pt x="13980" y="8835"/>
                  <a:pt x="14061" y="8806"/>
                  <a:pt x="14139" y="8806"/>
                </a:cubicBezTo>
                <a:cubicBezTo>
                  <a:pt x="14238" y="8806"/>
                  <a:pt x="14337" y="8806"/>
                  <a:pt x="14436" y="8806"/>
                </a:cubicBezTo>
              </a:path>
              <a:path w="7864" h="2680">
                <a:moveTo>
                  <a:pt x="14784" y="9054"/>
                </a:moveTo>
                <a:cubicBezTo>
                  <a:pt x="14691" y="9077"/>
                  <a:pt x="14604" y="9115"/>
                  <a:pt x="14511" y="9128"/>
                </a:cubicBezTo>
                <a:cubicBezTo>
                  <a:pt x="14356" y="9150"/>
                  <a:pt x="14195" y="9187"/>
                  <a:pt x="14039" y="9203"/>
                </a:cubicBezTo>
                <a:cubicBezTo>
                  <a:pt x="13849" y="9222"/>
                  <a:pt x="13656" y="9241"/>
                  <a:pt x="13469" y="9277"/>
                </a:cubicBezTo>
                <a:cubicBezTo>
                  <a:pt x="13284" y="9312"/>
                  <a:pt x="13107" y="9363"/>
                  <a:pt x="12923" y="9401"/>
                </a:cubicBezTo>
                <a:cubicBezTo>
                  <a:pt x="12696" y="9447"/>
                  <a:pt x="12476" y="9491"/>
                  <a:pt x="12254" y="9550"/>
                </a:cubicBezTo>
                <a:cubicBezTo>
                  <a:pt x="12067" y="9600"/>
                  <a:pt x="11871" y="9617"/>
                  <a:pt x="11683" y="9649"/>
                </a:cubicBezTo>
                <a:cubicBezTo>
                  <a:pt x="11581" y="9666"/>
                  <a:pt x="11486" y="9684"/>
                  <a:pt x="11385" y="9699"/>
                </a:cubicBezTo>
                <a:cubicBezTo>
                  <a:pt x="11335" y="9707"/>
                  <a:pt x="11291" y="9720"/>
                  <a:pt x="11237" y="9723"/>
                </a:cubicBezTo>
              </a:path>
              <a:path w="7864" h="2680">
                <a:moveTo>
                  <a:pt x="13320" y="9649"/>
                </a:moveTo>
                <a:cubicBezTo>
                  <a:pt x="13312" y="9649"/>
                  <a:pt x="13303" y="9649"/>
                  <a:pt x="13295" y="9649"/>
                </a:cubicBezTo>
                <a:cubicBezTo>
                  <a:pt x="13283" y="9709"/>
                  <a:pt x="13250" y="9744"/>
                  <a:pt x="13221" y="9798"/>
                </a:cubicBezTo>
                <a:cubicBezTo>
                  <a:pt x="13184" y="9867"/>
                  <a:pt x="13147" y="9937"/>
                  <a:pt x="13097" y="9996"/>
                </a:cubicBezTo>
                <a:cubicBezTo>
                  <a:pt x="13047" y="10056"/>
                  <a:pt x="13004" y="10114"/>
                  <a:pt x="12948" y="10170"/>
                </a:cubicBezTo>
                <a:cubicBezTo>
                  <a:pt x="12919" y="10199"/>
                  <a:pt x="12902" y="10241"/>
                  <a:pt x="12874" y="10244"/>
                </a:cubicBezTo>
                <a:cubicBezTo>
                  <a:pt x="12849" y="10244"/>
                  <a:pt x="12841" y="10244"/>
                  <a:pt x="12849" y="10220"/>
                </a:cubicBezTo>
              </a:path>
              <a:path w="7864" h="2680">
                <a:moveTo>
                  <a:pt x="12675" y="9748"/>
                </a:moveTo>
                <a:cubicBezTo>
                  <a:pt x="12740" y="9789"/>
                  <a:pt x="12849" y="9840"/>
                  <a:pt x="12898" y="9897"/>
                </a:cubicBezTo>
                <a:cubicBezTo>
                  <a:pt x="12945" y="9952"/>
                  <a:pt x="12993" y="10027"/>
                  <a:pt x="13047" y="10071"/>
                </a:cubicBezTo>
                <a:cubicBezTo>
                  <a:pt x="13099" y="10113"/>
                  <a:pt x="13145" y="10184"/>
                  <a:pt x="13196" y="10220"/>
                </a:cubicBezTo>
                <a:cubicBezTo>
                  <a:pt x="13211" y="10230"/>
                  <a:pt x="13271" y="10257"/>
                  <a:pt x="13295" y="10244"/>
                </a:cubicBezTo>
                <a:cubicBezTo>
                  <a:pt x="13303" y="10236"/>
                  <a:pt x="13312" y="10228"/>
                  <a:pt x="13320" y="10220"/>
                </a:cubicBezTo>
              </a:path>
              <a:path w="7864" h="2680">
                <a:moveTo>
                  <a:pt x="14982" y="8905"/>
                </a:moveTo>
                <a:cubicBezTo>
                  <a:pt x="15020" y="8876"/>
                  <a:pt x="15033" y="8880"/>
                  <a:pt x="15081" y="8880"/>
                </a:cubicBezTo>
                <a:cubicBezTo>
                  <a:pt x="15152" y="8880"/>
                  <a:pt x="15411" y="8850"/>
                  <a:pt x="15429" y="8905"/>
                </a:cubicBezTo>
              </a:path>
              <a:path w="7864" h="2680">
                <a:moveTo>
                  <a:pt x="15106" y="9128"/>
                </a:moveTo>
                <a:cubicBezTo>
                  <a:pt x="15204" y="9128"/>
                  <a:pt x="15288" y="9118"/>
                  <a:pt x="15379" y="9103"/>
                </a:cubicBezTo>
                <a:cubicBezTo>
                  <a:pt x="15436" y="9093"/>
                  <a:pt x="15476" y="9118"/>
                  <a:pt x="15528" y="9128"/>
                </a:cubicBezTo>
              </a:path>
              <a:path w="7864" h="2680">
                <a:moveTo>
                  <a:pt x="16371" y="8012"/>
                </a:moveTo>
                <a:cubicBezTo>
                  <a:pt x="16336" y="7977"/>
                  <a:pt x="16297" y="7919"/>
                  <a:pt x="16247" y="7913"/>
                </a:cubicBezTo>
                <a:cubicBezTo>
                  <a:pt x="16152" y="7902"/>
                  <a:pt x="16122" y="7950"/>
                  <a:pt x="16049" y="7987"/>
                </a:cubicBezTo>
                <a:cubicBezTo>
                  <a:pt x="15950" y="8036"/>
                  <a:pt x="15907" y="8018"/>
                  <a:pt x="15875" y="8136"/>
                </a:cubicBezTo>
                <a:cubicBezTo>
                  <a:pt x="15865" y="8173"/>
                  <a:pt x="15926" y="8212"/>
                  <a:pt x="15949" y="8235"/>
                </a:cubicBezTo>
                <a:cubicBezTo>
                  <a:pt x="16005" y="8292"/>
                  <a:pt x="16073" y="8330"/>
                  <a:pt x="16148" y="8359"/>
                </a:cubicBezTo>
                <a:cubicBezTo>
                  <a:pt x="16222" y="8388"/>
                  <a:pt x="16318" y="8422"/>
                  <a:pt x="16371" y="8483"/>
                </a:cubicBezTo>
                <a:cubicBezTo>
                  <a:pt x="16430" y="8551"/>
                  <a:pt x="16392" y="8606"/>
                  <a:pt x="16346" y="8657"/>
                </a:cubicBezTo>
                <a:cubicBezTo>
                  <a:pt x="16295" y="8713"/>
                  <a:pt x="16215" y="8727"/>
                  <a:pt x="16148" y="8756"/>
                </a:cubicBezTo>
                <a:cubicBezTo>
                  <a:pt x="16096" y="8778"/>
                  <a:pt x="16030" y="8802"/>
                  <a:pt x="15974" y="8806"/>
                </a:cubicBezTo>
                <a:cubicBezTo>
                  <a:pt x="15958" y="8806"/>
                  <a:pt x="15941" y="8806"/>
                  <a:pt x="15925" y="8806"/>
                </a:cubicBezTo>
                <a:cubicBezTo>
                  <a:pt x="15925" y="8753"/>
                  <a:pt x="15925" y="8732"/>
                  <a:pt x="15949" y="8682"/>
                </a:cubicBezTo>
                <a:cubicBezTo>
                  <a:pt x="15957" y="8665"/>
                  <a:pt x="15966" y="8649"/>
                  <a:pt x="15974" y="8632"/>
                </a:cubicBezTo>
              </a:path>
              <a:path w="7864" h="2680">
                <a:moveTo>
                  <a:pt x="16669" y="8012"/>
                </a:moveTo>
                <a:cubicBezTo>
                  <a:pt x="16676" y="8091"/>
                  <a:pt x="16694" y="8154"/>
                  <a:pt x="16694" y="8235"/>
                </a:cubicBezTo>
                <a:cubicBezTo>
                  <a:pt x="16694" y="8317"/>
                  <a:pt x="16724" y="8546"/>
                  <a:pt x="16669" y="8582"/>
                </a:cubicBezTo>
              </a:path>
              <a:path w="7864" h="2680">
                <a:moveTo>
                  <a:pt x="16818" y="8012"/>
                </a:moveTo>
                <a:cubicBezTo>
                  <a:pt x="16827" y="8060"/>
                  <a:pt x="16830" y="8114"/>
                  <a:pt x="16842" y="8161"/>
                </a:cubicBezTo>
                <a:cubicBezTo>
                  <a:pt x="16862" y="8242"/>
                  <a:pt x="16867" y="8300"/>
                  <a:pt x="16867" y="8384"/>
                </a:cubicBezTo>
                <a:cubicBezTo>
                  <a:pt x="16867" y="8429"/>
                  <a:pt x="16867" y="8619"/>
                  <a:pt x="16867" y="8582"/>
                </a:cubicBezTo>
                <a:cubicBezTo>
                  <a:pt x="16867" y="8476"/>
                  <a:pt x="16876" y="8383"/>
                  <a:pt x="16892" y="8285"/>
                </a:cubicBezTo>
                <a:cubicBezTo>
                  <a:pt x="16904" y="8211"/>
                  <a:pt x="16928" y="8175"/>
                  <a:pt x="16966" y="8111"/>
                </a:cubicBezTo>
                <a:cubicBezTo>
                  <a:pt x="17003" y="8050"/>
                  <a:pt x="16981" y="8038"/>
                  <a:pt x="17041" y="8012"/>
                </a:cubicBezTo>
                <a:cubicBezTo>
                  <a:pt x="17100" y="7986"/>
                  <a:pt x="17144" y="7972"/>
                  <a:pt x="17190" y="8037"/>
                </a:cubicBezTo>
                <a:cubicBezTo>
                  <a:pt x="17238" y="8105"/>
                  <a:pt x="17234" y="8157"/>
                  <a:pt x="17264" y="8235"/>
                </a:cubicBezTo>
                <a:cubicBezTo>
                  <a:pt x="17297" y="8321"/>
                  <a:pt x="17308" y="8414"/>
                  <a:pt x="17314" y="8508"/>
                </a:cubicBezTo>
                <a:cubicBezTo>
                  <a:pt x="17317" y="8554"/>
                  <a:pt x="17326" y="8595"/>
                  <a:pt x="17289" y="8607"/>
                </a:cubicBezTo>
              </a:path>
              <a:path w="7864" h="2680">
                <a:moveTo>
                  <a:pt x="17512" y="7615"/>
                </a:moveTo>
                <a:cubicBezTo>
                  <a:pt x="17585" y="7608"/>
                  <a:pt x="17638" y="7590"/>
                  <a:pt x="17711" y="7590"/>
                </a:cubicBezTo>
                <a:cubicBezTo>
                  <a:pt x="17778" y="7590"/>
                  <a:pt x="17858" y="7574"/>
                  <a:pt x="17909" y="7615"/>
                </a:cubicBezTo>
                <a:cubicBezTo>
                  <a:pt x="17953" y="7650"/>
                  <a:pt x="17982" y="7690"/>
                  <a:pt x="18008" y="7739"/>
                </a:cubicBezTo>
                <a:cubicBezTo>
                  <a:pt x="18042" y="7804"/>
                  <a:pt x="18033" y="7866"/>
                  <a:pt x="18033" y="7938"/>
                </a:cubicBezTo>
                <a:cubicBezTo>
                  <a:pt x="18033" y="8028"/>
                  <a:pt x="18054" y="8099"/>
                  <a:pt x="18058" y="8186"/>
                </a:cubicBezTo>
                <a:cubicBezTo>
                  <a:pt x="18060" y="8225"/>
                  <a:pt x="18056" y="8561"/>
                  <a:pt x="18033" y="8508"/>
                </a:cubicBezTo>
                <a:cubicBezTo>
                  <a:pt x="18033" y="8500"/>
                  <a:pt x="18033" y="8491"/>
                  <a:pt x="18033" y="8483"/>
                </a:cubicBezTo>
              </a:path>
              <a:path w="7864" h="2680">
                <a:moveTo>
                  <a:pt x="17636" y="8086"/>
                </a:moveTo>
                <a:cubicBezTo>
                  <a:pt x="17713" y="8048"/>
                  <a:pt x="17757" y="8054"/>
                  <a:pt x="17835" y="8037"/>
                </a:cubicBezTo>
                <a:cubicBezTo>
                  <a:pt x="17916" y="8019"/>
                  <a:pt x="17974" y="8012"/>
                  <a:pt x="18058" y="8012"/>
                </a:cubicBezTo>
                <a:cubicBezTo>
                  <a:pt x="18079" y="8012"/>
                  <a:pt x="18185" y="7996"/>
                  <a:pt x="18207" y="7987"/>
                </a:cubicBezTo>
                <a:cubicBezTo>
                  <a:pt x="18215" y="7979"/>
                  <a:pt x="18223" y="7970"/>
                  <a:pt x="18231" y="7962"/>
                </a:cubicBezTo>
              </a:path>
              <a:path w="7864" h="2680">
                <a:moveTo>
                  <a:pt x="18306" y="7565"/>
                </a:moveTo>
                <a:cubicBezTo>
                  <a:pt x="18348" y="7638"/>
                  <a:pt x="18334" y="7663"/>
                  <a:pt x="18355" y="7739"/>
                </a:cubicBezTo>
                <a:cubicBezTo>
                  <a:pt x="18375" y="7810"/>
                  <a:pt x="18380" y="7861"/>
                  <a:pt x="18380" y="7938"/>
                </a:cubicBezTo>
                <a:cubicBezTo>
                  <a:pt x="18380" y="7986"/>
                  <a:pt x="18381" y="8046"/>
                  <a:pt x="18405" y="8086"/>
                </a:cubicBezTo>
                <a:cubicBezTo>
                  <a:pt x="18425" y="8118"/>
                  <a:pt x="18497" y="8177"/>
                  <a:pt x="18529" y="8186"/>
                </a:cubicBezTo>
                <a:cubicBezTo>
                  <a:pt x="18598" y="8205"/>
                  <a:pt x="18666" y="8176"/>
                  <a:pt x="18728" y="8161"/>
                </a:cubicBezTo>
                <a:cubicBezTo>
                  <a:pt x="18790" y="8147"/>
                  <a:pt x="18830" y="8128"/>
                  <a:pt x="18852" y="8062"/>
                </a:cubicBezTo>
                <a:cubicBezTo>
                  <a:pt x="18852" y="8054"/>
                  <a:pt x="18852" y="8045"/>
                  <a:pt x="18852" y="8037"/>
                </a:cubicBezTo>
              </a:path>
              <a:path w="7864" h="2680">
                <a:moveTo>
                  <a:pt x="18703" y="7665"/>
                </a:moveTo>
                <a:cubicBezTo>
                  <a:pt x="18717" y="7780"/>
                  <a:pt x="18747" y="7901"/>
                  <a:pt x="18752" y="8012"/>
                </a:cubicBezTo>
                <a:cubicBezTo>
                  <a:pt x="18757" y="8122"/>
                  <a:pt x="18796" y="8219"/>
                  <a:pt x="18802" y="8334"/>
                </a:cubicBezTo>
                <a:cubicBezTo>
                  <a:pt x="18804" y="8386"/>
                  <a:pt x="18819" y="8469"/>
                  <a:pt x="18777" y="8483"/>
                </a:cubicBezTo>
              </a:path>
              <a:path w="7864" h="2680">
                <a:moveTo>
                  <a:pt x="19100" y="8533"/>
                </a:moveTo>
                <a:cubicBezTo>
                  <a:pt x="19006" y="8557"/>
                  <a:pt x="18922" y="8566"/>
                  <a:pt x="18827" y="8582"/>
                </a:cubicBezTo>
                <a:cubicBezTo>
                  <a:pt x="18746" y="8596"/>
                  <a:pt x="18663" y="8644"/>
                  <a:pt x="18579" y="8657"/>
                </a:cubicBezTo>
                <a:cubicBezTo>
                  <a:pt x="18472" y="8673"/>
                  <a:pt x="18363" y="8718"/>
                  <a:pt x="18256" y="8731"/>
                </a:cubicBezTo>
                <a:cubicBezTo>
                  <a:pt x="18088" y="8751"/>
                  <a:pt x="17927" y="8789"/>
                  <a:pt x="17760" y="8830"/>
                </a:cubicBezTo>
                <a:cubicBezTo>
                  <a:pt x="17620" y="8864"/>
                  <a:pt x="17479" y="8900"/>
                  <a:pt x="17338" y="8930"/>
                </a:cubicBezTo>
                <a:cubicBezTo>
                  <a:pt x="17197" y="8960"/>
                  <a:pt x="17059" y="8973"/>
                  <a:pt x="16917" y="9004"/>
                </a:cubicBezTo>
                <a:cubicBezTo>
                  <a:pt x="16750" y="9041"/>
                  <a:pt x="16563" y="9081"/>
                  <a:pt x="16396" y="9103"/>
                </a:cubicBezTo>
                <a:cubicBezTo>
                  <a:pt x="16282" y="9118"/>
                  <a:pt x="16163" y="9112"/>
                  <a:pt x="16049" y="9128"/>
                </a:cubicBezTo>
                <a:cubicBezTo>
                  <a:pt x="15991" y="9136"/>
                  <a:pt x="15873" y="9182"/>
                  <a:pt x="15825" y="9178"/>
                </a:cubicBezTo>
                <a:cubicBezTo>
                  <a:pt x="15789" y="9175"/>
                  <a:pt x="15813" y="9153"/>
                  <a:pt x="15776" y="9153"/>
                </a:cubicBezTo>
              </a:path>
              <a:path w="7864" h="2680">
                <a:moveTo>
                  <a:pt x="16594" y="9351"/>
                </a:moveTo>
                <a:cubicBezTo>
                  <a:pt x="16611" y="9373"/>
                  <a:pt x="16646" y="9458"/>
                  <a:pt x="16644" y="9475"/>
                </a:cubicBezTo>
                <a:cubicBezTo>
                  <a:pt x="16636" y="9536"/>
                  <a:pt x="16619" y="9583"/>
                  <a:pt x="16619" y="9649"/>
                </a:cubicBezTo>
                <a:cubicBezTo>
                  <a:pt x="16619" y="9674"/>
                  <a:pt x="16619" y="9698"/>
                  <a:pt x="16619" y="9723"/>
                </a:cubicBezTo>
                <a:cubicBezTo>
                  <a:pt x="16748" y="9723"/>
                  <a:pt x="16864" y="9713"/>
                  <a:pt x="16991" y="9699"/>
                </a:cubicBezTo>
                <a:cubicBezTo>
                  <a:pt x="17058" y="9692"/>
                  <a:pt x="17108" y="9691"/>
                  <a:pt x="17165" y="9674"/>
                </a:cubicBezTo>
                <a:cubicBezTo>
                  <a:pt x="17229" y="9655"/>
                  <a:pt x="17210" y="9687"/>
                  <a:pt x="17190" y="9624"/>
                </a:cubicBezTo>
                <a:cubicBezTo>
                  <a:pt x="17190" y="9616"/>
                  <a:pt x="17190" y="9607"/>
                  <a:pt x="17190" y="9599"/>
                </a:cubicBezTo>
              </a:path>
              <a:path w="7864" h="2680">
                <a:moveTo>
                  <a:pt x="17066" y="9327"/>
                </a:moveTo>
                <a:cubicBezTo>
                  <a:pt x="17073" y="9381"/>
                  <a:pt x="17075" y="9445"/>
                  <a:pt x="17090" y="9500"/>
                </a:cubicBezTo>
                <a:cubicBezTo>
                  <a:pt x="17110" y="9573"/>
                  <a:pt x="17095" y="9652"/>
                  <a:pt x="17115" y="9723"/>
                </a:cubicBezTo>
                <a:cubicBezTo>
                  <a:pt x="17135" y="9794"/>
                  <a:pt x="17157" y="9873"/>
                  <a:pt x="17165" y="9947"/>
                </a:cubicBezTo>
                <a:cubicBezTo>
                  <a:pt x="17170" y="9993"/>
                  <a:pt x="17177" y="9928"/>
                  <a:pt x="17190" y="9897"/>
                </a:cubicBezTo>
              </a:path>
              <a:path w="7864" h="2680">
                <a:moveTo>
                  <a:pt x="17289" y="9327"/>
                </a:moveTo>
                <a:cubicBezTo>
                  <a:pt x="17289" y="9463"/>
                  <a:pt x="17287" y="9529"/>
                  <a:pt x="17338" y="9649"/>
                </a:cubicBezTo>
                <a:cubicBezTo>
                  <a:pt x="17360" y="9700"/>
                  <a:pt x="17365" y="9785"/>
                  <a:pt x="17413" y="9823"/>
                </a:cubicBezTo>
                <a:cubicBezTo>
                  <a:pt x="17439" y="9843"/>
                  <a:pt x="17526" y="9859"/>
                  <a:pt x="17562" y="9847"/>
                </a:cubicBezTo>
                <a:cubicBezTo>
                  <a:pt x="17636" y="9823"/>
                  <a:pt x="17697" y="9787"/>
                  <a:pt x="17735" y="9723"/>
                </a:cubicBezTo>
                <a:cubicBezTo>
                  <a:pt x="17787" y="9635"/>
                  <a:pt x="17785" y="9612"/>
                  <a:pt x="17785" y="9500"/>
                </a:cubicBezTo>
                <a:cubicBezTo>
                  <a:pt x="17785" y="9418"/>
                  <a:pt x="17756" y="9387"/>
                  <a:pt x="17686" y="9351"/>
                </a:cubicBezTo>
                <a:cubicBezTo>
                  <a:pt x="17616" y="9314"/>
                  <a:pt x="17540" y="9327"/>
                  <a:pt x="17462" y="9327"/>
                </a:cubicBezTo>
                <a:cubicBezTo>
                  <a:pt x="17429" y="9327"/>
                  <a:pt x="17396" y="9327"/>
                  <a:pt x="17363" y="9327"/>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106960" y="3714840"/>
            <a:ext cx="2706840" cy="714240"/>
          </a:xfrm>
          <a:custGeom>
            <a:avLst/>
            <a:gdLst/>
            <a:ahLst/>
            <a:rect l="l" t="t" r="r" b="b"/>
            <a:pathLst>
              <a:path w="7517" h="1985">
                <a:moveTo>
                  <a:pt x="14213" y="11460"/>
                </a:moveTo>
                <a:cubicBezTo>
                  <a:pt x="14213" y="11509"/>
                  <a:pt x="14196" y="11546"/>
                  <a:pt x="14188" y="11584"/>
                </a:cubicBezTo>
                <a:cubicBezTo>
                  <a:pt x="14176" y="11644"/>
                  <a:pt x="14199" y="11795"/>
                  <a:pt x="14213" y="11857"/>
                </a:cubicBezTo>
                <a:cubicBezTo>
                  <a:pt x="14230" y="11936"/>
                  <a:pt x="14251" y="12022"/>
                  <a:pt x="14263" y="12105"/>
                </a:cubicBezTo>
                <a:cubicBezTo>
                  <a:pt x="14273" y="12171"/>
                  <a:pt x="14272" y="12215"/>
                  <a:pt x="14288" y="12278"/>
                </a:cubicBezTo>
                <a:cubicBezTo>
                  <a:pt x="14288" y="12306"/>
                  <a:pt x="14290" y="12312"/>
                  <a:pt x="14312" y="12278"/>
                </a:cubicBezTo>
              </a:path>
              <a:path w="7517" h="1985">
                <a:moveTo>
                  <a:pt x="14511" y="11336"/>
                </a:moveTo>
                <a:cubicBezTo>
                  <a:pt x="14494" y="11416"/>
                  <a:pt x="14489" y="11536"/>
                  <a:pt x="14461" y="11609"/>
                </a:cubicBezTo>
                <a:cubicBezTo>
                  <a:pt x="14442" y="11659"/>
                  <a:pt x="14436" y="11695"/>
                  <a:pt x="14436" y="11757"/>
                </a:cubicBezTo>
                <a:cubicBezTo>
                  <a:pt x="14436" y="11823"/>
                  <a:pt x="14508" y="11829"/>
                  <a:pt x="14560" y="11832"/>
                </a:cubicBezTo>
                <a:cubicBezTo>
                  <a:pt x="14652" y="11837"/>
                  <a:pt x="14721" y="11819"/>
                  <a:pt x="14808" y="11807"/>
                </a:cubicBezTo>
                <a:cubicBezTo>
                  <a:pt x="14879" y="11797"/>
                  <a:pt x="14945" y="11799"/>
                  <a:pt x="15007" y="11782"/>
                </a:cubicBezTo>
                <a:cubicBezTo>
                  <a:pt x="15047" y="11771"/>
                  <a:pt x="15075" y="11806"/>
                  <a:pt x="15081" y="11757"/>
                </a:cubicBezTo>
                <a:cubicBezTo>
                  <a:pt x="15081" y="11729"/>
                  <a:pt x="15078" y="11719"/>
                  <a:pt x="15056" y="11708"/>
                </a:cubicBezTo>
              </a:path>
              <a:path w="7517" h="1985">
                <a:moveTo>
                  <a:pt x="15081" y="11237"/>
                </a:moveTo>
                <a:cubicBezTo>
                  <a:pt x="15059" y="11369"/>
                  <a:pt x="15076" y="11434"/>
                  <a:pt x="15081" y="11559"/>
                </a:cubicBezTo>
                <a:cubicBezTo>
                  <a:pt x="15085" y="11660"/>
                  <a:pt x="15102" y="11757"/>
                  <a:pt x="15106" y="11857"/>
                </a:cubicBezTo>
                <a:cubicBezTo>
                  <a:pt x="15109" y="11925"/>
                  <a:pt x="15127" y="11968"/>
                  <a:pt x="15131" y="12030"/>
                </a:cubicBezTo>
                <a:cubicBezTo>
                  <a:pt x="15131" y="12072"/>
                  <a:pt x="15131" y="12080"/>
                  <a:pt x="15131" y="12105"/>
                </a:cubicBezTo>
              </a:path>
              <a:path w="7517" h="1985">
                <a:moveTo>
                  <a:pt x="15453" y="12080"/>
                </a:moveTo>
                <a:cubicBezTo>
                  <a:pt x="15494" y="12080"/>
                  <a:pt x="15466" y="12093"/>
                  <a:pt x="15503" y="12105"/>
                </a:cubicBezTo>
              </a:path>
              <a:path w="7517" h="1985">
                <a:moveTo>
                  <a:pt x="16049" y="11137"/>
                </a:moveTo>
                <a:cubicBezTo>
                  <a:pt x="15973" y="11041"/>
                  <a:pt x="15982" y="11054"/>
                  <a:pt x="15875" y="11063"/>
                </a:cubicBezTo>
                <a:cubicBezTo>
                  <a:pt x="15797" y="11070"/>
                  <a:pt x="15718" y="11085"/>
                  <a:pt x="15652" y="11137"/>
                </a:cubicBezTo>
                <a:cubicBezTo>
                  <a:pt x="15604" y="11175"/>
                  <a:pt x="15519" y="11277"/>
                  <a:pt x="15503" y="11336"/>
                </a:cubicBezTo>
                <a:cubicBezTo>
                  <a:pt x="15487" y="11392"/>
                  <a:pt x="15498" y="11486"/>
                  <a:pt x="15528" y="11534"/>
                </a:cubicBezTo>
                <a:cubicBezTo>
                  <a:pt x="15559" y="11584"/>
                  <a:pt x="15598" y="11606"/>
                  <a:pt x="15652" y="11609"/>
                </a:cubicBezTo>
                <a:cubicBezTo>
                  <a:pt x="15732" y="11614"/>
                  <a:pt x="15806" y="11604"/>
                  <a:pt x="15875" y="11559"/>
                </a:cubicBezTo>
                <a:cubicBezTo>
                  <a:pt x="15927" y="11526"/>
                  <a:pt x="15948" y="11462"/>
                  <a:pt x="15974" y="11410"/>
                </a:cubicBezTo>
                <a:cubicBezTo>
                  <a:pt x="16004" y="11350"/>
                  <a:pt x="16019" y="11278"/>
                  <a:pt x="16024" y="11212"/>
                </a:cubicBezTo>
                <a:cubicBezTo>
                  <a:pt x="16024" y="11187"/>
                  <a:pt x="16024" y="11179"/>
                  <a:pt x="16024" y="11162"/>
                </a:cubicBezTo>
                <a:cubicBezTo>
                  <a:pt x="16024" y="11105"/>
                  <a:pt x="16047" y="11202"/>
                  <a:pt x="16049" y="11212"/>
                </a:cubicBezTo>
                <a:cubicBezTo>
                  <a:pt x="16063" y="11279"/>
                  <a:pt x="16065" y="11370"/>
                  <a:pt x="16073" y="11435"/>
                </a:cubicBezTo>
                <a:cubicBezTo>
                  <a:pt x="16085" y="11536"/>
                  <a:pt x="16082" y="11636"/>
                  <a:pt x="16098" y="11733"/>
                </a:cubicBezTo>
                <a:cubicBezTo>
                  <a:pt x="16106" y="11778"/>
                  <a:pt x="16072" y="11898"/>
                  <a:pt x="16123" y="11931"/>
                </a:cubicBezTo>
                <a:cubicBezTo>
                  <a:pt x="16147" y="11946"/>
                  <a:pt x="16141" y="11884"/>
                  <a:pt x="16148" y="11857"/>
                </a:cubicBezTo>
              </a:path>
              <a:path w="7517" h="1985">
                <a:moveTo>
                  <a:pt x="16718" y="11013"/>
                </a:moveTo>
                <a:cubicBezTo>
                  <a:pt x="16659" y="10944"/>
                  <a:pt x="16681" y="10939"/>
                  <a:pt x="16594" y="10939"/>
                </a:cubicBezTo>
                <a:cubicBezTo>
                  <a:pt x="16519" y="10939"/>
                  <a:pt x="16436" y="10945"/>
                  <a:pt x="16371" y="10988"/>
                </a:cubicBezTo>
                <a:cubicBezTo>
                  <a:pt x="16319" y="11022"/>
                  <a:pt x="16243" y="11074"/>
                  <a:pt x="16222" y="11137"/>
                </a:cubicBezTo>
                <a:cubicBezTo>
                  <a:pt x="16202" y="11196"/>
                  <a:pt x="16258" y="11254"/>
                  <a:pt x="16297" y="11286"/>
                </a:cubicBezTo>
                <a:cubicBezTo>
                  <a:pt x="16382" y="11356"/>
                  <a:pt x="16485" y="11369"/>
                  <a:pt x="16570" y="11435"/>
                </a:cubicBezTo>
                <a:cubicBezTo>
                  <a:pt x="16636" y="11487"/>
                  <a:pt x="16727" y="11546"/>
                  <a:pt x="16768" y="11609"/>
                </a:cubicBezTo>
                <a:cubicBezTo>
                  <a:pt x="16816" y="11683"/>
                  <a:pt x="16815" y="11685"/>
                  <a:pt x="16793" y="11757"/>
                </a:cubicBezTo>
                <a:cubicBezTo>
                  <a:pt x="16774" y="11820"/>
                  <a:pt x="16736" y="11828"/>
                  <a:pt x="16669" y="11832"/>
                </a:cubicBezTo>
                <a:cubicBezTo>
                  <a:pt x="16601" y="11836"/>
                  <a:pt x="16549" y="11836"/>
                  <a:pt x="16495" y="11807"/>
                </a:cubicBezTo>
                <a:cubicBezTo>
                  <a:pt x="16458" y="11787"/>
                  <a:pt x="16406" y="11739"/>
                  <a:pt x="16421" y="11683"/>
                </a:cubicBezTo>
                <a:cubicBezTo>
                  <a:pt x="16448" y="11582"/>
                  <a:pt x="16501" y="11541"/>
                  <a:pt x="16545" y="11460"/>
                </a:cubicBezTo>
                <a:cubicBezTo>
                  <a:pt x="16593" y="11373"/>
                  <a:pt x="16573" y="11382"/>
                  <a:pt x="16644" y="11311"/>
                </a:cubicBezTo>
              </a:path>
              <a:path w="7517" h="1985">
                <a:moveTo>
                  <a:pt x="16942" y="10889"/>
                </a:moveTo>
                <a:cubicBezTo>
                  <a:pt x="16942" y="10997"/>
                  <a:pt x="16933" y="11065"/>
                  <a:pt x="16917" y="11162"/>
                </a:cubicBezTo>
                <a:cubicBezTo>
                  <a:pt x="16908" y="11217"/>
                  <a:pt x="16912" y="11310"/>
                  <a:pt x="16892" y="11361"/>
                </a:cubicBezTo>
                <a:cubicBezTo>
                  <a:pt x="16877" y="11400"/>
                  <a:pt x="16838" y="11449"/>
                  <a:pt x="16892" y="11485"/>
                </a:cubicBezTo>
                <a:cubicBezTo>
                  <a:pt x="16962" y="11532"/>
                  <a:pt x="16998" y="11491"/>
                  <a:pt x="17066" y="11485"/>
                </a:cubicBezTo>
                <a:cubicBezTo>
                  <a:pt x="17130" y="11480"/>
                  <a:pt x="17180" y="11445"/>
                  <a:pt x="17239" y="11435"/>
                </a:cubicBezTo>
                <a:cubicBezTo>
                  <a:pt x="17294" y="11425"/>
                  <a:pt x="17321" y="11421"/>
                  <a:pt x="17363" y="11385"/>
                </a:cubicBezTo>
                <a:cubicBezTo>
                  <a:pt x="17386" y="11363"/>
                  <a:pt x="17394" y="11358"/>
                  <a:pt x="17388" y="11336"/>
                </a:cubicBezTo>
              </a:path>
              <a:path w="7517" h="1985">
                <a:moveTo>
                  <a:pt x="17338" y="10914"/>
                </a:moveTo>
                <a:cubicBezTo>
                  <a:pt x="17338" y="11035"/>
                  <a:pt x="17283" y="11681"/>
                  <a:pt x="17363" y="11708"/>
                </a:cubicBezTo>
              </a:path>
              <a:path w="7517" h="1985">
                <a:moveTo>
                  <a:pt x="17859" y="11013"/>
                </a:moveTo>
                <a:cubicBezTo>
                  <a:pt x="17859" y="11005"/>
                  <a:pt x="17859" y="10996"/>
                  <a:pt x="17859" y="10988"/>
                </a:cubicBezTo>
                <a:cubicBezTo>
                  <a:pt x="17926" y="10988"/>
                  <a:pt x="17978" y="10975"/>
                  <a:pt x="18033" y="10964"/>
                </a:cubicBezTo>
                <a:cubicBezTo>
                  <a:pt x="18080" y="10955"/>
                  <a:pt x="18136" y="10944"/>
                  <a:pt x="18182" y="10939"/>
                </a:cubicBezTo>
                <a:cubicBezTo>
                  <a:pt x="18189" y="10938"/>
                  <a:pt x="18272" y="10939"/>
                  <a:pt x="18207" y="10939"/>
                </a:cubicBezTo>
              </a:path>
              <a:path w="7517" h="1985">
                <a:moveTo>
                  <a:pt x="17785" y="11187"/>
                </a:moveTo>
                <a:cubicBezTo>
                  <a:pt x="17838" y="11187"/>
                  <a:pt x="17855" y="11167"/>
                  <a:pt x="17909" y="11162"/>
                </a:cubicBezTo>
                <a:cubicBezTo>
                  <a:pt x="17936" y="11160"/>
                  <a:pt x="17980" y="11147"/>
                  <a:pt x="18008" y="11137"/>
                </a:cubicBezTo>
                <a:cubicBezTo>
                  <a:pt x="18062" y="11118"/>
                  <a:pt x="18077" y="11112"/>
                  <a:pt x="18132" y="11112"/>
                </a:cubicBezTo>
              </a:path>
              <a:path w="7517" h="1985">
                <a:moveTo>
                  <a:pt x="18976" y="10468"/>
                </a:moveTo>
                <a:cubicBezTo>
                  <a:pt x="18913" y="10443"/>
                  <a:pt x="18849" y="10398"/>
                  <a:pt x="18777" y="10418"/>
                </a:cubicBezTo>
                <a:cubicBezTo>
                  <a:pt x="18708" y="10438"/>
                  <a:pt x="18646" y="10459"/>
                  <a:pt x="18579" y="10492"/>
                </a:cubicBezTo>
                <a:cubicBezTo>
                  <a:pt x="18507" y="10528"/>
                  <a:pt x="18439" y="10555"/>
                  <a:pt x="18430" y="10641"/>
                </a:cubicBezTo>
                <a:cubicBezTo>
                  <a:pt x="18424" y="10698"/>
                  <a:pt x="18457" y="10712"/>
                  <a:pt x="18504" y="10740"/>
                </a:cubicBezTo>
                <a:cubicBezTo>
                  <a:pt x="18568" y="10778"/>
                  <a:pt x="18641" y="10832"/>
                  <a:pt x="18703" y="10864"/>
                </a:cubicBezTo>
                <a:cubicBezTo>
                  <a:pt x="18778" y="10903"/>
                  <a:pt x="18891" y="10924"/>
                  <a:pt x="18951" y="10988"/>
                </a:cubicBezTo>
                <a:cubicBezTo>
                  <a:pt x="18995" y="11035"/>
                  <a:pt x="19064" y="11152"/>
                  <a:pt x="19000" y="11212"/>
                </a:cubicBezTo>
                <a:cubicBezTo>
                  <a:pt x="18949" y="11260"/>
                  <a:pt x="18784" y="11321"/>
                  <a:pt x="18728" y="11336"/>
                </a:cubicBezTo>
                <a:cubicBezTo>
                  <a:pt x="18672" y="11351"/>
                  <a:pt x="18614" y="11361"/>
                  <a:pt x="18554" y="11361"/>
                </a:cubicBezTo>
                <a:cubicBezTo>
                  <a:pt x="18515" y="11361"/>
                  <a:pt x="18529" y="11344"/>
                  <a:pt x="18529" y="11311"/>
                </a:cubicBezTo>
              </a:path>
              <a:path w="7517" h="1985">
                <a:moveTo>
                  <a:pt x="19224" y="10914"/>
                </a:moveTo>
                <a:cubicBezTo>
                  <a:pt x="19242" y="11000"/>
                  <a:pt x="19254" y="11080"/>
                  <a:pt x="19273" y="11162"/>
                </a:cubicBezTo>
                <a:cubicBezTo>
                  <a:pt x="19280" y="11191"/>
                  <a:pt x="19273" y="11231"/>
                  <a:pt x="19273" y="11261"/>
                </a:cubicBezTo>
                <a:cubicBezTo>
                  <a:pt x="19273" y="11213"/>
                  <a:pt x="19270" y="11200"/>
                  <a:pt x="19298" y="11162"/>
                </a:cubicBezTo>
              </a:path>
              <a:path w="7517" h="1985">
                <a:moveTo>
                  <a:pt x="19521" y="10765"/>
                </a:moveTo>
                <a:cubicBezTo>
                  <a:pt x="19521" y="10832"/>
                  <a:pt x="19521" y="11226"/>
                  <a:pt x="19521" y="11137"/>
                </a:cubicBezTo>
                <a:cubicBezTo>
                  <a:pt x="19521" y="11076"/>
                  <a:pt x="19533" y="11022"/>
                  <a:pt x="19546" y="10964"/>
                </a:cubicBezTo>
                <a:cubicBezTo>
                  <a:pt x="19564" y="10882"/>
                  <a:pt x="19590" y="10827"/>
                  <a:pt x="19645" y="10765"/>
                </a:cubicBezTo>
                <a:cubicBezTo>
                  <a:pt x="19663" y="10745"/>
                  <a:pt x="19742" y="10679"/>
                  <a:pt x="19769" y="10691"/>
                </a:cubicBezTo>
                <a:cubicBezTo>
                  <a:pt x="19828" y="10717"/>
                  <a:pt x="19864" y="10759"/>
                  <a:pt x="19893" y="10815"/>
                </a:cubicBezTo>
                <a:cubicBezTo>
                  <a:pt x="19931" y="10887"/>
                  <a:pt x="19956" y="10961"/>
                  <a:pt x="19968" y="11038"/>
                </a:cubicBezTo>
                <a:cubicBezTo>
                  <a:pt x="19978" y="11100"/>
                  <a:pt x="19993" y="11147"/>
                  <a:pt x="19993" y="11212"/>
                </a:cubicBezTo>
                <a:cubicBezTo>
                  <a:pt x="19993" y="11272"/>
                  <a:pt x="19984" y="11257"/>
                  <a:pt x="20017" y="11212"/>
                </a:cubicBezTo>
              </a:path>
              <a:path w="7517" h="1985">
                <a:moveTo>
                  <a:pt x="20216" y="10319"/>
                </a:moveTo>
                <a:cubicBezTo>
                  <a:pt x="20191" y="10319"/>
                  <a:pt x="20183" y="10319"/>
                  <a:pt x="20166" y="10319"/>
                </a:cubicBezTo>
                <a:cubicBezTo>
                  <a:pt x="20220" y="10319"/>
                  <a:pt x="20248" y="10335"/>
                  <a:pt x="20290" y="10344"/>
                </a:cubicBezTo>
                <a:cubicBezTo>
                  <a:pt x="20351" y="10357"/>
                  <a:pt x="20464" y="10312"/>
                  <a:pt x="20513" y="10368"/>
                </a:cubicBezTo>
                <a:cubicBezTo>
                  <a:pt x="20538" y="10397"/>
                  <a:pt x="20538" y="10451"/>
                  <a:pt x="20538" y="10492"/>
                </a:cubicBezTo>
                <a:cubicBezTo>
                  <a:pt x="20538" y="10653"/>
                  <a:pt x="20536" y="10807"/>
                  <a:pt x="20513" y="10964"/>
                </a:cubicBezTo>
                <a:cubicBezTo>
                  <a:pt x="20508" y="11001"/>
                  <a:pt x="20498" y="11299"/>
                  <a:pt x="20489" y="11286"/>
                </a:cubicBezTo>
                <a:cubicBezTo>
                  <a:pt x="20489" y="11278"/>
                  <a:pt x="20489" y="11269"/>
                  <a:pt x="20489" y="11261"/>
                </a:cubicBezTo>
              </a:path>
              <a:path w="7517" h="1985">
                <a:moveTo>
                  <a:pt x="20216" y="10889"/>
                </a:moveTo>
                <a:cubicBezTo>
                  <a:pt x="20293" y="10879"/>
                  <a:pt x="20357" y="10864"/>
                  <a:pt x="20439" y="10864"/>
                </a:cubicBezTo>
                <a:cubicBezTo>
                  <a:pt x="20513" y="10864"/>
                  <a:pt x="20600" y="10831"/>
                  <a:pt x="20662" y="10815"/>
                </a:cubicBezTo>
                <a:cubicBezTo>
                  <a:pt x="20703" y="10805"/>
                  <a:pt x="20702" y="10806"/>
                  <a:pt x="20712" y="10765"/>
                </a:cubicBezTo>
              </a:path>
              <a:path w="7517" h="1985">
                <a:moveTo>
                  <a:pt x="20712" y="10368"/>
                </a:moveTo>
                <a:cubicBezTo>
                  <a:pt x="20740" y="10405"/>
                  <a:pt x="20754" y="10470"/>
                  <a:pt x="20762" y="10517"/>
                </a:cubicBezTo>
                <a:cubicBezTo>
                  <a:pt x="20777" y="10607"/>
                  <a:pt x="20770" y="10709"/>
                  <a:pt x="20786" y="10790"/>
                </a:cubicBezTo>
                <a:cubicBezTo>
                  <a:pt x="20801" y="10868"/>
                  <a:pt x="20807" y="10865"/>
                  <a:pt x="20886" y="10889"/>
                </a:cubicBezTo>
                <a:cubicBezTo>
                  <a:pt x="20956" y="10910"/>
                  <a:pt x="20988" y="10914"/>
                  <a:pt x="21059" y="10914"/>
                </a:cubicBezTo>
                <a:cubicBezTo>
                  <a:pt x="21104" y="10914"/>
                  <a:pt x="21152" y="10891"/>
                  <a:pt x="21183" y="10864"/>
                </a:cubicBezTo>
                <a:cubicBezTo>
                  <a:pt x="21191" y="10856"/>
                  <a:pt x="21200" y="10848"/>
                  <a:pt x="21208" y="10840"/>
                </a:cubicBezTo>
              </a:path>
              <a:path w="7517" h="1985">
                <a:moveTo>
                  <a:pt x="21109" y="10418"/>
                </a:moveTo>
                <a:cubicBezTo>
                  <a:pt x="21114" y="10548"/>
                  <a:pt x="21134" y="10662"/>
                  <a:pt x="21134" y="10790"/>
                </a:cubicBezTo>
                <a:cubicBezTo>
                  <a:pt x="21134" y="10924"/>
                  <a:pt x="21145" y="11068"/>
                  <a:pt x="21109" y="11187"/>
                </a:cubicBezTo>
                <a:cubicBezTo>
                  <a:pt x="21096" y="11231"/>
                  <a:pt x="21141" y="11155"/>
                  <a:pt x="21158" y="11112"/>
                </a:cubicBezTo>
              </a:path>
              <a:path w="7517" h="1985">
                <a:moveTo>
                  <a:pt x="21704" y="10641"/>
                </a:moveTo>
                <a:cubicBezTo>
                  <a:pt x="21681" y="10728"/>
                  <a:pt x="21663" y="10840"/>
                  <a:pt x="21605" y="10914"/>
                </a:cubicBezTo>
                <a:cubicBezTo>
                  <a:pt x="21559" y="10973"/>
                  <a:pt x="21498" y="11026"/>
                  <a:pt x="21456" y="11088"/>
                </a:cubicBezTo>
                <a:cubicBezTo>
                  <a:pt x="21411" y="11155"/>
                  <a:pt x="21439" y="11143"/>
                  <a:pt x="21382" y="11187"/>
                </a:cubicBezTo>
                <a:cubicBezTo>
                  <a:pt x="21352" y="11157"/>
                  <a:pt x="21341" y="11143"/>
                  <a:pt x="21332" y="11112"/>
                </a:cubicBezTo>
              </a:path>
              <a:path w="7517" h="1985">
                <a:moveTo>
                  <a:pt x="21258" y="10691"/>
                </a:moveTo>
                <a:cubicBezTo>
                  <a:pt x="21310" y="10783"/>
                  <a:pt x="21360" y="10861"/>
                  <a:pt x="21431" y="10939"/>
                </a:cubicBezTo>
                <a:cubicBezTo>
                  <a:pt x="21473" y="10985"/>
                  <a:pt x="21494" y="11040"/>
                  <a:pt x="21530" y="11088"/>
                </a:cubicBezTo>
                <a:cubicBezTo>
                  <a:pt x="21576" y="11150"/>
                  <a:pt x="21623" y="11156"/>
                  <a:pt x="21630" y="11237"/>
                </a:cubicBezTo>
                <a:cubicBezTo>
                  <a:pt x="21630" y="11245"/>
                  <a:pt x="21630" y="11253"/>
                  <a:pt x="21630" y="1126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072040" y="4438800"/>
            <a:ext cx="955800" cy="384120"/>
          </a:xfrm>
          <a:custGeom>
            <a:avLst/>
            <a:gdLst/>
            <a:ahLst/>
            <a:rect l="l" t="t" r="r" b="b"/>
            <a:pathLst>
              <a:path w="2655" h="1068">
                <a:moveTo>
                  <a:pt x="14238" y="12874"/>
                </a:moveTo>
                <a:cubicBezTo>
                  <a:pt x="14227" y="12957"/>
                  <a:pt x="14224" y="12970"/>
                  <a:pt x="14238" y="13047"/>
                </a:cubicBezTo>
                <a:cubicBezTo>
                  <a:pt x="14254" y="13137"/>
                  <a:pt x="14236" y="13245"/>
                  <a:pt x="14213" y="13320"/>
                </a:cubicBezTo>
                <a:cubicBezTo>
                  <a:pt x="14199" y="13366"/>
                  <a:pt x="14236" y="13379"/>
                  <a:pt x="14188" y="13395"/>
                </a:cubicBezTo>
              </a:path>
              <a:path w="2655" h="1068">
                <a:moveTo>
                  <a:pt x="14833" y="12700"/>
                </a:moveTo>
                <a:cubicBezTo>
                  <a:pt x="14782" y="12731"/>
                  <a:pt x="14720" y="12744"/>
                  <a:pt x="14660" y="12774"/>
                </a:cubicBezTo>
                <a:cubicBezTo>
                  <a:pt x="14566" y="12821"/>
                  <a:pt x="14475" y="12870"/>
                  <a:pt x="14387" y="12923"/>
                </a:cubicBezTo>
                <a:cubicBezTo>
                  <a:pt x="14351" y="12944"/>
                  <a:pt x="14324" y="12964"/>
                  <a:pt x="14288" y="12973"/>
                </a:cubicBezTo>
                <a:cubicBezTo>
                  <a:pt x="14325" y="12973"/>
                  <a:pt x="14383" y="12963"/>
                  <a:pt x="14412" y="12948"/>
                </a:cubicBezTo>
                <a:cubicBezTo>
                  <a:pt x="14493" y="12907"/>
                  <a:pt x="14568" y="12898"/>
                  <a:pt x="14660" y="12898"/>
                </a:cubicBezTo>
                <a:cubicBezTo>
                  <a:pt x="14717" y="12898"/>
                  <a:pt x="14791" y="12914"/>
                  <a:pt x="14833" y="12948"/>
                </a:cubicBezTo>
                <a:cubicBezTo>
                  <a:pt x="14882" y="12988"/>
                  <a:pt x="14903" y="13011"/>
                  <a:pt x="14908" y="13072"/>
                </a:cubicBezTo>
                <a:cubicBezTo>
                  <a:pt x="14913" y="13134"/>
                  <a:pt x="14895" y="13171"/>
                  <a:pt x="14858" y="13221"/>
                </a:cubicBezTo>
                <a:cubicBezTo>
                  <a:pt x="14831" y="13257"/>
                  <a:pt x="14773" y="13304"/>
                  <a:pt x="14734" y="13320"/>
                </a:cubicBezTo>
                <a:cubicBezTo>
                  <a:pt x="14710" y="13330"/>
                  <a:pt x="14644" y="13325"/>
                  <a:pt x="14635" y="13295"/>
                </a:cubicBezTo>
                <a:cubicBezTo>
                  <a:pt x="14635" y="13279"/>
                  <a:pt x="14635" y="13262"/>
                  <a:pt x="14635" y="13246"/>
                </a:cubicBezTo>
              </a:path>
              <a:path w="2655" h="1068">
                <a:moveTo>
                  <a:pt x="15131" y="13171"/>
                </a:moveTo>
                <a:cubicBezTo>
                  <a:pt x="15131" y="13199"/>
                  <a:pt x="15133" y="13205"/>
                  <a:pt x="15156" y="13171"/>
                </a:cubicBezTo>
              </a:path>
              <a:path w="2655" h="1068">
                <a:moveTo>
                  <a:pt x="14684" y="12626"/>
                </a:moveTo>
                <a:cubicBezTo>
                  <a:pt x="14747" y="12626"/>
                  <a:pt x="14775" y="12606"/>
                  <a:pt x="14833" y="12601"/>
                </a:cubicBezTo>
                <a:cubicBezTo>
                  <a:pt x="14886" y="12597"/>
                  <a:pt x="14905" y="12589"/>
                  <a:pt x="14957" y="12576"/>
                </a:cubicBezTo>
                <a:cubicBezTo>
                  <a:pt x="14999" y="12565"/>
                  <a:pt x="15026" y="12578"/>
                  <a:pt x="15056" y="12601"/>
                </a:cubicBezTo>
              </a:path>
              <a:path w="2655" h="1068">
                <a:moveTo>
                  <a:pt x="15081" y="12551"/>
                </a:moveTo>
                <a:cubicBezTo>
                  <a:pt x="15013" y="12551"/>
                  <a:pt x="14971" y="12560"/>
                  <a:pt x="14908" y="12576"/>
                </a:cubicBezTo>
                <a:cubicBezTo>
                  <a:pt x="14860" y="12588"/>
                  <a:pt x="14781" y="12595"/>
                  <a:pt x="14734" y="12601"/>
                </a:cubicBezTo>
                <a:cubicBezTo>
                  <a:pt x="14659" y="12611"/>
                  <a:pt x="14582" y="12626"/>
                  <a:pt x="14511" y="12650"/>
                </a:cubicBezTo>
                <a:cubicBezTo>
                  <a:pt x="14448" y="12671"/>
                  <a:pt x="14436" y="12667"/>
                  <a:pt x="14436" y="12725"/>
                </a:cubicBezTo>
                <a:cubicBezTo>
                  <a:pt x="14436" y="12785"/>
                  <a:pt x="14467" y="12791"/>
                  <a:pt x="14486" y="12849"/>
                </a:cubicBezTo>
                <a:cubicBezTo>
                  <a:pt x="14501" y="12894"/>
                  <a:pt x="14472" y="12915"/>
                  <a:pt x="14461" y="12948"/>
                </a:cubicBezTo>
                <a:cubicBezTo>
                  <a:pt x="14445" y="12997"/>
                  <a:pt x="14509" y="12890"/>
                  <a:pt x="14536" y="12874"/>
                </a:cubicBezTo>
                <a:cubicBezTo>
                  <a:pt x="14570" y="12854"/>
                  <a:pt x="14618" y="12813"/>
                  <a:pt x="14660" y="12799"/>
                </a:cubicBezTo>
                <a:cubicBezTo>
                  <a:pt x="14702" y="12785"/>
                  <a:pt x="14803" y="12799"/>
                  <a:pt x="14833" y="12824"/>
                </a:cubicBezTo>
                <a:cubicBezTo>
                  <a:pt x="14862" y="12848"/>
                  <a:pt x="14899" y="12937"/>
                  <a:pt x="14908" y="12973"/>
                </a:cubicBezTo>
                <a:cubicBezTo>
                  <a:pt x="14924" y="13037"/>
                  <a:pt x="14910" y="13121"/>
                  <a:pt x="14883" y="13171"/>
                </a:cubicBezTo>
                <a:cubicBezTo>
                  <a:pt x="14836" y="13258"/>
                  <a:pt x="14864" y="13260"/>
                  <a:pt x="14784" y="13320"/>
                </a:cubicBezTo>
                <a:cubicBezTo>
                  <a:pt x="14741" y="13352"/>
                  <a:pt x="14689" y="13365"/>
                  <a:pt x="14635" y="13370"/>
                </a:cubicBezTo>
                <a:cubicBezTo>
                  <a:pt x="14590" y="13374"/>
                  <a:pt x="14568" y="13374"/>
                  <a:pt x="14536" y="13345"/>
                </a:cubicBezTo>
                <a:cubicBezTo>
                  <a:pt x="14492" y="13305"/>
                  <a:pt x="14552" y="13279"/>
                  <a:pt x="14585" y="13246"/>
                </a:cubicBezTo>
              </a:path>
              <a:path w="2655" h="1068">
                <a:moveTo>
                  <a:pt x="15379" y="12576"/>
                </a:moveTo>
                <a:cubicBezTo>
                  <a:pt x="15353" y="12648"/>
                  <a:pt x="15316" y="12726"/>
                  <a:pt x="15304" y="12799"/>
                </a:cubicBezTo>
                <a:cubicBezTo>
                  <a:pt x="15287" y="12898"/>
                  <a:pt x="15295" y="13035"/>
                  <a:pt x="15329" y="13122"/>
                </a:cubicBezTo>
                <a:cubicBezTo>
                  <a:pt x="15345" y="13164"/>
                  <a:pt x="15393" y="13245"/>
                  <a:pt x="15429" y="13271"/>
                </a:cubicBezTo>
                <a:cubicBezTo>
                  <a:pt x="15476" y="13304"/>
                  <a:pt x="15523" y="13295"/>
                  <a:pt x="15577" y="13295"/>
                </a:cubicBezTo>
                <a:cubicBezTo>
                  <a:pt x="15643" y="13295"/>
                  <a:pt x="15656" y="13266"/>
                  <a:pt x="15701" y="13221"/>
                </a:cubicBezTo>
                <a:cubicBezTo>
                  <a:pt x="15762" y="13159"/>
                  <a:pt x="15794" y="13135"/>
                  <a:pt x="15801" y="13047"/>
                </a:cubicBezTo>
                <a:cubicBezTo>
                  <a:pt x="15803" y="13016"/>
                  <a:pt x="15800" y="12939"/>
                  <a:pt x="15776" y="12923"/>
                </a:cubicBezTo>
                <a:cubicBezTo>
                  <a:pt x="15755" y="12909"/>
                  <a:pt x="15684" y="12887"/>
                  <a:pt x="15652" y="12898"/>
                </a:cubicBezTo>
                <a:cubicBezTo>
                  <a:pt x="15619" y="12910"/>
                  <a:pt x="15523" y="12942"/>
                  <a:pt x="15503" y="12973"/>
                </a:cubicBezTo>
                <a:cubicBezTo>
                  <a:pt x="15488" y="12997"/>
                  <a:pt x="15432" y="13091"/>
                  <a:pt x="15429" y="13122"/>
                </a:cubicBezTo>
                <a:cubicBezTo>
                  <a:pt x="15425" y="13162"/>
                  <a:pt x="15404" y="13175"/>
                  <a:pt x="15404" y="13221"/>
                </a:cubicBezTo>
                <a:cubicBezTo>
                  <a:pt x="15404" y="13273"/>
                  <a:pt x="15430" y="13239"/>
                  <a:pt x="15453" y="13221"/>
                </a:cubicBezTo>
              </a:path>
              <a:path w="2655" h="1068">
                <a:moveTo>
                  <a:pt x="16446" y="12477"/>
                </a:moveTo>
                <a:cubicBezTo>
                  <a:pt x="16446" y="12423"/>
                  <a:pt x="16433" y="12394"/>
                  <a:pt x="16396" y="12353"/>
                </a:cubicBezTo>
                <a:cubicBezTo>
                  <a:pt x="16362" y="12315"/>
                  <a:pt x="16321" y="12328"/>
                  <a:pt x="16272" y="12328"/>
                </a:cubicBezTo>
                <a:cubicBezTo>
                  <a:pt x="16233" y="12328"/>
                  <a:pt x="16160" y="12390"/>
                  <a:pt x="16148" y="12427"/>
                </a:cubicBezTo>
                <a:cubicBezTo>
                  <a:pt x="16125" y="12497"/>
                  <a:pt x="16123" y="12574"/>
                  <a:pt x="16123" y="12650"/>
                </a:cubicBezTo>
                <a:cubicBezTo>
                  <a:pt x="16123" y="12739"/>
                  <a:pt x="16138" y="12816"/>
                  <a:pt x="16148" y="12898"/>
                </a:cubicBezTo>
                <a:cubicBezTo>
                  <a:pt x="16158" y="12977"/>
                  <a:pt x="16173" y="13041"/>
                  <a:pt x="16173" y="13122"/>
                </a:cubicBezTo>
                <a:cubicBezTo>
                  <a:pt x="16173" y="13130"/>
                  <a:pt x="16186" y="13307"/>
                  <a:pt x="16148" y="13295"/>
                </a:cubicBezTo>
                <a:cubicBezTo>
                  <a:pt x="16148" y="13271"/>
                  <a:pt x="16148" y="13263"/>
                  <a:pt x="16123" y="13271"/>
                </a:cubicBezTo>
              </a:path>
              <a:path w="2655" h="1068">
                <a:moveTo>
                  <a:pt x="15925" y="12874"/>
                </a:moveTo>
                <a:cubicBezTo>
                  <a:pt x="15961" y="12901"/>
                  <a:pt x="16027" y="12915"/>
                  <a:pt x="16073" y="12923"/>
                </a:cubicBezTo>
                <a:cubicBezTo>
                  <a:pt x="16152" y="12936"/>
                  <a:pt x="16220" y="12929"/>
                  <a:pt x="16297" y="12948"/>
                </a:cubicBezTo>
                <a:cubicBezTo>
                  <a:pt x="16351" y="12962"/>
                  <a:pt x="16374" y="12926"/>
                  <a:pt x="16396" y="12898"/>
                </a:cubicBezTo>
                <a:cubicBezTo>
                  <a:pt x="16419" y="12876"/>
                  <a:pt x="16427" y="12871"/>
                  <a:pt x="16421" y="12849"/>
                </a:cubicBezTo>
              </a:path>
              <a:path w="2655" h="1068">
                <a:moveTo>
                  <a:pt x="16594" y="12378"/>
                </a:moveTo>
                <a:cubicBezTo>
                  <a:pt x="16600" y="12484"/>
                  <a:pt x="16619" y="12569"/>
                  <a:pt x="16619" y="12675"/>
                </a:cubicBezTo>
                <a:cubicBezTo>
                  <a:pt x="16619" y="12796"/>
                  <a:pt x="16627" y="12909"/>
                  <a:pt x="16644" y="13022"/>
                </a:cubicBezTo>
                <a:cubicBezTo>
                  <a:pt x="16652" y="13072"/>
                  <a:pt x="16644" y="13276"/>
                  <a:pt x="16644" y="13246"/>
                </a:cubicBezTo>
                <a:cubicBezTo>
                  <a:pt x="16644" y="13238"/>
                  <a:pt x="16644" y="13229"/>
                  <a:pt x="16644" y="13221"/>
                </a:cubicBezTo>
              </a:path>
              <a:path w="2655" h="1068">
                <a:moveTo>
                  <a:pt x="16421" y="12799"/>
                </a:moveTo>
                <a:cubicBezTo>
                  <a:pt x="16497" y="12799"/>
                  <a:pt x="16549" y="12790"/>
                  <a:pt x="16619" y="12774"/>
                </a:cubicBezTo>
                <a:cubicBezTo>
                  <a:pt x="16656" y="12765"/>
                  <a:pt x="16704" y="12774"/>
                  <a:pt x="16743" y="12774"/>
                </a:cubicBezTo>
              </a:path>
              <a:path w="2655" h="1068">
                <a:moveTo>
                  <a:pt x="14089" y="12576"/>
                </a:moveTo>
                <a:cubicBezTo>
                  <a:pt x="14089" y="12665"/>
                  <a:pt x="14099" y="12748"/>
                  <a:pt x="14114" y="12824"/>
                </a:cubicBezTo>
                <a:cubicBezTo>
                  <a:pt x="14124" y="12874"/>
                  <a:pt x="14139" y="12921"/>
                  <a:pt x="14139" y="12973"/>
                </a:cubicBezTo>
                <a:cubicBezTo>
                  <a:pt x="14139" y="13014"/>
                  <a:pt x="14139" y="13056"/>
                  <a:pt x="14139" y="13097"/>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05680" y="4419720"/>
            <a:ext cx="509400" cy="260280"/>
          </a:xfrm>
          <a:custGeom>
            <a:avLst/>
            <a:gdLst/>
            <a:ahLst/>
            <a:rect l="l" t="t" r="r" b="b"/>
            <a:pathLst>
              <a:path w="1415" h="721">
                <a:moveTo>
                  <a:pt x="18653" y="12278"/>
                </a:moveTo>
                <a:cubicBezTo>
                  <a:pt x="18642" y="12320"/>
                  <a:pt x="18632" y="12367"/>
                  <a:pt x="18604" y="12402"/>
                </a:cubicBezTo>
                <a:cubicBezTo>
                  <a:pt x="18567" y="12449"/>
                  <a:pt x="18542" y="12519"/>
                  <a:pt x="18504" y="12576"/>
                </a:cubicBezTo>
                <a:cubicBezTo>
                  <a:pt x="18448" y="12660"/>
                  <a:pt x="18380" y="12734"/>
                  <a:pt x="18331" y="12824"/>
                </a:cubicBezTo>
                <a:cubicBezTo>
                  <a:pt x="18300" y="12881"/>
                  <a:pt x="18252" y="12923"/>
                  <a:pt x="18207" y="12973"/>
                </a:cubicBezTo>
                <a:cubicBezTo>
                  <a:pt x="18179" y="13004"/>
                  <a:pt x="18170" y="12998"/>
                  <a:pt x="18132" y="12998"/>
                </a:cubicBezTo>
                <a:cubicBezTo>
                  <a:pt x="18132" y="12950"/>
                  <a:pt x="18128" y="12948"/>
                  <a:pt x="18107" y="12898"/>
                </a:cubicBezTo>
              </a:path>
              <a:path w="1415" h="721">
                <a:moveTo>
                  <a:pt x="17959" y="12353"/>
                </a:moveTo>
                <a:cubicBezTo>
                  <a:pt x="18013" y="12407"/>
                  <a:pt x="18087" y="12443"/>
                  <a:pt x="18132" y="12502"/>
                </a:cubicBezTo>
                <a:cubicBezTo>
                  <a:pt x="18181" y="12566"/>
                  <a:pt x="18231" y="12618"/>
                  <a:pt x="18281" y="12675"/>
                </a:cubicBezTo>
                <a:cubicBezTo>
                  <a:pt x="18324" y="12725"/>
                  <a:pt x="18371" y="12814"/>
                  <a:pt x="18430" y="12849"/>
                </a:cubicBezTo>
                <a:cubicBezTo>
                  <a:pt x="18461" y="12867"/>
                  <a:pt x="18455" y="12851"/>
                  <a:pt x="18455" y="12898"/>
                </a:cubicBezTo>
              </a:path>
              <a:path w="1415" h="721">
                <a:moveTo>
                  <a:pt x="17239" y="12774"/>
                </a:moveTo>
                <a:cubicBezTo>
                  <a:pt x="17309" y="12766"/>
                  <a:pt x="17365" y="12750"/>
                  <a:pt x="17438" y="12750"/>
                </a:cubicBezTo>
                <a:cubicBezTo>
                  <a:pt x="17455" y="12750"/>
                  <a:pt x="17691" y="12733"/>
                  <a:pt x="17686" y="12774"/>
                </a:cubicBezTo>
                <a:cubicBezTo>
                  <a:pt x="17663" y="12797"/>
                  <a:pt x="17659" y="12805"/>
                  <a:pt x="17636" y="12799"/>
                </a:cubicBezTo>
              </a:path>
              <a:path w="1415" h="721">
                <a:moveTo>
                  <a:pt x="17264" y="12948"/>
                </a:moveTo>
                <a:cubicBezTo>
                  <a:pt x="17308" y="12981"/>
                  <a:pt x="17330" y="12973"/>
                  <a:pt x="17388" y="12973"/>
                </a:cubicBezTo>
                <a:cubicBezTo>
                  <a:pt x="17462" y="12973"/>
                  <a:pt x="17516" y="12954"/>
                  <a:pt x="17587" y="12948"/>
                </a:cubicBezTo>
                <a:cubicBezTo>
                  <a:pt x="17595" y="12948"/>
                  <a:pt x="17603" y="12948"/>
                  <a:pt x="17611" y="1294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581120" y="4500720"/>
            <a:ext cx="1919160" cy="53640"/>
          </a:xfrm>
          <a:custGeom>
            <a:avLst/>
            <a:gdLst/>
            <a:ahLst/>
            <a:rect l="l" t="t" r="r" b="b"/>
            <a:pathLst>
              <a:path w="5334" h="149">
                <a:moveTo>
                  <a:pt x="4415" y="12650"/>
                </a:moveTo>
                <a:cubicBezTo>
                  <a:pt x="4448" y="12650"/>
                  <a:pt x="4432" y="12650"/>
                  <a:pt x="4465" y="12650"/>
                </a:cubicBezTo>
                <a:cubicBezTo>
                  <a:pt x="4567" y="12650"/>
                  <a:pt x="4664" y="12632"/>
                  <a:pt x="4762" y="12626"/>
                </a:cubicBezTo>
                <a:cubicBezTo>
                  <a:pt x="4880" y="12619"/>
                  <a:pt x="4993" y="12604"/>
                  <a:pt x="5110" y="12601"/>
                </a:cubicBezTo>
                <a:cubicBezTo>
                  <a:pt x="5239" y="12597"/>
                  <a:pt x="5379" y="12592"/>
                  <a:pt x="5507" y="12576"/>
                </a:cubicBezTo>
                <a:cubicBezTo>
                  <a:pt x="5666" y="12556"/>
                  <a:pt x="5818" y="12563"/>
                  <a:pt x="5978" y="12551"/>
                </a:cubicBezTo>
                <a:cubicBezTo>
                  <a:pt x="6228" y="12533"/>
                  <a:pt x="6471" y="12526"/>
                  <a:pt x="6722" y="12526"/>
                </a:cubicBezTo>
                <a:cubicBezTo>
                  <a:pt x="6907" y="12526"/>
                  <a:pt x="7084" y="12506"/>
                  <a:pt x="7268" y="12502"/>
                </a:cubicBezTo>
                <a:cubicBezTo>
                  <a:pt x="7690" y="12493"/>
                  <a:pt x="8114" y="12499"/>
                  <a:pt x="8533" y="12526"/>
                </a:cubicBezTo>
                <a:cubicBezTo>
                  <a:pt x="8845" y="12546"/>
                  <a:pt x="9170" y="12527"/>
                  <a:pt x="9475" y="12551"/>
                </a:cubicBezTo>
                <a:cubicBezTo>
                  <a:pt x="9524" y="12555"/>
                  <a:pt x="9640" y="12527"/>
                  <a:pt x="9649" y="12526"/>
                </a:cubicBezTo>
                <a:cubicBezTo>
                  <a:pt x="9672" y="12523"/>
                  <a:pt x="9700" y="12531"/>
                  <a:pt x="9723" y="12526"/>
                </a:cubicBezTo>
              </a:path>
            </a:pathLst>
          </a:custGeom>
          <a:noFill/>
          <a:ln cap="rnd" w="349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Methods we currently have to solve triangles…</a:t>
            </a:r>
            <a:endParaRPr b="0" lang="en-US" sz="4000" spc="-1" strike="noStrike">
              <a:solidFill>
                <a:srgbClr val="000000"/>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riangle Sum Theorem (angles add up to 180)</a:t>
            </a:r>
            <a:endParaRPr b="0" lang="en-US" sz="3200" spc="-1" strike="noStrike">
              <a:solidFill>
                <a:srgbClr val="000000"/>
              </a:solidFill>
              <a:latin typeface="Garamond"/>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ythagorean Theorem</a:t>
            </a:r>
            <a:endParaRPr b="0" lang="en-US" sz="3200" spc="-1" strike="noStrike">
              <a:solidFill>
                <a:srgbClr val="000000"/>
              </a:solidFill>
              <a:latin typeface="Garamond"/>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HCAHTOA</a:t>
            </a:r>
            <a:endParaRPr b="0" lang="en-US" sz="3200" spc="-1" strike="noStrike">
              <a:solidFill>
                <a:srgbClr val="000000"/>
              </a:solidFill>
              <a:latin typeface="Garamond"/>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w of Sines</a:t>
            </a:r>
            <a:endParaRPr b="0" lang="en-US" sz="3200" spc="-1" strike="noStrike">
              <a:solidFill>
                <a:srgbClr val="000000"/>
              </a:solidFill>
              <a:latin typeface="Garamond"/>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ut will they always wor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Solve a triangle:</a:t>
            </a:r>
            <a:br>
              <a:rPr sz="4000"/>
            </a:br>
            <a:r>
              <a:rPr b="0" lang="en-US" sz="4000" spc="-1" strike="noStrike">
                <a:solidFill>
                  <a:srgbClr val="000000"/>
                </a:solidFill>
                <a:latin typeface="Garamond"/>
              </a:rPr>
              <a:t>a = 9, b = 3 and c = 11</a:t>
            </a:r>
            <a:endParaRPr b="0" lang="en-US" sz="4000" spc="-1" strike="noStrike">
              <a:solidFill>
                <a:srgbClr val="000000"/>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
          <p:cNvSpPr/>
          <p:nvPr/>
        </p:nvSpPr>
        <p:spPr>
          <a:xfrm>
            <a:off x="1428840" y="1509840"/>
            <a:ext cx="187200" cy="384120"/>
          </a:xfrm>
          <a:custGeom>
            <a:avLst/>
            <a:gdLst/>
            <a:ahLst/>
            <a:rect l="l" t="t" r="r" b="b"/>
            <a:pathLst>
              <a:path w="522" h="1068">
                <a:moveTo>
                  <a:pt x="3969" y="4589"/>
                </a:moveTo>
                <a:cubicBezTo>
                  <a:pt x="3997" y="4672"/>
                  <a:pt x="4027" y="4772"/>
                  <a:pt x="4043" y="4862"/>
                </a:cubicBezTo>
                <a:cubicBezTo>
                  <a:pt x="4053" y="4916"/>
                  <a:pt x="4082" y="5037"/>
                  <a:pt x="4068" y="5085"/>
                </a:cubicBezTo>
                <a:cubicBezTo>
                  <a:pt x="4058" y="5121"/>
                  <a:pt x="4043" y="5115"/>
                  <a:pt x="4043" y="5159"/>
                </a:cubicBezTo>
                <a:cubicBezTo>
                  <a:pt x="4007" y="5113"/>
                  <a:pt x="4018" y="5072"/>
                  <a:pt x="4018" y="5011"/>
                </a:cubicBezTo>
                <a:cubicBezTo>
                  <a:pt x="4018" y="4917"/>
                  <a:pt x="3994" y="4836"/>
                  <a:pt x="3994" y="4738"/>
                </a:cubicBezTo>
                <a:cubicBezTo>
                  <a:pt x="3994" y="4645"/>
                  <a:pt x="3996" y="4508"/>
                  <a:pt x="4018" y="4415"/>
                </a:cubicBezTo>
                <a:cubicBezTo>
                  <a:pt x="4033" y="4352"/>
                  <a:pt x="4091" y="4256"/>
                  <a:pt x="4142" y="4217"/>
                </a:cubicBezTo>
                <a:cubicBezTo>
                  <a:pt x="4163" y="4201"/>
                  <a:pt x="4267" y="4168"/>
                  <a:pt x="4291" y="4192"/>
                </a:cubicBezTo>
                <a:cubicBezTo>
                  <a:pt x="4327" y="4228"/>
                  <a:pt x="4349" y="4345"/>
                  <a:pt x="4341" y="4390"/>
                </a:cubicBezTo>
                <a:cubicBezTo>
                  <a:pt x="4323" y="4497"/>
                  <a:pt x="4292" y="4567"/>
                  <a:pt x="4242" y="4663"/>
                </a:cubicBezTo>
                <a:cubicBezTo>
                  <a:pt x="4219" y="4707"/>
                  <a:pt x="4157" y="4806"/>
                  <a:pt x="4118" y="4837"/>
                </a:cubicBezTo>
                <a:cubicBezTo>
                  <a:pt x="4093" y="4837"/>
                  <a:pt x="4085" y="4837"/>
                  <a:pt x="4093" y="4862"/>
                </a:cubicBezTo>
                <a:cubicBezTo>
                  <a:pt x="4102" y="4825"/>
                  <a:pt x="4115" y="4792"/>
                  <a:pt x="4142" y="4762"/>
                </a:cubicBezTo>
                <a:cubicBezTo>
                  <a:pt x="4168" y="4733"/>
                  <a:pt x="4208" y="4699"/>
                  <a:pt x="4242" y="4688"/>
                </a:cubicBezTo>
                <a:cubicBezTo>
                  <a:pt x="4304" y="4667"/>
                  <a:pt x="4400" y="4728"/>
                  <a:pt x="4440" y="4762"/>
                </a:cubicBezTo>
                <a:cubicBezTo>
                  <a:pt x="4485" y="4799"/>
                  <a:pt x="4491" y="4889"/>
                  <a:pt x="4465" y="4936"/>
                </a:cubicBezTo>
                <a:cubicBezTo>
                  <a:pt x="4424" y="5011"/>
                  <a:pt x="4364" y="5064"/>
                  <a:pt x="4291" y="5110"/>
                </a:cubicBezTo>
                <a:cubicBezTo>
                  <a:pt x="4217" y="5156"/>
                  <a:pt x="4141" y="5187"/>
                  <a:pt x="4068" y="5234"/>
                </a:cubicBezTo>
                <a:cubicBezTo>
                  <a:pt x="4030" y="5259"/>
                  <a:pt x="4017" y="5259"/>
                  <a:pt x="3969" y="5259"/>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17800" y="3133800"/>
            <a:ext cx="268200" cy="554040"/>
          </a:xfrm>
          <a:custGeom>
            <a:avLst/>
            <a:gdLst/>
            <a:ahLst/>
            <a:rect l="l" t="t" r="r" b="b"/>
            <a:pathLst>
              <a:path w="745" h="1539">
                <a:moveTo>
                  <a:pt x="5705" y="9004"/>
                </a:moveTo>
                <a:cubicBezTo>
                  <a:pt x="5659" y="8966"/>
                  <a:pt x="5644" y="8971"/>
                  <a:pt x="5655" y="8905"/>
                </a:cubicBezTo>
                <a:cubicBezTo>
                  <a:pt x="5663" y="8858"/>
                  <a:pt x="5704" y="8823"/>
                  <a:pt x="5730" y="8806"/>
                </a:cubicBezTo>
                <a:cubicBezTo>
                  <a:pt x="5811" y="8754"/>
                  <a:pt x="5901" y="8695"/>
                  <a:pt x="6003" y="8706"/>
                </a:cubicBezTo>
                <a:cubicBezTo>
                  <a:pt x="6046" y="8711"/>
                  <a:pt x="6109" y="8719"/>
                  <a:pt x="6152" y="8731"/>
                </a:cubicBezTo>
                <a:cubicBezTo>
                  <a:pt x="6209" y="8748"/>
                  <a:pt x="6234" y="8757"/>
                  <a:pt x="6251" y="8806"/>
                </a:cubicBezTo>
                <a:cubicBezTo>
                  <a:pt x="6264" y="8843"/>
                  <a:pt x="6248" y="8880"/>
                  <a:pt x="6226" y="8905"/>
                </a:cubicBezTo>
                <a:cubicBezTo>
                  <a:pt x="6175" y="8963"/>
                  <a:pt x="6095" y="9016"/>
                  <a:pt x="6028" y="9054"/>
                </a:cubicBezTo>
                <a:cubicBezTo>
                  <a:pt x="5969" y="9087"/>
                  <a:pt x="5915" y="9122"/>
                  <a:pt x="5854" y="9153"/>
                </a:cubicBezTo>
                <a:cubicBezTo>
                  <a:pt x="5823" y="9168"/>
                  <a:pt x="5808" y="9174"/>
                  <a:pt x="5779" y="9203"/>
                </a:cubicBezTo>
                <a:cubicBezTo>
                  <a:pt x="5819" y="9225"/>
                  <a:pt x="5834" y="9220"/>
                  <a:pt x="5904" y="9252"/>
                </a:cubicBezTo>
                <a:cubicBezTo>
                  <a:pt x="5955" y="9275"/>
                  <a:pt x="6024" y="9314"/>
                  <a:pt x="6077" y="9327"/>
                </a:cubicBezTo>
                <a:cubicBezTo>
                  <a:pt x="6149" y="9344"/>
                  <a:pt x="6185" y="9386"/>
                  <a:pt x="6251" y="9426"/>
                </a:cubicBezTo>
                <a:cubicBezTo>
                  <a:pt x="6313" y="9464"/>
                  <a:pt x="6336" y="9503"/>
                  <a:pt x="6350" y="9575"/>
                </a:cubicBezTo>
                <a:cubicBezTo>
                  <a:pt x="6363" y="9641"/>
                  <a:pt x="6364" y="9768"/>
                  <a:pt x="6325" y="9823"/>
                </a:cubicBezTo>
                <a:cubicBezTo>
                  <a:pt x="6287" y="9876"/>
                  <a:pt x="6203" y="9954"/>
                  <a:pt x="6152" y="9996"/>
                </a:cubicBezTo>
                <a:cubicBezTo>
                  <a:pt x="6077" y="10057"/>
                  <a:pt x="5986" y="10129"/>
                  <a:pt x="5904" y="10170"/>
                </a:cubicBezTo>
                <a:cubicBezTo>
                  <a:pt x="5857" y="10194"/>
                  <a:pt x="5759" y="10237"/>
                  <a:pt x="5705" y="10244"/>
                </a:cubicBezTo>
                <a:cubicBezTo>
                  <a:pt x="5664" y="10244"/>
                  <a:pt x="5639" y="10244"/>
                  <a:pt x="5606" y="1024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08080" y="1633680"/>
            <a:ext cx="6946920" cy="1635120"/>
          </a:xfrm>
          <a:custGeom>
            <a:avLst/>
            <a:gdLst/>
            <a:ahLst/>
            <a:rect l="l" t="t" r="r" b="b"/>
            <a:pathLst>
              <a:path w="19299" h="4541">
                <a:moveTo>
                  <a:pt x="4614" y="5110"/>
                </a:moveTo>
                <a:cubicBezTo>
                  <a:pt x="4610" y="5183"/>
                  <a:pt x="4604" y="5240"/>
                  <a:pt x="4589" y="5308"/>
                </a:cubicBezTo>
                <a:cubicBezTo>
                  <a:pt x="4564" y="5424"/>
                  <a:pt x="4525" y="5538"/>
                  <a:pt x="4490" y="5655"/>
                </a:cubicBezTo>
                <a:cubicBezTo>
                  <a:pt x="4427" y="5866"/>
                  <a:pt x="4373" y="6071"/>
                  <a:pt x="4291" y="6276"/>
                </a:cubicBezTo>
                <a:cubicBezTo>
                  <a:pt x="4204" y="6495"/>
                  <a:pt x="4118" y="6722"/>
                  <a:pt x="4043" y="6945"/>
                </a:cubicBezTo>
                <a:cubicBezTo>
                  <a:pt x="3938" y="7258"/>
                  <a:pt x="3850" y="7575"/>
                  <a:pt x="3746" y="7888"/>
                </a:cubicBezTo>
                <a:cubicBezTo>
                  <a:pt x="3685" y="8071"/>
                  <a:pt x="3627" y="8258"/>
                  <a:pt x="3547" y="8434"/>
                </a:cubicBezTo>
                <a:cubicBezTo>
                  <a:pt x="3495" y="8549"/>
                  <a:pt x="3466" y="8673"/>
                  <a:pt x="3398" y="8781"/>
                </a:cubicBezTo>
                <a:cubicBezTo>
                  <a:pt x="3365" y="8835"/>
                  <a:pt x="3361" y="8857"/>
                  <a:pt x="3324" y="8830"/>
                </a:cubicBezTo>
                <a:cubicBezTo>
                  <a:pt x="3324" y="8814"/>
                  <a:pt x="3324" y="8797"/>
                  <a:pt x="3324" y="8781"/>
                </a:cubicBezTo>
              </a:path>
              <a:path w="19299" h="4541">
                <a:moveTo>
                  <a:pt x="4589" y="5085"/>
                </a:moveTo>
                <a:cubicBezTo>
                  <a:pt x="4645" y="5112"/>
                  <a:pt x="4681" y="5133"/>
                  <a:pt x="4738" y="5159"/>
                </a:cubicBezTo>
                <a:cubicBezTo>
                  <a:pt x="4850" y="5210"/>
                  <a:pt x="4976" y="5233"/>
                  <a:pt x="5085" y="5283"/>
                </a:cubicBezTo>
                <a:cubicBezTo>
                  <a:pt x="5250" y="5359"/>
                  <a:pt x="5424" y="5467"/>
                  <a:pt x="5581" y="5556"/>
                </a:cubicBezTo>
                <a:cubicBezTo>
                  <a:pt x="5746" y="5650"/>
                  <a:pt x="5902" y="5764"/>
                  <a:pt x="6052" y="5879"/>
                </a:cubicBezTo>
                <a:cubicBezTo>
                  <a:pt x="6342" y="6101"/>
                  <a:pt x="6644" y="6314"/>
                  <a:pt x="6921" y="6548"/>
                </a:cubicBezTo>
                <a:cubicBezTo>
                  <a:pt x="7259" y="6834"/>
                  <a:pt x="7617" y="7095"/>
                  <a:pt x="7962" y="7367"/>
                </a:cubicBezTo>
                <a:cubicBezTo>
                  <a:pt x="8095" y="7472"/>
                  <a:pt x="8227" y="7586"/>
                  <a:pt x="8359" y="7689"/>
                </a:cubicBezTo>
                <a:cubicBezTo>
                  <a:pt x="8389" y="7712"/>
                  <a:pt x="8427" y="7741"/>
                  <a:pt x="8458" y="7764"/>
                </a:cubicBezTo>
                <a:cubicBezTo>
                  <a:pt x="8420" y="7768"/>
                  <a:pt x="8362" y="7786"/>
                  <a:pt x="8310" y="7789"/>
                </a:cubicBezTo>
                <a:cubicBezTo>
                  <a:pt x="8159" y="7797"/>
                  <a:pt x="8011" y="7788"/>
                  <a:pt x="7863" y="7813"/>
                </a:cubicBezTo>
                <a:cubicBezTo>
                  <a:pt x="7697" y="7841"/>
                  <a:pt x="7533" y="7883"/>
                  <a:pt x="7367" y="7913"/>
                </a:cubicBezTo>
                <a:cubicBezTo>
                  <a:pt x="7159" y="7951"/>
                  <a:pt x="6952" y="7986"/>
                  <a:pt x="6747" y="8037"/>
                </a:cubicBezTo>
                <a:cubicBezTo>
                  <a:pt x="5979" y="8228"/>
                  <a:pt x="5219" y="8472"/>
                  <a:pt x="4465" y="8706"/>
                </a:cubicBezTo>
                <a:cubicBezTo>
                  <a:pt x="4088" y="8823"/>
                  <a:pt x="3712" y="8955"/>
                  <a:pt x="3324" y="9029"/>
                </a:cubicBezTo>
                <a:cubicBezTo>
                  <a:pt x="3252" y="9043"/>
                  <a:pt x="3165" y="9079"/>
                  <a:pt x="3101" y="9079"/>
                </a:cubicBezTo>
                <a:cubicBezTo>
                  <a:pt x="3101" y="9054"/>
                  <a:pt x="3101" y="9046"/>
                  <a:pt x="3076" y="9054"/>
                </a:cubicBezTo>
              </a:path>
              <a:path w="19299" h="4541">
                <a:moveTo>
                  <a:pt x="12725" y="5209"/>
                </a:moveTo>
                <a:cubicBezTo>
                  <a:pt x="12764" y="5193"/>
                  <a:pt x="12826" y="5127"/>
                  <a:pt x="12898" y="5110"/>
                </a:cubicBezTo>
                <a:cubicBezTo>
                  <a:pt x="12974" y="5092"/>
                  <a:pt x="13067" y="5094"/>
                  <a:pt x="13146" y="5085"/>
                </a:cubicBezTo>
                <a:cubicBezTo>
                  <a:pt x="13336" y="5064"/>
                  <a:pt x="13526" y="5050"/>
                  <a:pt x="13717" y="5035"/>
                </a:cubicBezTo>
                <a:cubicBezTo>
                  <a:pt x="13917" y="5019"/>
                  <a:pt x="14112" y="4982"/>
                  <a:pt x="14312" y="4961"/>
                </a:cubicBezTo>
                <a:cubicBezTo>
                  <a:pt x="14534" y="4937"/>
                  <a:pt x="14758" y="4938"/>
                  <a:pt x="14982" y="4936"/>
                </a:cubicBezTo>
                <a:cubicBezTo>
                  <a:pt x="15355" y="4933"/>
                  <a:pt x="15726" y="4934"/>
                  <a:pt x="16098" y="4911"/>
                </a:cubicBezTo>
                <a:cubicBezTo>
                  <a:pt x="16446" y="4889"/>
                  <a:pt x="16792" y="4866"/>
                  <a:pt x="17140" y="4862"/>
                </a:cubicBezTo>
                <a:cubicBezTo>
                  <a:pt x="17612" y="4857"/>
                  <a:pt x="18083" y="4812"/>
                  <a:pt x="18554" y="4787"/>
                </a:cubicBezTo>
                <a:cubicBezTo>
                  <a:pt x="19151" y="4755"/>
                  <a:pt x="19745" y="4752"/>
                  <a:pt x="20340" y="4688"/>
                </a:cubicBezTo>
                <a:cubicBezTo>
                  <a:pt x="20679" y="4651"/>
                  <a:pt x="21018" y="4617"/>
                  <a:pt x="21357" y="4589"/>
                </a:cubicBezTo>
                <a:cubicBezTo>
                  <a:pt x="21540" y="4574"/>
                  <a:pt x="21720" y="4547"/>
                  <a:pt x="21903" y="4539"/>
                </a:cubicBezTo>
                <a:cubicBezTo>
                  <a:pt x="21999" y="4535"/>
                  <a:pt x="22186" y="4507"/>
                  <a:pt x="22275" y="4564"/>
                </a:cubicBezTo>
                <a:cubicBezTo>
                  <a:pt x="22336" y="4603"/>
                  <a:pt x="22319" y="4597"/>
                  <a:pt x="22349" y="4663"/>
                </a:cubicBezTo>
                <a:cubicBezTo>
                  <a:pt x="22387" y="4745"/>
                  <a:pt x="22349" y="4822"/>
                  <a:pt x="22349" y="4911"/>
                </a:cubicBezTo>
                <a:cubicBezTo>
                  <a:pt x="22349" y="5020"/>
                  <a:pt x="22311" y="5126"/>
                  <a:pt x="22299" y="5234"/>
                </a:cubicBezTo>
                <a:cubicBezTo>
                  <a:pt x="22283" y="5380"/>
                  <a:pt x="22281" y="5533"/>
                  <a:pt x="22275" y="5680"/>
                </a:cubicBezTo>
                <a:cubicBezTo>
                  <a:pt x="22257" y="6108"/>
                  <a:pt x="22273" y="6544"/>
                  <a:pt x="22299" y="6970"/>
                </a:cubicBezTo>
                <a:cubicBezTo>
                  <a:pt x="22317" y="7271"/>
                  <a:pt x="22385" y="7643"/>
                  <a:pt x="22299" y="7938"/>
                </a:cubicBezTo>
                <a:cubicBezTo>
                  <a:pt x="22284" y="7991"/>
                  <a:pt x="22261" y="8072"/>
                  <a:pt x="22225" y="8111"/>
                </a:cubicBezTo>
                <a:cubicBezTo>
                  <a:pt x="22185" y="8154"/>
                  <a:pt x="22164" y="8138"/>
                  <a:pt x="22126" y="8161"/>
                </a:cubicBezTo>
                <a:cubicBezTo>
                  <a:pt x="22105" y="8174"/>
                  <a:pt x="22051" y="8178"/>
                  <a:pt x="22027" y="8186"/>
                </a:cubicBezTo>
                <a:cubicBezTo>
                  <a:pt x="21965" y="8208"/>
                  <a:pt x="21890" y="8193"/>
                  <a:pt x="21828" y="8210"/>
                </a:cubicBezTo>
                <a:cubicBezTo>
                  <a:pt x="21495" y="8303"/>
                  <a:pt x="21178" y="8375"/>
                  <a:pt x="20836" y="8434"/>
                </a:cubicBezTo>
                <a:cubicBezTo>
                  <a:pt x="20638" y="8468"/>
                  <a:pt x="20440" y="8492"/>
                  <a:pt x="20241" y="8508"/>
                </a:cubicBezTo>
                <a:cubicBezTo>
                  <a:pt x="20002" y="8528"/>
                  <a:pt x="19759" y="8534"/>
                  <a:pt x="19521" y="8558"/>
                </a:cubicBezTo>
                <a:cubicBezTo>
                  <a:pt x="19248" y="8586"/>
                  <a:pt x="18977" y="8623"/>
                  <a:pt x="18703" y="8632"/>
                </a:cubicBezTo>
                <a:cubicBezTo>
                  <a:pt x="18421" y="8641"/>
                  <a:pt x="18140" y="8654"/>
                  <a:pt x="17859" y="8657"/>
                </a:cubicBezTo>
                <a:cubicBezTo>
                  <a:pt x="17560" y="8661"/>
                  <a:pt x="17264" y="8678"/>
                  <a:pt x="16966" y="8682"/>
                </a:cubicBezTo>
                <a:cubicBezTo>
                  <a:pt x="16659" y="8686"/>
                  <a:pt x="16355" y="8702"/>
                  <a:pt x="16049" y="8706"/>
                </a:cubicBezTo>
                <a:cubicBezTo>
                  <a:pt x="15469" y="8713"/>
                  <a:pt x="14892" y="8729"/>
                  <a:pt x="14312" y="8756"/>
                </a:cubicBezTo>
                <a:cubicBezTo>
                  <a:pt x="14046" y="8768"/>
                  <a:pt x="13784" y="8806"/>
                  <a:pt x="13519" y="8830"/>
                </a:cubicBezTo>
                <a:cubicBezTo>
                  <a:pt x="13308" y="8849"/>
                  <a:pt x="13085" y="8872"/>
                  <a:pt x="12874" y="8880"/>
                </a:cubicBezTo>
                <a:cubicBezTo>
                  <a:pt x="12721" y="8886"/>
                  <a:pt x="12575" y="8882"/>
                  <a:pt x="12427" y="8855"/>
                </a:cubicBezTo>
                <a:cubicBezTo>
                  <a:pt x="12353" y="8841"/>
                  <a:pt x="12294" y="8828"/>
                  <a:pt x="12229" y="8806"/>
                </a:cubicBezTo>
                <a:cubicBezTo>
                  <a:pt x="12194" y="8794"/>
                  <a:pt x="12166" y="8768"/>
                  <a:pt x="12129" y="8756"/>
                </a:cubicBezTo>
                <a:cubicBezTo>
                  <a:pt x="12087" y="8743"/>
                  <a:pt x="12122" y="8743"/>
                  <a:pt x="12080" y="8731"/>
                </a:cubicBezTo>
                <a:cubicBezTo>
                  <a:pt x="12088" y="8739"/>
                  <a:pt x="12097" y="8748"/>
                  <a:pt x="12105" y="875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009800" y="2268360"/>
            <a:ext cx="204480" cy="446400"/>
          </a:xfrm>
          <a:custGeom>
            <a:avLst/>
            <a:gdLst/>
            <a:ahLst/>
            <a:rect l="l" t="t" r="r" b="b"/>
            <a:pathLst>
              <a:path w="571" h="1242">
                <a:moveTo>
                  <a:pt x="2853" y="6400"/>
                </a:moveTo>
                <a:cubicBezTo>
                  <a:pt x="2824" y="6504"/>
                  <a:pt x="2837" y="6506"/>
                  <a:pt x="2853" y="6598"/>
                </a:cubicBezTo>
                <a:cubicBezTo>
                  <a:pt x="2882" y="6764"/>
                  <a:pt x="2846" y="6958"/>
                  <a:pt x="2828" y="7119"/>
                </a:cubicBezTo>
                <a:cubicBezTo>
                  <a:pt x="2818" y="7209"/>
                  <a:pt x="2808" y="7303"/>
                  <a:pt x="2803" y="7392"/>
                </a:cubicBezTo>
                <a:cubicBezTo>
                  <a:pt x="2803" y="7433"/>
                  <a:pt x="2803" y="7441"/>
                  <a:pt x="2803" y="7466"/>
                </a:cubicBezTo>
              </a:path>
              <a:path w="571" h="1242">
                <a:moveTo>
                  <a:pt x="3373" y="6300"/>
                </a:moveTo>
                <a:cubicBezTo>
                  <a:pt x="3333" y="6356"/>
                  <a:pt x="3362" y="6369"/>
                  <a:pt x="3373" y="6424"/>
                </a:cubicBezTo>
                <a:cubicBezTo>
                  <a:pt x="3402" y="6574"/>
                  <a:pt x="3363" y="6749"/>
                  <a:pt x="3349" y="6896"/>
                </a:cubicBezTo>
                <a:cubicBezTo>
                  <a:pt x="3337" y="7021"/>
                  <a:pt x="3311" y="7144"/>
                  <a:pt x="3299" y="7268"/>
                </a:cubicBezTo>
                <a:cubicBezTo>
                  <a:pt x="3290" y="7360"/>
                  <a:pt x="3274" y="7448"/>
                  <a:pt x="3274" y="754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25880" y="2732040"/>
            <a:ext cx="322200" cy="322200"/>
          </a:xfrm>
          <a:custGeom>
            <a:avLst/>
            <a:gdLst/>
            <a:ahLst/>
            <a:rect l="l" t="t" r="r" b="b"/>
            <a:pathLst>
              <a:path w="894" h="894">
                <a:moveTo>
                  <a:pt x="9351" y="7689"/>
                </a:moveTo>
                <a:cubicBezTo>
                  <a:pt x="9309" y="7679"/>
                  <a:pt x="9308" y="7670"/>
                  <a:pt x="9277" y="7640"/>
                </a:cubicBezTo>
                <a:cubicBezTo>
                  <a:pt x="9236" y="7600"/>
                  <a:pt x="9192" y="7565"/>
                  <a:pt x="9128" y="7590"/>
                </a:cubicBezTo>
                <a:cubicBezTo>
                  <a:pt x="9050" y="7620"/>
                  <a:pt x="8933" y="7726"/>
                  <a:pt x="8880" y="7789"/>
                </a:cubicBezTo>
                <a:cubicBezTo>
                  <a:pt x="8797" y="7887"/>
                  <a:pt x="8746" y="7965"/>
                  <a:pt x="8706" y="8086"/>
                </a:cubicBezTo>
                <a:cubicBezTo>
                  <a:pt x="8687" y="8144"/>
                  <a:pt x="8652" y="8256"/>
                  <a:pt x="8706" y="8310"/>
                </a:cubicBezTo>
                <a:cubicBezTo>
                  <a:pt x="8771" y="8374"/>
                  <a:pt x="8900" y="8369"/>
                  <a:pt x="8979" y="8384"/>
                </a:cubicBezTo>
                <a:cubicBezTo>
                  <a:pt x="9126" y="8412"/>
                  <a:pt x="9276" y="8429"/>
                  <a:pt x="9426" y="8434"/>
                </a:cubicBezTo>
                <a:cubicBezTo>
                  <a:pt x="9434" y="8434"/>
                  <a:pt x="9602" y="8415"/>
                  <a:pt x="9575" y="8458"/>
                </a:cubicBezTo>
                <a:cubicBezTo>
                  <a:pt x="9558" y="8466"/>
                  <a:pt x="9542" y="8475"/>
                  <a:pt x="9525" y="8483"/>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357800" y="1938240"/>
            <a:ext cx="3456000" cy="1312920"/>
          </a:xfrm>
          <a:custGeom>
            <a:avLst/>
            <a:gdLst/>
            <a:ahLst/>
            <a:rect l="l" t="t" r="r" b="b"/>
            <a:pathLst>
              <a:path w="9600" h="3647">
                <a:moveTo>
                  <a:pt x="13742" y="5978"/>
                </a:moveTo>
                <a:cubicBezTo>
                  <a:pt x="13663" y="5978"/>
                  <a:pt x="13595" y="5974"/>
                  <a:pt x="13519" y="6003"/>
                </a:cubicBezTo>
                <a:cubicBezTo>
                  <a:pt x="13438" y="6034"/>
                  <a:pt x="13364" y="6103"/>
                  <a:pt x="13295" y="6152"/>
                </a:cubicBezTo>
                <a:cubicBezTo>
                  <a:pt x="13210" y="6212"/>
                  <a:pt x="13088" y="6248"/>
                  <a:pt x="13022" y="6325"/>
                </a:cubicBezTo>
                <a:cubicBezTo>
                  <a:pt x="12991" y="6361"/>
                  <a:pt x="12916" y="6453"/>
                  <a:pt x="12898" y="6499"/>
                </a:cubicBezTo>
                <a:cubicBezTo>
                  <a:pt x="12880" y="6546"/>
                  <a:pt x="12907" y="6600"/>
                  <a:pt x="12948" y="6623"/>
                </a:cubicBezTo>
                <a:cubicBezTo>
                  <a:pt x="12998" y="6651"/>
                  <a:pt x="13112" y="6657"/>
                  <a:pt x="13171" y="6672"/>
                </a:cubicBezTo>
                <a:cubicBezTo>
                  <a:pt x="13292" y="6703"/>
                  <a:pt x="13383" y="6747"/>
                  <a:pt x="13494" y="6796"/>
                </a:cubicBezTo>
                <a:cubicBezTo>
                  <a:pt x="13639" y="6860"/>
                  <a:pt x="13721" y="6935"/>
                  <a:pt x="13816" y="7069"/>
                </a:cubicBezTo>
                <a:cubicBezTo>
                  <a:pt x="13883" y="7163"/>
                  <a:pt x="13838" y="7337"/>
                  <a:pt x="13767" y="7417"/>
                </a:cubicBezTo>
                <a:cubicBezTo>
                  <a:pt x="13697" y="7496"/>
                  <a:pt x="13610" y="7558"/>
                  <a:pt x="13519" y="7615"/>
                </a:cubicBezTo>
                <a:cubicBezTo>
                  <a:pt x="13455" y="7655"/>
                  <a:pt x="13349" y="7725"/>
                  <a:pt x="13271" y="7739"/>
                </a:cubicBezTo>
                <a:cubicBezTo>
                  <a:pt x="13201" y="7751"/>
                  <a:pt x="13136" y="7767"/>
                  <a:pt x="13072" y="7739"/>
                </a:cubicBezTo>
                <a:cubicBezTo>
                  <a:pt x="13049" y="7729"/>
                  <a:pt x="13020" y="7706"/>
                  <a:pt x="13022" y="7665"/>
                </a:cubicBezTo>
                <a:cubicBezTo>
                  <a:pt x="13024" y="7637"/>
                  <a:pt x="13034" y="7665"/>
                  <a:pt x="13047" y="7640"/>
                </a:cubicBezTo>
              </a:path>
              <a:path w="9600" h="3647">
                <a:moveTo>
                  <a:pt x="14982" y="5879"/>
                </a:moveTo>
                <a:cubicBezTo>
                  <a:pt x="14902" y="5899"/>
                  <a:pt x="14931" y="5861"/>
                  <a:pt x="14784" y="5953"/>
                </a:cubicBezTo>
                <a:cubicBezTo>
                  <a:pt x="14679" y="6018"/>
                  <a:pt x="14575" y="6093"/>
                  <a:pt x="14486" y="6176"/>
                </a:cubicBezTo>
                <a:cubicBezTo>
                  <a:pt x="14420" y="6238"/>
                  <a:pt x="14289" y="6331"/>
                  <a:pt x="14263" y="6424"/>
                </a:cubicBezTo>
                <a:cubicBezTo>
                  <a:pt x="14250" y="6471"/>
                  <a:pt x="14255" y="6539"/>
                  <a:pt x="14288" y="6573"/>
                </a:cubicBezTo>
                <a:cubicBezTo>
                  <a:pt x="14361" y="6646"/>
                  <a:pt x="14498" y="6631"/>
                  <a:pt x="14585" y="6648"/>
                </a:cubicBezTo>
                <a:cubicBezTo>
                  <a:pt x="14710" y="6672"/>
                  <a:pt x="14819" y="6764"/>
                  <a:pt x="14908" y="6846"/>
                </a:cubicBezTo>
                <a:cubicBezTo>
                  <a:pt x="15011" y="6941"/>
                  <a:pt x="14987" y="7033"/>
                  <a:pt x="14908" y="7144"/>
                </a:cubicBezTo>
                <a:cubicBezTo>
                  <a:pt x="14844" y="7233"/>
                  <a:pt x="14753" y="7334"/>
                  <a:pt x="14660" y="7392"/>
                </a:cubicBezTo>
                <a:cubicBezTo>
                  <a:pt x="14588" y="7437"/>
                  <a:pt x="14471" y="7490"/>
                  <a:pt x="14387" y="7516"/>
                </a:cubicBezTo>
                <a:cubicBezTo>
                  <a:pt x="14379" y="7516"/>
                  <a:pt x="14370" y="7516"/>
                  <a:pt x="14362" y="7516"/>
                </a:cubicBezTo>
                <a:cubicBezTo>
                  <a:pt x="14383" y="7447"/>
                  <a:pt x="14386" y="7443"/>
                  <a:pt x="14436" y="7367"/>
                </a:cubicBezTo>
                <a:cubicBezTo>
                  <a:pt x="14499" y="7271"/>
                  <a:pt x="14579" y="7200"/>
                  <a:pt x="14660" y="7119"/>
                </a:cubicBezTo>
              </a:path>
              <a:path w="9600" h="3647">
                <a:moveTo>
                  <a:pt x="16073" y="5730"/>
                </a:moveTo>
                <a:cubicBezTo>
                  <a:pt x="15974" y="5752"/>
                  <a:pt x="15893" y="5805"/>
                  <a:pt x="15801" y="5854"/>
                </a:cubicBezTo>
                <a:cubicBezTo>
                  <a:pt x="15669" y="5924"/>
                  <a:pt x="15561" y="6023"/>
                  <a:pt x="15453" y="6127"/>
                </a:cubicBezTo>
                <a:cubicBezTo>
                  <a:pt x="15385" y="6193"/>
                  <a:pt x="15281" y="6291"/>
                  <a:pt x="15304" y="6400"/>
                </a:cubicBezTo>
                <a:cubicBezTo>
                  <a:pt x="15332" y="6529"/>
                  <a:pt x="15527" y="6573"/>
                  <a:pt x="15627" y="6623"/>
                </a:cubicBezTo>
                <a:cubicBezTo>
                  <a:pt x="15748" y="6683"/>
                  <a:pt x="15881" y="6745"/>
                  <a:pt x="15974" y="6846"/>
                </a:cubicBezTo>
                <a:cubicBezTo>
                  <a:pt x="16058" y="6938"/>
                  <a:pt x="16030" y="7024"/>
                  <a:pt x="15974" y="7119"/>
                </a:cubicBezTo>
                <a:cubicBezTo>
                  <a:pt x="15898" y="7248"/>
                  <a:pt x="15794" y="7349"/>
                  <a:pt x="15677" y="7441"/>
                </a:cubicBezTo>
                <a:cubicBezTo>
                  <a:pt x="15610" y="7494"/>
                  <a:pt x="15505" y="7582"/>
                  <a:pt x="15429" y="7615"/>
                </a:cubicBezTo>
                <a:cubicBezTo>
                  <a:pt x="15339" y="7654"/>
                  <a:pt x="15381" y="7623"/>
                  <a:pt x="15354" y="7590"/>
                </a:cubicBezTo>
                <a:cubicBezTo>
                  <a:pt x="15354" y="7565"/>
                  <a:pt x="15354" y="7557"/>
                  <a:pt x="15329" y="7565"/>
                </a:cubicBezTo>
              </a:path>
              <a:path w="9600" h="3647">
                <a:moveTo>
                  <a:pt x="16991" y="6648"/>
                </a:moveTo>
                <a:cubicBezTo>
                  <a:pt x="16920" y="6747"/>
                  <a:pt x="16860" y="6844"/>
                  <a:pt x="16793" y="6945"/>
                </a:cubicBezTo>
                <a:cubicBezTo>
                  <a:pt x="16735" y="7034"/>
                  <a:pt x="16614" y="7174"/>
                  <a:pt x="16619" y="7293"/>
                </a:cubicBezTo>
                <a:cubicBezTo>
                  <a:pt x="16639" y="7333"/>
                  <a:pt x="16648" y="7339"/>
                  <a:pt x="16644" y="7367"/>
                </a:cubicBezTo>
                <a:cubicBezTo>
                  <a:pt x="16718" y="7367"/>
                  <a:pt x="16803" y="7385"/>
                  <a:pt x="16867" y="7342"/>
                </a:cubicBezTo>
                <a:cubicBezTo>
                  <a:pt x="16929" y="7300"/>
                  <a:pt x="17025" y="7168"/>
                  <a:pt x="17041" y="7094"/>
                </a:cubicBezTo>
                <a:cubicBezTo>
                  <a:pt x="17055" y="7030"/>
                  <a:pt x="17057" y="6902"/>
                  <a:pt x="17016" y="6846"/>
                </a:cubicBezTo>
                <a:cubicBezTo>
                  <a:pt x="16962" y="6771"/>
                  <a:pt x="16873" y="6764"/>
                  <a:pt x="16793" y="6747"/>
                </a:cubicBezTo>
                <a:cubicBezTo>
                  <a:pt x="16765" y="6741"/>
                  <a:pt x="16695" y="6767"/>
                  <a:pt x="16743" y="6747"/>
                </a:cubicBezTo>
                <a:cubicBezTo>
                  <a:pt x="16793" y="6722"/>
                  <a:pt x="16809" y="6714"/>
                  <a:pt x="16842" y="6697"/>
                </a:cubicBezTo>
              </a:path>
              <a:path w="9600" h="3647">
                <a:moveTo>
                  <a:pt x="17289" y="6921"/>
                </a:moveTo>
                <a:cubicBezTo>
                  <a:pt x="17289" y="6959"/>
                  <a:pt x="17261" y="7250"/>
                  <a:pt x="17314" y="7268"/>
                </a:cubicBezTo>
                <a:cubicBezTo>
                  <a:pt x="17314" y="7120"/>
                  <a:pt x="17301" y="6966"/>
                  <a:pt x="17338" y="6821"/>
                </a:cubicBezTo>
                <a:cubicBezTo>
                  <a:pt x="17358" y="6744"/>
                  <a:pt x="17426" y="6622"/>
                  <a:pt x="17487" y="6573"/>
                </a:cubicBezTo>
                <a:cubicBezTo>
                  <a:pt x="17561" y="6513"/>
                  <a:pt x="17651" y="6463"/>
                  <a:pt x="17735" y="6424"/>
                </a:cubicBezTo>
              </a:path>
              <a:path w="9600" h="3647">
                <a:moveTo>
                  <a:pt x="19298" y="5730"/>
                </a:moveTo>
                <a:cubicBezTo>
                  <a:pt x="19306" y="5713"/>
                  <a:pt x="19315" y="5697"/>
                  <a:pt x="19323" y="5680"/>
                </a:cubicBezTo>
                <a:cubicBezTo>
                  <a:pt x="19244" y="5687"/>
                  <a:pt x="19177" y="5699"/>
                  <a:pt x="19100" y="5730"/>
                </a:cubicBezTo>
                <a:cubicBezTo>
                  <a:pt x="18958" y="5788"/>
                  <a:pt x="18806" y="5870"/>
                  <a:pt x="18678" y="5953"/>
                </a:cubicBezTo>
                <a:cubicBezTo>
                  <a:pt x="18574" y="6021"/>
                  <a:pt x="18492" y="6114"/>
                  <a:pt x="18405" y="6201"/>
                </a:cubicBezTo>
                <a:cubicBezTo>
                  <a:pt x="18458" y="6336"/>
                  <a:pt x="18539" y="6345"/>
                  <a:pt x="18653" y="6424"/>
                </a:cubicBezTo>
                <a:cubicBezTo>
                  <a:pt x="18768" y="6503"/>
                  <a:pt x="18888" y="6588"/>
                  <a:pt x="18976" y="6697"/>
                </a:cubicBezTo>
                <a:cubicBezTo>
                  <a:pt x="19060" y="6801"/>
                  <a:pt x="19060" y="6904"/>
                  <a:pt x="19000" y="7020"/>
                </a:cubicBezTo>
                <a:cubicBezTo>
                  <a:pt x="18935" y="7146"/>
                  <a:pt x="18792" y="7221"/>
                  <a:pt x="18678" y="7293"/>
                </a:cubicBezTo>
                <a:cubicBezTo>
                  <a:pt x="18594" y="7346"/>
                  <a:pt x="18462" y="7420"/>
                  <a:pt x="18380" y="7392"/>
                </a:cubicBezTo>
                <a:cubicBezTo>
                  <a:pt x="18380" y="7384"/>
                  <a:pt x="18380" y="7375"/>
                  <a:pt x="18380" y="7367"/>
                </a:cubicBezTo>
              </a:path>
              <a:path w="9600" h="3647">
                <a:moveTo>
                  <a:pt x="19323" y="6648"/>
                </a:moveTo>
                <a:cubicBezTo>
                  <a:pt x="19366" y="6809"/>
                  <a:pt x="19372" y="6928"/>
                  <a:pt x="19372" y="7094"/>
                </a:cubicBezTo>
                <a:cubicBezTo>
                  <a:pt x="19372" y="7176"/>
                  <a:pt x="19393" y="7228"/>
                  <a:pt x="19422" y="7293"/>
                </a:cubicBezTo>
                <a:cubicBezTo>
                  <a:pt x="19458" y="7220"/>
                  <a:pt x="19489" y="7157"/>
                  <a:pt x="19496" y="7069"/>
                </a:cubicBezTo>
                <a:cubicBezTo>
                  <a:pt x="19513" y="6852"/>
                  <a:pt x="19485" y="6641"/>
                  <a:pt x="19521" y="6424"/>
                </a:cubicBezTo>
                <a:cubicBezTo>
                  <a:pt x="19558" y="6206"/>
                  <a:pt x="19606" y="6058"/>
                  <a:pt x="19745" y="5879"/>
                </a:cubicBezTo>
                <a:cubicBezTo>
                  <a:pt x="19803" y="5804"/>
                  <a:pt x="19920" y="5694"/>
                  <a:pt x="20017" y="5705"/>
                </a:cubicBezTo>
                <a:cubicBezTo>
                  <a:pt x="20136" y="5719"/>
                  <a:pt x="20183" y="5800"/>
                  <a:pt x="20216" y="5904"/>
                </a:cubicBezTo>
                <a:cubicBezTo>
                  <a:pt x="20268" y="6068"/>
                  <a:pt x="20234" y="6192"/>
                  <a:pt x="20241" y="6350"/>
                </a:cubicBezTo>
                <a:cubicBezTo>
                  <a:pt x="20248" y="6520"/>
                  <a:pt x="20295" y="6679"/>
                  <a:pt x="20315" y="6846"/>
                </a:cubicBezTo>
                <a:cubicBezTo>
                  <a:pt x="20328" y="6953"/>
                  <a:pt x="20368" y="7042"/>
                  <a:pt x="20389" y="7144"/>
                </a:cubicBezTo>
                <a:cubicBezTo>
                  <a:pt x="20405" y="7221"/>
                  <a:pt x="20403" y="7242"/>
                  <a:pt x="20340" y="7218"/>
                </a:cubicBezTo>
                <a:cubicBezTo>
                  <a:pt x="20323" y="7210"/>
                  <a:pt x="20307" y="7201"/>
                  <a:pt x="20290" y="7193"/>
                </a:cubicBezTo>
              </a:path>
              <a:path w="9600" h="3647">
                <a:moveTo>
                  <a:pt x="19472" y="6871"/>
                </a:moveTo>
                <a:cubicBezTo>
                  <a:pt x="19532" y="6859"/>
                  <a:pt x="19583" y="6854"/>
                  <a:pt x="19645" y="6846"/>
                </a:cubicBezTo>
                <a:cubicBezTo>
                  <a:pt x="19839" y="6820"/>
                  <a:pt x="20024" y="6789"/>
                  <a:pt x="20216" y="6747"/>
                </a:cubicBezTo>
              </a:path>
              <a:path w="9600" h="3647">
                <a:moveTo>
                  <a:pt x="21704" y="5755"/>
                </a:moveTo>
                <a:cubicBezTo>
                  <a:pt x="21494" y="5787"/>
                  <a:pt x="21270" y="5813"/>
                  <a:pt x="21084" y="5928"/>
                </a:cubicBezTo>
                <a:cubicBezTo>
                  <a:pt x="21033" y="5959"/>
                  <a:pt x="20884" y="6054"/>
                  <a:pt x="20910" y="6127"/>
                </a:cubicBezTo>
                <a:cubicBezTo>
                  <a:pt x="20941" y="6215"/>
                  <a:pt x="21008" y="6232"/>
                  <a:pt x="21084" y="6276"/>
                </a:cubicBezTo>
                <a:cubicBezTo>
                  <a:pt x="21200" y="6343"/>
                  <a:pt x="21305" y="6412"/>
                  <a:pt x="21406" y="6499"/>
                </a:cubicBezTo>
                <a:cubicBezTo>
                  <a:pt x="21503" y="6582"/>
                  <a:pt x="21517" y="6631"/>
                  <a:pt x="21481" y="6747"/>
                </a:cubicBezTo>
                <a:cubicBezTo>
                  <a:pt x="21442" y="6872"/>
                  <a:pt x="21313" y="6928"/>
                  <a:pt x="21208" y="6995"/>
                </a:cubicBezTo>
                <a:cubicBezTo>
                  <a:pt x="21070" y="7083"/>
                  <a:pt x="20998" y="7130"/>
                  <a:pt x="20836" y="7169"/>
                </a:cubicBezTo>
              </a:path>
              <a:path w="9600" h="3647">
                <a:moveTo>
                  <a:pt x="12328" y="5383"/>
                </a:moveTo>
                <a:cubicBezTo>
                  <a:pt x="12282" y="5436"/>
                  <a:pt x="12281" y="5389"/>
                  <a:pt x="12278" y="5507"/>
                </a:cubicBezTo>
                <a:cubicBezTo>
                  <a:pt x="12271" y="5778"/>
                  <a:pt x="12246" y="6032"/>
                  <a:pt x="12229" y="6300"/>
                </a:cubicBezTo>
                <a:cubicBezTo>
                  <a:pt x="12215" y="6516"/>
                  <a:pt x="12204" y="6728"/>
                  <a:pt x="12204" y="6945"/>
                </a:cubicBezTo>
                <a:cubicBezTo>
                  <a:pt x="12204" y="7197"/>
                  <a:pt x="12143" y="7438"/>
                  <a:pt x="12129" y="7689"/>
                </a:cubicBezTo>
                <a:cubicBezTo>
                  <a:pt x="12112" y="7987"/>
                  <a:pt x="12105" y="8282"/>
                  <a:pt x="12105" y="8582"/>
                </a:cubicBezTo>
                <a:cubicBezTo>
                  <a:pt x="12105" y="8731"/>
                  <a:pt x="12105" y="8880"/>
                  <a:pt x="12105" y="9029"/>
                </a:cubicBezTo>
                <a:cubicBezTo>
                  <a:pt x="12128" y="8957"/>
                  <a:pt x="12129" y="8894"/>
                  <a:pt x="12129" y="880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919080" y="3276720"/>
            <a:ext cx="243000" cy="331560"/>
          </a:xfrm>
          <a:custGeom>
            <a:avLst/>
            <a:gdLst/>
            <a:ahLst/>
            <a:rect l="l" t="t" r="r" b="b"/>
            <a:pathLst>
              <a:path w="671" h="919">
                <a:moveTo>
                  <a:pt x="2629" y="9947"/>
                </a:moveTo>
                <a:cubicBezTo>
                  <a:pt x="2621" y="9972"/>
                  <a:pt x="2612" y="9996"/>
                  <a:pt x="2604" y="10021"/>
                </a:cubicBezTo>
                <a:cubicBezTo>
                  <a:pt x="2604" y="9965"/>
                  <a:pt x="2586" y="9923"/>
                  <a:pt x="2580" y="9872"/>
                </a:cubicBezTo>
                <a:cubicBezTo>
                  <a:pt x="2571" y="9802"/>
                  <a:pt x="2591" y="9670"/>
                  <a:pt x="2604" y="9599"/>
                </a:cubicBezTo>
                <a:cubicBezTo>
                  <a:pt x="2623" y="9499"/>
                  <a:pt x="2661" y="9403"/>
                  <a:pt x="2679" y="9302"/>
                </a:cubicBezTo>
                <a:cubicBezTo>
                  <a:pt x="2693" y="9224"/>
                  <a:pt x="2726" y="9191"/>
                  <a:pt x="2753" y="9128"/>
                </a:cubicBezTo>
                <a:cubicBezTo>
                  <a:pt x="2768" y="9094"/>
                  <a:pt x="2758" y="9103"/>
                  <a:pt x="2803" y="9103"/>
                </a:cubicBezTo>
                <a:cubicBezTo>
                  <a:pt x="2844" y="9154"/>
                  <a:pt x="2878" y="9215"/>
                  <a:pt x="2902" y="9277"/>
                </a:cubicBezTo>
                <a:cubicBezTo>
                  <a:pt x="2949" y="9398"/>
                  <a:pt x="2990" y="9510"/>
                  <a:pt x="3051" y="9624"/>
                </a:cubicBezTo>
                <a:cubicBezTo>
                  <a:pt x="3090" y="9698"/>
                  <a:pt x="3119" y="9766"/>
                  <a:pt x="3200" y="9798"/>
                </a:cubicBezTo>
                <a:cubicBezTo>
                  <a:pt x="3240" y="9814"/>
                  <a:pt x="3225" y="9769"/>
                  <a:pt x="3225" y="9748"/>
                </a:cubicBezTo>
              </a:path>
              <a:path w="671" h="919">
                <a:moveTo>
                  <a:pt x="2555" y="9624"/>
                </a:moveTo>
                <a:cubicBezTo>
                  <a:pt x="2658" y="9600"/>
                  <a:pt x="2781" y="9575"/>
                  <a:pt x="2877" y="9525"/>
                </a:cubicBezTo>
                <a:cubicBezTo>
                  <a:pt x="2902" y="9508"/>
                  <a:pt x="2927" y="9492"/>
                  <a:pt x="2952" y="947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411280" y="1741320"/>
            <a:ext cx="295560" cy="393840"/>
          </a:xfrm>
          <a:custGeom>
            <a:avLst/>
            <a:gdLst/>
            <a:ahLst/>
            <a:rect l="l" t="t" r="r" b="b"/>
            <a:pathLst>
              <a:path w="820" h="1092">
                <a:moveTo>
                  <a:pt x="7441" y="5457"/>
                </a:moveTo>
                <a:cubicBezTo>
                  <a:pt x="7418" y="5481"/>
                  <a:pt x="7440" y="5458"/>
                  <a:pt x="7417" y="5482"/>
                </a:cubicBezTo>
                <a:cubicBezTo>
                  <a:pt x="7393" y="5507"/>
                  <a:pt x="7350" y="5570"/>
                  <a:pt x="7342" y="5606"/>
                </a:cubicBezTo>
                <a:cubicBezTo>
                  <a:pt x="7333" y="5644"/>
                  <a:pt x="7329" y="5669"/>
                  <a:pt x="7317" y="5705"/>
                </a:cubicBezTo>
                <a:cubicBezTo>
                  <a:pt x="7305" y="5740"/>
                  <a:pt x="7272" y="5795"/>
                  <a:pt x="7268" y="5804"/>
                </a:cubicBezTo>
                <a:cubicBezTo>
                  <a:pt x="7268" y="5812"/>
                  <a:pt x="7268" y="5821"/>
                  <a:pt x="7268" y="5829"/>
                </a:cubicBezTo>
                <a:cubicBezTo>
                  <a:pt x="7287" y="5860"/>
                  <a:pt x="7289" y="5856"/>
                  <a:pt x="7293" y="5904"/>
                </a:cubicBezTo>
                <a:cubicBezTo>
                  <a:pt x="7293" y="5912"/>
                  <a:pt x="7293" y="5920"/>
                  <a:pt x="7293" y="5928"/>
                </a:cubicBezTo>
                <a:cubicBezTo>
                  <a:pt x="7316" y="5905"/>
                  <a:pt x="7360" y="5864"/>
                  <a:pt x="7367" y="5854"/>
                </a:cubicBezTo>
                <a:cubicBezTo>
                  <a:pt x="7385" y="5825"/>
                  <a:pt x="7432" y="5765"/>
                  <a:pt x="7441" y="5730"/>
                </a:cubicBezTo>
                <a:cubicBezTo>
                  <a:pt x="7457" y="5670"/>
                  <a:pt x="7437" y="5635"/>
                  <a:pt x="7466" y="5581"/>
                </a:cubicBezTo>
                <a:cubicBezTo>
                  <a:pt x="7486" y="5543"/>
                  <a:pt x="7473" y="5495"/>
                  <a:pt x="7491" y="5457"/>
                </a:cubicBezTo>
                <a:cubicBezTo>
                  <a:pt x="7503" y="5431"/>
                  <a:pt x="7514" y="5422"/>
                  <a:pt x="7491" y="5358"/>
                </a:cubicBezTo>
                <a:cubicBezTo>
                  <a:pt x="7479" y="5325"/>
                  <a:pt x="7478" y="5292"/>
                  <a:pt x="7466" y="5259"/>
                </a:cubicBezTo>
                <a:cubicBezTo>
                  <a:pt x="7452" y="5221"/>
                  <a:pt x="7456" y="5174"/>
                  <a:pt x="7441" y="5135"/>
                </a:cubicBezTo>
                <a:cubicBezTo>
                  <a:pt x="7429" y="5105"/>
                  <a:pt x="7382" y="5036"/>
                  <a:pt x="7367" y="5011"/>
                </a:cubicBezTo>
                <a:cubicBezTo>
                  <a:pt x="7347" y="4978"/>
                  <a:pt x="7317" y="4938"/>
                  <a:pt x="7293" y="4911"/>
                </a:cubicBezTo>
                <a:cubicBezTo>
                  <a:pt x="7265" y="4880"/>
                  <a:pt x="7226" y="4879"/>
                  <a:pt x="7193" y="4862"/>
                </a:cubicBezTo>
                <a:cubicBezTo>
                  <a:pt x="7141" y="4836"/>
                  <a:pt x="7123" y="4840"/>
                  <a:pt x="7069" y="4837"/>
                </a:cubicBezTo>
                <a:cubicBezTo>
                  <a:pt x="7015" y="4834"/>
                  <a:pt x="6989" y="4843"/>
                  <a:pt x="6945" y="4862"/>
                </a:cubicBezTo>
                <a:cubicBezTo>
                  <a:pt x="6892" y="4885"/>
                  <a:pt x="6843" y="4900"/>
                  <a:pt x="6796" y="4936"/>
                </a:cubicBezTo>
                <a:cubicBezTo>
                  <a:pt x="6769" y="4956"/>
                  <a:pt x="6730" y="5006"/>
                  <a:pt x="6722" y="5035"/>
                </a:cubicBezTo>
                <a:cubicBezTo>
                  <a:pt x="6710" y="5078"/>
                  <a:pt x="6688" y="5115"/>
                  <a:pt x="6697" y="5159"/>
                </a:cubicBezTo>
                <a:cubicBezTo>
                  <a:pt x="6702" y="5186"/>
                  <a:pt x="6733" y="5260"/>
                  <a:pt x="6747" y="5283"/>
                </a:cubicBezTo>
                <a:cubicBezTo>
                  <a:pt x="6771" y="5322"/>
                  <a:pt x="6810" y="5343"/>
                  <a:pt x="6846" y="5358"/>
                </a:cubicBezTo>
                <a:cubicBezTo>
                  <a:pt x="6911" y="5385"/>
                  <a:pt x="6959" y="5390"/>
                  <a:pt x="7020" y="5407"/>
                </a:cubicBezTo>
                <a:cubicBezTo>
                  <a:pt x="7055" y="5407"/>
                  <a:pt x="7072" y="5412"/>
                  <a:pt x="7094" y="543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We are going to have to have another method!!!!</a:t>
            </a:r>
            <a:endParaRPr b="0" lang="en-US" sz="4000" spc="-1" strike="noStrike">
              <a:solidFill>
                <a:srgbClr val="000000"/>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Law of Cosines:</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If you are looking for a side use these:</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a</a:t>
            </a:r>
            <a:r>
              <a:rPr b="0" lang="en-US" sz="3200" spc="-1" strike="noStrike" baseline="30000">
                <a:solidFill>
                  <a:srgbClr val="000000"/>
                </a:solidFill>
                <a:latin typeface="Garamond"/>
              </a:rPr>
              <a:t>2</a:t>
            </a:r>
            <a:r>
              <a:rPr b="0" lang="en-US" sz="3200" spc="-1" strike="noStrike">
                <a:solidFill>
                  <a:srgbClr val="000000"/>
                </a:solidFill>
                <a:latin typeface="Garamond"/>
              </a:rPr>
              <a:t> = b</a:t>
            </a:r>
            <a:r>
              <a:rPr b="0" lang="en-US" sz="3200" spc="-1" strike="noStrike" baseline="30000">
                <a:solidFill>
                  <a:srgbClr val="000000"/>
                </a:solidFill>
                <a:latin typeface="Garamond"/>
              </a:rPr>
              <a:t>2</a:t>
            </a:r>
            <a:r>
              <a:rPr b="0" lang="en-US" sz="3200" spc="-1" strike="noStrike">
                <a:solidFill>
                  <a:srgbClr val="000000"/>
                </a:solidFill>
                <a:latin typeface="Garamond"/>
              </a:rPr>
              <a:t> + c</a:t>
            </a:r>
            <a:r>
              <a:rPr b="0" lang="en-US" sz="3200" spc="-1" strike="noStrike" baseline="30000">
                <a:solidFill>
                  <a:srgbClr val="000000"/>
                </a:solidFill>
                <a:latin typeface="Garamond"/>
              </a:rPr>
              <a:t>2</a:t>
            </a:r>
            <a:r>
              <a:rPr b="0" lang="en-US" sz="3200" spc="-1" strike="noStrike">
                <a:solidFill>
                  <a:srgbClr val="000000"/>
                </a:solidFill>
                <a:latin typeface="Garamond"/>
              </a:rPr>
              <a:t> – 2bc cos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b</a:t>
            </a:r>
            <a:r>
              <a:rPr b="0" lang="en-US" sz="3200" spc="-1" strike="noStrike" baseline="30000">
                <a:solidFill>
                  <a:srgbClr val="000000"/>
                </a:solidFill>
                <a:latin typeface="Garamond"/>
              </a:rPr>
              <a:t>2</a:t>
            </a:r>
            <a:r>
              <a:rPr b="0" lang="en-US" sz="3200" spc="-1" strike="noStrike">
                <a:solidFill>
                  <a:srgbClr val="000000"/>
                </a:solidFill>
                <a:latin typeface="Garamond"/>
              </a:rPr>
              <a:t> = a</a:t>
            </a:r>
            <a:r>
              <a:rPr b="0" lang="en-US" sz="3200" spc="-1" strike="noStrike" baseline="30000">
                <a:solidFill>
                  <a:srgbClr val="000000"/>
                </a:solidFill>
                <a:latin typeface="Garamond"/>
              </a:rPr>
              <a:t>2</a:t>
            </a:r>
            <a:r>
              <a:rPr b="0" lang="en-US" sz="3200" spc="-1" strike="noStrike">
                <a:solidFill>
                  <a:srgbClr val="000000"/>
                </a:solidFill>
                <a:latin typeface="Garamond"/>
              </a:rPr>
              <a:t> + c</a:t>
            </a:r>
            <a:r>
              <a:rPr b="0" lang="en-US" sz="3200" spc="-1" strike="noStrike" baseline="30000">
                <a:solidFill>
                  <a:srgbClr val="000000"/>
                </a:solidFill>
                <a:latin typeface="Garamond"/>
              </a:rPr>
              <a:t>2</a:t>
            </a:r>
            <a:r>
              <a:rPr b="0" lang="en-US" sz="3200" spc="-1" strike="noStrike">
                <a:solidFill>
                  <a:srgbClr val="000000"/>
                </a:solidFill>
                <a:latin typeface="Garamond"/>
              </a:rPr>
              <a:t> – 2ac cos B</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c</a:t>
            </a:r>
            <a:r>
              <a:rPr b="0" lang="en-US" sz="3200" spc="-1" strike="noStrike" baseline="30000">
                <a:solidFill>
                  <a:srgbClr val="000000"/>
                </a:solidFill>
                <a:latin typeface="Garamond"/>
              </a:rPr>
              <a:t>2</a:t>
            </a:r>
            <a:r>
              <a:rPr b="0" lang="en-US" sz="3200" spc="-1" strike="noStrike">
                <a:solidFill>
                  <a:srgbClr val="000000"/>
                </a:solidFill>
                <a:latin typeface="Garamond"/>
              </a:rPr>
              <a:t> = a</a:t>
            </a:r>
            <a:r>
              <a:rPr b="0" lang="en-US" sz="3200" spc="-1" strike="noStrike" baseline="30000">
                <a:solidFill>
                  <a:srgbClr val="000000"/>
                </a:solidFill>
                <a:latin typeface="Garamond"/>
              </a:rPr>
              <a:t>2</a:t>
            </a:r>
            <a:r>
              <a:rPr b="0" lang="en-US" sz="3200" spc="-1" strike="noStrike">
                <a:solidFill>
                  <a:srgbClr val="000000"/>
                </a:solidFill>
                <a:latin typeface="Garamond"/>
              </a:rPr>
              <a:t> + b</a:t>
            </a:r>
            <a:r>
              <a:rPr b="0" lang="en-US" sz="3200" spc="-1" strike="noStrike" baseline="30000">
                <a:solidFill>
                  <a:srgbClr val="000000"/>
                </a:solidFill>
                <a:latin typeface="Garamond"/>
              </a:rPr>
              <a:t>2</a:t>
            </a:r>
            <a:r>
              <a:rPr b="0" lang="en-US" sz="3200" spc="-1" strike="noStrike">
                <a:solidFill>
                  <a:srgbClr val="000000"/>
                </a:solidFill>
                <a:latin typeface="Garamond"/>
              </a:rPr>
              <a:t> – 2ab cos C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aw of Cosines:</a:t>
            </a:r>
            <a:endParaRPr b="0" lang="en-US" sz="2800" spc="-1" strike="noStrike">
              <a:solidFill>
                <a:srgbClr val="000000"/>
              </a:solidFill>
              <a:latin typeface="Garamond"/>
            </a:endParaRPr>
          </a:p>
          <a:p>
            <a:pPr lvl="2" marL="1143000" indent="-2286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f you are looking for an angle, use these:</a:t>
            </a:r>
            <a:endParaRPr b="0" lang="en-US" sz="24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000000"/>
              </a:solidFill>
              <a:latin typeface="Garamond"/>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5" name=""/>
          <p:cNvGraphicFramePr/>
          <p:nvPr/>
        </p:nvGraphicFramePr>
        <p:xfrm>
          <a:off x="2514600" y="2666880"/>
          <a:ext cx="2057400" cy="701640"/>
        </p:xfrm>
        <a:graphic>
          <a:graphicData uri="http://schemas.openxmlformats.org/presentationml/2006/ole">
            <p:oleObj r:id="rId2" spid="">
              <p:embed/>
              <p:pic>
                <p:nvPicPr>
                  <p:cNvPr id="126" name="" descr=""/>
                  <p:cNvPicPr/>
                  <p:nvPr/>
                </p:nvPicPr>
                <p:blipFill>
                  <a:blip r:embed="rId3"/>
                  <a:stretch/>
                </p:blipFill>
                <p:spPr>
                  <a:xfrm>
                    <a:off x="2514600" y="2666880"/>
                    <a:ext cx="2057400" cy="701640"/>
                  </a:xfrm>
                  <a:prstGeom prst="rect">
                    <a:avLst/>
                  </a:prstGeom>
                  <a:ln w="0">
                    <a:noFill/>
                  </a:ln>
                </p:spPr>
              </p:pic>
            </p:oleObj>
          </a:graphicData>
        </a:graphic>
      </p:graphicFrame>
      <p:sp>
        <p:nvSpPr>
          <p:cNvPr id="12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8" name=""/>
          <p:cNvGraphicFramePr/>
          <p:nvPr/>
        </p:nvGraphicFramePr>
        <p:xfrm>
          <a:off x="2514600" y="3505320"/>
          <a:ext cx="2057400" cy="701640"/>
        </p:xfrm>
        <a:graphic>
          <a:graphicData uri="http://schemas.openxmlformats.org/presentationml/2006/ole">
            <p:oleObj r:id="rId4" spid="">
              <p:embed/>
              <p:pic>
                <p:nvPicPr>
                  <p:cNvPr id="129" name="" descr=""/>
                  <p:cNvPicPr/>
                  <p:nvPr/>
                </p:nvPicPr>
                <p:blipFill>
                  <a:blip r:embed="rId5"/>
                  <a:stretch/>
                </p:blipFill>
                <p:spPr>
                  <a:xfrm>
                    <a:off x="2514600" y="3505320"/>
                    <a:ext cx="2057400" cy="701640"/>
                  </a:xfrm>
                  <a:prstGeom prst="rect">
                    <a:avLst/>
                  </a:prstGeom>
                  <a:ln w="0">
                    <a:noFill/>
                  </a:ln>
                </p:spPr>
              </p:pic>
            </p:oleObj>
          </a:graphicData>
        </a:graphic>
      </p:graphicFrame>
      <p:sp>
        <p:nvSpPr>
          <p:cNvPr id="13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1" name=""/>
          <p:cNvGraphicFramePr/>
          <p:nvPr/>
        </p:nvGraphicFramePr>
        <p:xfrm>
          <a:off x="2514600" y="4343400"/>
          <a:ext cx="2057400" cy="690480"/>
        </p:xfrm>
        <a:graphic>
          <a:graphicData uri="http://schemas.openxmlformats.org/presentationml/2006/ole">
            <p:oleObj r:id="rId6" spid="">
              <p:embed/>
              <p:pic>
                <p:nvPicPr>
                  <p:cNvPr id="132" name="" descr=""/>
                  <p:cNvPicPr/>
                  <p:nvPr/>
                </p:nvPicPr>
                <p:blipFill>
                  <a:blip r:embed="rId7"/>
                  <a:stretch/>
                </p:blipFill>
                <p:spPr>
                  <a:xfrm>
                    <a:off x="2514600" y="4343400"/>
                    <a:ext cx="2057400" cy="690480"/>
                  </a:xfrm>
                  <a:prstGeom prst="rect">
                    <a:avLst/>
                  </a:prstGeom>
                  <a:ln w="0">
                    <a:noFill/>
                  </a:ln>
                </p:spPr>
              </p:pic>
            </p:oleObj>
          </a:graphicData>
        </a:graphic>
      </p:graphicFrame>
      <p:sp>
        <p:nvSpPr>
          <p:cNvPr id="133" name=""/>
          <p:cNvSpPr/>
          <p:nvPr/>
        </p:nvSpPr>
        <p:spPr>
          <a:xfrm>
            <a:off x="5500800" y="2678040"/>
            <a:ext cx="2455920" cy="1617840"/>
          </a:xfrm>
          <a:custGeom>
            <a:avLst/>
            <a:gdLst/>
            <a:ahLst/>
            <a:rect l="l" t="t" r="r" b="b"/>
            <a:pathLst>
              <a:path w="6822" h="4491">
                <a:moveTo>
                  <a:pt x="17760" y="9079"/>
                </a:moveTo>
                <a:cubicBezTo>
                  <a:pt x="17771" y="9107"/>
                  <a:pt x="17808" y="9174"/>
                  <a:pt x="17810" y="9178"/>
                </a:cubicBezTo>
                <a:cubicBezTo>
                  <a:pt x="17810" y="9186"/>
                  <a:pt x="17810" y="9195"/>
                  <a:pt x="17810" y="9203"/>
                </a:cubicBezTo>
                <a:cubicBezTo>
                  <a:pt x="17804" y="9159"/>
                  <a:pt x="17806" y="9154"/>
                  <a:pt x="17785" y="9128"/>
                </a:cubicBezTo>
                <a:cubicBezTo>
                  <a:pt x="17759" y="9095"/>
                  <a:pt x="17751" y="9055"/>
                  <a:pt x="17711" y="9029"/>
                </a:cubicBezTo>
                <a:cubicBezTo>
                  <a:pt x="17652" y="8991"/>
                  <a:pt x="17630" y="8982"/>
                  <a:pt x="17562" y="8979"/>
                </a:cubicBezTo>
                <a:cubicBezTo>
                  <a:pt x="17457" y="8974"/>
                  <a:pt x="17438" y="9003"/>
                  <a:pt x="17363" y="9079"/>
                </a:cubicBezTo>
                <a:cubicBezTo>
                  <a:pt x="17294" y="9148"/>
                  <a:pt x="17228" y="9210"/>
                  <a:pt x="17190" y="9302"/>
                </a:cubicBezTo>
                <a:cubicBezTo>
                  <a:pt x="17147" y="9405"/>
                  <a:pt x="17117" y="9517"/>
                  <a:pt x="17090" y="9624"/>
                </a:cubicBezTo>
                <a:cubicBezTo>
                  <a:pt x="17062" y="9735"/>
                  <a:pt x="17047" y="9881"/>
                  <a:pt x="17066" y="9996"/>
                </a:cubicBezTo>
                <a:cubicBezTo>
                  <a:pt x="17080" y="10086"/>
                  <a:pt x="17129" y="10252"/>
                  <a:pt x="17190" y="10319"/>
                </a:cubicBezTo>
                <a:cubicBezTo>
                  <a:pt x="17267" y="10403"/>
                  <a:pt x="17389" y="10410"/>
                  <a:pt x="17487" y="10443"/>
                </a:cubicBezTo>
                <a:cubicBezTo>
                  <a:pt x="17543" y="10462"/>
                  <a:pt x="17577" y="10468"/>
                  <a:pt x="17636" y="10468"/>
                </a:cubicBezTo>
                <a:cubicBezTo>
                  <a:pt x="17689" y="10468"/>
                  <a:pt x="17697" y="10456"/>
                  <a:pt x="17735" y="10418"/>
                </a:cubicBezTo>
                <a:cubicBezTo>
                  <a:pt x="17783" y="10370"/>
                  <a:pt x="17815" y="10320"/>
                  <a:pt x="17859" y="10269"/>
                </a:cubicBezTo>
              </a:path>
              <a:path w="6822" h="4491">
                <a:moveTo>
                  <a:pt x="18331" y="9153"/>
                </a:moveTo>
                <a:cubicBezTo>
                  <a:pt x="18265" y="9321"/>
                  <a:pt x="18201" y="9475"/>
                  <a:pt x="18157" y="9649"/>
                </a:cubicBezTo>
                <a:cubicBezTo>
                  <a:pt x="18127" y="9767"/>
                  <a:pt x="18069" y="9898"/>
                  <a:pt x="18083" y="10021"/>
                </a:cubicBezTo>
                <a:cubicBezTo>
                  <a:pt x="18091" y="10092"/>
                  <a:pt x="18128" y="10265"/>
                  <a:pt x="18182" y="10319"/>
                </a:cubicBezTo>
                <a:cubicBezTo>
                  <a:pt x="18250" y="10387"/>
                  <a:pt x="18373" y="10463"/>
                  <a:pt x="18479" y="10443"/>
                </a:cubicBezTo>
                <a:cubicBezTo>
                  <a:pt x="18547" y="10430"/>
                  <a:pt x="18661" y="10320"/>
                  <a:pt x="18703" y="10269"/>
                </a:cubicBezTo>
                <a:cubicBezTo>
                  <a:pt x="18778" y="10178"/>
                  <a:pt x="18838" y="10040"/>
                  <a:pt x="18852" y="9922"/>
                </a:cubicBezTo>
                <a:cubicBezTo>
                  <a:pt x="18867" y="9791"/>
                  <a:pt x="18814" y="9668"/>
                  <a:pt x="18777" y="9550"/>
                </a:cubicBezTo>
                <a:cubicBezTo>
                  <a:pt x="18741" y="9434"/>
                  <a:pt x="18704" y="9353"/>
                  <a:pt x="18653" y="9252"/>
                </a:cubicBezTo>
                <a:cubicBezTo>
                  <a:pt x="18598" y="9144"/>
                  <a:pt x="18573" y="9144"/>
                  <a:pt x="18479" y="9079"/>
                </a:cubicBezTo>
                <a:cubicBezTo>
                  <a:pt x="18457" y="9056"/>
                  <a:pt x="18452" y="9048"/>
                  <a:pt x="18430" y="9054"/>
                </a:cubicBezTo>
              </a:path>
              <a:path w="6822" h="4491">
                <a:moveTo>
                  <a:pt x="19298" y="8830"/>
                </a:moveTo>
                <a:cubicBezTo>
                  <a:pt x="19277" y="8904"/>
                  <a:pt x="19213" y="8940"/>
                  <a:pt x="19149" y="9004"/>
                </a:cubicBezTo>
                <a:cubicBezTo>
                  <a:pt x="19090" y="9063"/>
                  <a:pt x="19002" y="9121"/>
                  <a:pt x="18976" y="9203"/>
                </a:cubicBezTo>
                <a:cubicBezTo>
                  <a:pt x="18951" y="9282"/>
                  <a:pt x="19031" y="9311"/>
                  <a:pt x="19075" y="9351"/>
                </a:cubicBezTo>
                <a:cubicBezTo>
                  <a:pt x="19151" y="9420"/>
                  <a:pt x="19243" y="9459"/>
                  <a:pt x="19323" y="9525"/>
                </a:cubicBezTo>
                <a:cubicBezTo>
                  <a:pt x="19408" y="9595"/>
                  <a:pt x="19470" y="9669"/>
                  <a:pt x="19546" y="9748"/>
                </a:cubicBezTo>
                <a:cubicBezTo>
                  <a:pt x="19620" y="9825"/>
                  <a:pt x="19666" y="9884"/>
                  <a:pt x="19645" y="9996"/>
                </a:cubicBezTo>
                <a:cubicBezTo>
                  <a:pt x="19627" y="10093"/>
                  <a:pt x="19539" y="10153"/>
                  <a:pt x="19472" y="10220"/>
                </a:cubicBezTo>
                <a:cubicBezTo>
                  <a:pt x="19401" y="10291"/>
                  <a:pt x="19321" y="10314"/>
                  <a:pt x="19224" y="10319"/>
                </a:cubicBezTo>
                <a:cubicBezTo>
                  <a:pt x="19105" y="10325"/>
                  <a:pt x="19133" y="10332"/>
                  <a:pt x="19075" y="10244"/>
                </a:cubicBezTo>
              </a:path>
              <a:path w="6822" h="4491">
                <a:moveTo>
                  <a:pt x="19720" y="8731"/>
                </a:moveTo>
                <a:cubicBezTo>
                  <a:pt x="19815" y="8723"/>
                  <a:pt x="19900" y="8692"/>
                  <a:pt x="19993" y="8682"/>
                </a:cubicBezTo>
                <a:cubicBezTo>
                  <a:pt x="20084" y="8672"/>
                  <a:pt x="20133" y="8649"/>
                  <a:pt x="20216" y="8607"/>
                </a:cubicBezTo>
                <a:cubicBezTo>
                  <a:pt x="20265" y="8582"/>
                  <a:pt x="20282" y="8574"/>
                  <a:pt x="20315" y="8558"/>
                </a:cubicBezTo>
              </a:path>
              <a:path w="6822" h="4491">
                <a:moveTo>
                  <a:pt x="20613" y="7838"/>
                </a:moveTo>
                <a:cubicBezTo>
                  <a:pt x="20660" y="7854"/>
                  <a:pt x="20638" y="7932"/>
                  <a:pt x="20638" y="7987"/>
                </a:cubicBezTo>
                <a:cubicBezTo>
                  <a:pt x="20638" y="8110"/>
                  <a:pt x="20638" y="8240"/>
                  <a:pt x="20662" y="8359"/>
                </a:cubicBezTo>
                <a:cubicBezTo>
                  <a:pt x="20680" y="8451"/>
                  <a:pt x="20694" y="8541"/>
                  <a:pt x="20712" y="8632"/>
                </a:cubicBezTo>
                <a:cubicBezTo>
                  <a:pt x="20727" y="8706"/>
                  <a:pt x="20750" y="8783"/>
                  <a:pt x="20762" y="8855"/>
                </a:cubicBezTo>
                <a:cubicBezTo>
                  <a:pt x="20772" y="8916"/>
                  <a:pt x="20771" y="8947"/>
                  <a:pt x="20786" y="8979"/>
                </a:cubicBezTo>
                <a:cubicBezTo>
                  <a:pt x="20786" y="8987"/>
                  <a:pt x="20786" y="8996"/>
                  <a:pt x="20786" y="9004"/>
                </a:cubicBezTo>
              </a:path>
              <a:path w="6822" h="4491">
                <a:moveTo>
                  <a:pt x="16024" y="8235"/>
                </a:moveTo>
                <a:cubicBezTo>
                  <a:pt x="16003" y="8349"/>
                  <a:pt x="15994" y="8468"/>
                  <a:pt x="15974" y="8582"/>
                </a:cubicBezTo>
                <a:cubicBezTo>
                  <a:pt x="15932" y="8823"/>
                  <a:pt x="15889" y="9058"/>
                  <a:pt x="15875" y="9302"/>
                </a:cubicBezTo>
                <a:cubicBezTo>
                  <a:pt x="15827" y="10158"/>
                  <a:pt x="15983" y="11062"/>
                  <a:pt x="15850" y="11906"/>
                </a:cubicBezTo>
                <a:cubicBezTo>
                  <a:pt x="15850" y="11931"/>
                  <a:pt x="15850" y="11939"/>
                  <a:pt x="15825" y="11931"/>
                </a:cubicBezTo>
                <a:cubicBezTo>
                  <a:pt x="15794" y="11782"/>
                  <a:pt x="15768" y="11638"/>
                  <a:pt x="15751" y="11485"/>
                </a:cubicBezTo>
                <a:cubicBezTo>
                  <a:pt x="15712" y="11131"/>
                  <a:pt x="15692" y="10773"/>
                  <a:pt x="15677" y="10418"/>
                </a:cubicBezTo>
                <a:cubicBezTo>
                  <a:pt x="15663" y="10091"/>
                  <a:pt x="15672" y="9751"/>
                  <a:pt x="15701" y="9426"/>
                </a:cubicBezTo>
                <a:cubicBezTo>
                  <a:pt x="15722" y="9196"/>
                  <a:pt x="15727" y="8958"/>
                  <a:pt x="15776" y="8731"/>
                </a:cubicBezTo>
                <a:cubicBezTo>
                  <a:pt x="15825" y="8506"/>
                  <a:pt x="15894" y="8300"/>
                  <a:pt x="15974" y="8086"/>
                </a:cubicBezTo>
                <a:cubicBezTo>
                  <a:pt x="16032" y="7931"/>
                  <a:pt x="16099" y="7734"/>
                  <a:pt x="16222" y="7615"/>
                </a:cubicBezTo>
                <a:cubicBezTo>
                  <a:pt x="16292" y="7548"/>
                  <a:pt x="16357" y="7536"/>
                  <a:pt x="16446" y="7516"/>
                </a:cubicBezTo>
                <a:cubicBezTo>
                  <a:pt x="16562" y="7490"/>
                  <a:pt x="16672" y="7484"/>
                  <a:pt x="16793" y="7491"/>
                </a:cubicBezTo>
                <a:cubicBezTo>
                  <a:pt x="16939" y="7499"/>
                  <a:pt x="17087" y="7522"/>
                  <a:pt x="17239" y="7516"/>
                </a:cubicBezTo>
                <a:cubicBezTo>
                  <a:pt x="17463" y="7507"/>
                  <a:pt x="17683" y="7491"/>
                  <a:pt x="17909" y="7491"/>
                </a:cubicBezTo>
                <a:cubicBezTo>
                  <a:pt x="18174" y="7491"/>
                  <a:pt x="18436" y="7466"/>
                  <a:pt x="18703" y="7466"/>
                </a:cubicBezTo>
                <a:cubicBezTo>
                  <a:pt x="18993" y="7466"/>
                  <a:pt x="19280" y="7424"/>
                  <a:pt x="19571" y="7441"/>
                </a:cubicBezTo>
                <a:cubicBezTo>
                  <a:pt x="19925" y="7462"/>
                  <a:pt x="20286" y="7455"/>
                  <a:pt x="20638" y="7491"/>
                </a:cubicBezTo>
                <a:cubicBezTo>
                  <a:pt x="20926" y="7521"/>
                  <a:pt x="21195" y="7547"/>
                  <a:pt x="21481" y="7565"/>
                </a:cubicBezTo>
                <a:cubicBezTo>
                  <a:pt x="21680" y="7578"/>
                  <a:pt x="21875" y="7590"/>
                  <a:pt x="22076" y="7590"/>
                </a:cubicBezTo>
                <a:cubicBezTo>
                  <a:pt x="22071" y="7627"/>
                  <a:pt x="22092" y="7644"/>
                  <a:pt x="22076" y="7714"/>
                </a:cubicBezTo>
                <a:cubicBezTo>
                  <a:pt x="22048" y="7840"/>
                  <a:pt x="22028" y="7960"/>
                  <a:pt x="22002" y="8086"/>
                </a:cubicBezTo>
                <a:cubicBezTo>
                  <a:pt x="21962" y="8284"/>
                  <a:pt x="21927" y="8480"/>
                  <a:pt x="21927" y="8682"/>
                </a:cubicBezTo>
                <a:cubicBezTo>
                  <a:pt x="21927" y="8931"/>
                  <a:pt x="21955" y="9202"/>
                  <a:pt x="21977" y="9451"/>
                </a:cubicBezTo>
                <a:cubicBezTo>
                  <a:pt x="22004" y="9757"/>
                  <a:pt x="22002" y="10060"/>
                  <a:pt x="22002" y="10368"/>
                </a:cubicBezTo>
                <a:cubicBezTo>
                  <a:pt x="22002" y="10569"/>
                  <a:pt x="22035" y="10762"/>
                  <a:pt x="22027" y="10964"/>
                </a:cubicBezTo>
                <a:cubicBezTo>
                  <a:pt x="22021" y="11112"/>
                  <a:pt x="22002" y="11270"/>
                  <a:pt x="21952" y="11410"/>
                </a:cubicBezTo>
                <a:cubicBezTo>
                  <a:pt x="21928" y="11477"/>
                  <a:pt x="21951" y="11514"/>
                  <a:pt x="21878" y="11559"/>
                </a:cubicBezTo>
                <a:cubicBezTo>
                  <a:pt x="21854" y="11574"/>
                  <a:pt x="21851" y="11574"/>
                  <a:pt x="21803" y="11584"/>
                </a:cubicBezTo>
                <a:cubicBezTo>
                  <a:pt x="21761" y="11593"/>
                  <a:pt x="21682" y="11559"/>
                  <a:pt x="21630" y="11559"/>
                </a:cubicBezTo>
                <a:cubicBezTo>
                  <a:pt x="21461" y="11559"/>
                  <a:pt x="21299" y="11565"/>
                  <a:pt x="21134" y="11584"/>
                </a:cubicBezTo>
                <a:cubicBezTo>
                  <a:pt x="20977" y="11602"/>
                  <a:pt x="20820" y="11618"/>
                  <a:pt x="20662" y="11633"/>
                </a:cubicBezTo>
                <a:cubicBezTo>
                  <a:pt x="20415" y="11656"/>
                  <a:pt x="20168" y="11658"/>
                  <a:pt x="19918" y="11658"/>
                </a:cubicBezTo>
                <a:cubicBezTo>
                  <a:pt x="18915" y="11658"/>
                  <a:pt x="17916" y="11664"/>
                  <a:pt x="16917" y="11708"/>
                </a:cubicBezTo>
                <a:cubicBezTo>
                  <a:pt x="16635" y="11720"/>
                  <a:pt x="16353" y="11732"/>
                  <a:pt x="16073" y="11757"/>
                </a:cubicBezTo>
                <a:cubicBezTo>
                  <a:pt x="15932" y="11770"/>
                  <a:pt x="15794" y="11780"/>
                  <a:pt x="15652" y="11782"/>
                </a:cubicBezTo>
                <a:cubicBezTo>
                  <a:pt x="15561" y="11783"/>
                  <a:pt x="15487" y="11769"/>
                  <a:pt x="15404" y="11757"/>
                </a:cubicBezTo>
                <a:cubicBezTo>
                  <a:pt x="15356" y="11750"/>
                  <a:pt x="15323" y="11742"/>
                  <a:pt x="15280" y="11733"/>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340160" y="2000160"/>
            <a:ext cx="1438200" cy="1268640"/>
          </a:xfrm>
          <a:custGeom>
            <a:avLst/>
            <a:gdLst/>
            <a:ahLst/>
            <a:rect l="l" t="t" r="r" b="b"/>
            <a:pathLst>
              <a:path w="3995" h="3524">
                <a:moveTo>
                  <a:pt x="15677" y="6077"/>
                </a:moveTo>
                <a:cubicBezTo>
                  <a:pt x="15646" y="6049"/>
                  <a:pt x="15630" y="6026"/>
                  <a:pt x="15602" y="6003"/>
                </a:cubicBezTo>
                <a:cubicBezTo>
                  <a:pt x="15563" y="5971"/>
                  <a:pt x="15513" y="5952"/>
                  <a:pt x="15478" y="5928"/>
                </a:cubicBezTo>
                <a:cubicBezTo>
                  <a:pt x="15404" y="5877"/>
                  <a:pt x="15338" y="5821"/>
                  <a:pt x="15255" y="5779"/>
                </a:cubicBezTo>
                <a:cubicBezTo>
                  <a:pt x="15118" y="5710"/>
                  <a:pt x="14981" y="5662"/>
                  <a:pt x="14833" y="5631"/>
                </a:cubicBezTo>
                <a:cubicBezTo>
                  <a:pt x="14733" y="5610"/>
                  <a:pt x="14637" y="5596"/>
                  <a:pt x="14536" y="5581"/>
                </a:cubicBezTo>
                <a:cubicBezTo>
                  <a:pt x="14415" y="5562"/>
                  <a:pt x="14311" y="5558"/>
                  <a:pt x="14188" y="5556"/>
                </a:cubicBezTo>
                <a:cubicBezTo>
                  <a:pt x="14090" y="5554"/>
                  <a:pt x="13984" y="5558"/>
                  <a:pt x="13891" y="5581"/>
                </a:cubicBezTo>
                <a:cubicBezTo>
                  <a:pt x="13759" y="5613"/>
                  <a:pt x="13637" y="5668"/>
                  <a:pt x="13519" y="5730"/>
                </a:cubicBezTo>
                <a:cubicBezTo>
                  <a:pt x="13445" y="5769"/>
                  <a:pt x="13353" y="5821"/>
                  <a:pt x="13295" y="5879"/>
                </a:cubicBezTo>
                <a:cubicBezTo>
                  <a:pt x="13192" y="5982"/>
                  <a:pt x="13089" y="6120"/>
                  <a:pt x="13022" y="6251"/>
                </a:cubicBezTo>
                <a:cubicBezTo>
                  <a:pt x="12970" y="6353"/>
                  <a:pt x="12947" y="6462"/>
                  <a:pt x="12923" y="6573"/>
                </a:cubicBezTo>
                <a:cubicBezTo>
                  <a:pt x="12905" y="6656"/>
                  <a:pt x="12890" y="6731"/>
                  <a:pt x="12898" y="6821"/>
                </a:cubicBezTo>
                <a:cubicBezTo>
                  <a:pt x="12904" y="6883"/>
                  <a:pt x="12925" y="7014"/>
                  <a:pt x="12948" y="7069"/>
                </a:cubicBezTo>
                <a:cubicBezTo>
                  <a:pt x="12977" y="7137"/>
                  <a:pt x="13048" y="7263"/>
                  <a:pt x="13097" y="7317"/>
                </a:cubicBezTo>
                <a:cubicBezTo>
                  <a:pt x="13188" y="7416"/>
                  <a:pt x="13312" y="7472"/>
                  <a:pt x="13419" y="7541"/>
                </a:cubicBezTo>
                <a:cubicBezTo>
                  <a:pt x="13541" y="7620"/>
                  <a:pt x="13635" y="7638"/>
                  <a:pt x="13767" y="7689"/>
                </a:cubicBezTo>
                <a:cubicBezTo>
                  <a:pt x="13892" y="7737"/>
                  <a:pt x="14005" y="7787"/>
                  <a:pt x="14139" y="7813"/>
                </a:cubicBezTo>
                <a:cubicBezTo>
                  <a:pt x="14300" y="7845"/>
                  <a:pt x="14496" y="7850"/>
                  <a:pt x="14660" y="7838"/>
                </a:cubicBezTo>
                <a:cubicBezTo>
                  <a:pt x="14784" y="7829"/>
                  <a:pt x="14964" y="7812"/>
                  <a:pt x="15081" y="7764"/>
                </a:cubicBezTo>
                <a:cubicBezTo>
                  <a:pt x="15233" y="7702"/>
                  <a:pt x="15422" y="7618"/>
                  <a:pt x="15553" y="7516"/>
                </a:cubicBezTo>
                <a:cubicBezTo>
                  <a:pt x="15740" y="7370"/>
                  <a:pt x="15847" y="7195"/>
                  <a:pt x="15949" y="6995"/>
                </a:cubicBezTo>
                <a:cubicBezTo>
                  <a:pt x="16004" y="6887"/>
                  <a:pt x="16036" y="6819"/>
                  <a:pt x="16049" y="6697"/>
                </a:cubicBezTo>
                <a:cubicBezTo>
                  <a:pt x="16062" y="6575"/>
                  <a:pt x="16032" y="6489"/>
                  <a:pt x="15999" y="6375"/>
                </a:cubicBezTo>
                <a:cubicBezTo>
                  <a:pt x="15967" y="6265"/>
                  <a:pt x="15924" y="6189"/>
                  <a:pt x="15850" y="6102"/>
                </a:cubicBezTo>
                <a:cubicBezTo>
                  <a:pt x="15754" y="5988"/>
                  <a:pt x="15649" y="5887"/>
                  <a:pt x="15503" y="5829"/>
                </a:cubicBezTo>
                <a:cubicBezTo>
                  <a:pt x="15389" y="5784"/>
                  <a:pt x="15249" y="5731"/>
                  <a:pt x="15131" y="5705"/>
                </a:cubicBezTo>
                <a:cubicBezTo>
                  <a:pt x="14989" y="5674"/>
                  <a:pt x="14830" y="5682"/>
                  <a:pt x="14684" y="5680"/>
                </a:cubicBezTo>
                <a:cubicBezTo>
                  <a:pt x="14531" y="5678"/>
                  <a:pt x="14388" y="5684"/>
                  <a:pt x="14238" y="5705"/>
                </a:cubicBezTo>
                <a:cubicBezTo>
                  <a:pt x="14044" y="5732"/>
                  <a:pt x="13850" y="5787"/>
                  <a:pt x="13667" y="5854"/>
                </a:cubicBezTo>
                <a:cubicBezTo>
                  <a:pt x="13543" y="5899"/>
                  <a:pt x="13423" y="5974"/>
                  <a:pt x="13320" y="6052"/>
                </a:cubicBezTo>
                <a:cubicBezTo>
                  <a:pt x="13210" y="6136"/>
                  <a:pt x="13087" y="6242"/>
                  <a:pt x="12998" y="6350"/>
                </a:cubicBezTo>
                <a:cubicBezTo>
                  <a:pt x="12895" y="6475"/>
                  <a:pt x="12808" y="6608"/>
                  <a:pt x="12725" y="6747"/>
                </a:cubicBezTo>
                <a:cubicBezTo>
                  <a:pt x="12660" y="6855"/>
                  <a:pt x="12594" y="6976"/>
                  <a:pt x="12551" y="7094"/>
                </a:cubicBezTo>
                <a:cubicBezTo>
                  <a:pt x="12512" y="7202"/>
                  <a:pt x="12487" y="7328"/>
                  <a:pt x="12477" y="7441"/>
                </a:cubicBezTo>
                <a:cubicBezTo>
                  <a:pt x="12467" y="7552"/>
                  <a:pt x="12478" y="7658"/>
                  <a:pt x="12502" y="7764"/>
                </a:cubicBezTo>
                <a:cubicBezTo>
                  <a:pt x="12531" y="7894"/>
                  <a:pt x="12570" y="7930"/>
                  <a:pt x="12650" y="8037"/>
                </a:cubicBezTo>
                <a:cubicBezTo>
                  <a:pt x="12736" y="8153"/>
                  <a:pt x="12835" y="8225"/>
                  <a:pt x="12948" y="8310"/>
                </a:cubicBezTo>
                <a:cubicBezTo>
                  <a:pt x="13054" y="8390"/>
                  <a:pt x="13153" y="8433"/>
                  <a:pt x="13271" y="8483"/>
                </a:cubicBezTo>
                <a:cubicBezTo>
                  <a:pt x="13411" y="8543"/>
                  <a:pt x="13559" y="8607"/>
                  <a:pt x="13717" y="8607"/>
                </a:cubicBezTo>
                <a:cubicBezTo>
                  <a:pt x="13889" y="8607"/>
                  <a:pt x="14095" y="8580"/>
                  <a:pt x="14263" y="8533"/>
                </a:cubicBezTo>
                <a:cubicBezTo>
                  <a:pt x="14409" y="8493"/>
                  <a:pt x="14544" y="8418"/>
                  <a:pt x="14684" y="8359"/>
                </a:cubicBezTo>
                <a:cubicBezTo>
                  <a:pt x="14829" y="8298"/>
                  <a:pt x="14952" y="8204"/>
                  <a:pt x="15081" y="8111"/>
                </a:cubicBezTo>
                <a:cubicBezTo>
                  <a:pt x="15247" y="7991"/>
                  <a:pt x="15410" y="7859"/>
                  <a:pt x="15528" y="7689"/>
                </a:cubicBezTo>
                <a:cubicBezTo>
                  <a:pt x="15616" y="7562"/>
                  <a:pt x="15677" y="7414"/>
                  <a:pt x="15726" y="7268"/>
                </a:cubicBezTo>
                <a:cubicBezTo>
                  <a:pt x="15773" y="7129"/>
                  <a:pt x="15818" y="6994"/>
                  <a:pt x="15801" y="6846"/>
                </a:cubicBezTo>
                <a:cubicBezTo>
                  <a:pt x="15779" y="6651"/>
                  <a:pt x="15652" y="6423"/>
                  <a:pt x="15503" y="6300"/>
                </a:cubicBezTo>
                <a:cubicBezTo>
                  <a:pt x="15403" y="6217"/>
                  <a:pt x="15300" y="6162"/>
                  <a:pt x="15180" y="6102"/>
                </a:cubicBezTo>
                <a:cubicBezTo>
                  <a:pt x="15039" y="6032"/>
                  <a:pt x="14941" y="6020"/>
                  <a:pt x="14784" y="6003"/>
                </a:cubicBezTo>
                <a:cubicBezTo>
                  <a:pt x="14641" y="5987"/>
                  <a:pt x="14507" y="5955"/>
                  <a:pt x="14362" y="5953"/>
                </a:cubicBezTo>
                <a:cubicBezTo>
                  <a:pt x="14224" y="5951"/>
                  <a:pt x="14099" y="5955"/>
                  <a:pt x="13965" y="5978"/>
                </a:cubicBezTo>
                <a:cubicBezTo>
                  <a:pt x="13773" y="6011"/>
                  <a:pt x="13596" y="6055"/>
                  <a:pt x="13419" y="6127"/>
                </a:cubicBezTo>
                <a:cubicBezTo>
                  <a:pt x="13226" y="6205"/>
                  <a:pt x="13064" y="6299"/>
                  <a:pt x="12898" y="6424"/>
                </a:cubicBezTo>
                <a:cubicBezTo>
                  <a:pt x="12708" y="6567"/>
                  <a:pt x="12549" y="6709"/>
                  <a:pt x="12402" y="6896"/>
                </a:cubicBezTo>
                <a:cubicBezTo>
                  <a:pt x="12326" y="6993"/>
                  <a:pt x="12263" y="7104"/>
                  <a:pt x="12204" y="7218"/>
                </a:cubicBezTo>
                <a:cubicBezTo>
                  <a:pt x="12149" y="7325"/>
                  <a:pt x="12106" y="7447"/>
                  <a:pt x="12080" y="7565"/>
                </a:cubicBezTo>
                <a:cubicBezTo>
                  <a:pt x="12054" y="7683"/>
                  <a:pt x="12057" y="7791"/>
                  <a:pt x="12055" y="7913"/>
                </a:cubicBezTo>
                <a:cubicBezTo>
                  <a:pt x="12053" y="8053"/>
                  <a:pt x="12079" y="8150"/>
                  <a:pt x="12129" y="8285"/>
                </a:cubicBezTo>
                <a:cubicBezTo>
                  <a:pt x="12169" y="8392"/>
                  <a:pt x="12226" y="8521"/>
                  <a:pt x="12303" y="8607"/>
                </a:cubicBezTo>
                <a:cubicBezTo>
                  <a:pt x="12355" y="8665"/>
                  <a:pt x="12458" y="8768"/>
                  <a:pt x="12526" y="8806"/>
                </a:cubicBezTo>
                <a:cubicBezTo>
                  <a:pt x="12610" y="8853"/>
                  <a:pt x="12711" y="8894"/>
                  <a:pt x="12799" y="8930"/>
                </a:cubicBezTo>
                <a:cubicBezTo>
                  <a:pt x="12865" y="8957"/>
                  <a:pt x="12934" y="8957"/>
                  <a:pt x="12998" y="8979"/>
                </a:cubicBezTo>
                <a:cubicBezTo>
                  <a:pt x="13049" y="8997"/>
                  <a:pt x="13090" y="9015"/>
                  <a:pt x="13146" y="9029"/>
                </a:cubicBezTo>
                <a:cubicBezTo>
                  <a:pt x="13182" y="9038"/>
                  <a:pt x="13185" y="9074"/>
                  <a:pt x="13221" y="9079"/>
                </a:cubicBezTo>
                <a:cubicBezTo>
                  <a:pt x="13229" y="9071"/>
                  <a:pt x="13238" y="9062"/>
                  <a:pt x="13246" y="905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a:t>
            </a:r>
            <a:r>
              <a:rPr b="0" lang="en-US" sz="2800" spc="-1" strike="noStrike" baseline="30000">
                <a:solidFill>
                  <a:srgbClr val="000000"/>
                </a:solidFill>
                <a:latin typeface="Garamond"/>
              </a:rPr>
              <a:t>2</a:t>
            </a:r>
            <a:r>
              <a:rPr b="0" lang="en-US" sz="2800" spc="-1" strike="noStrike">
                <a:solidFill>
                  <a:srgbClr val="000000"/>
                </a:solidFill>
                <a:latin typeface="Garamond"/>
              </a:rPr>
              <a:t> = b</a:t>
            </a:r>
            <a:r>
              <a:rPr b="0" lang="en-US" sz="2800" spc="-1" strike="noStrike" baseline="30000">
                <a:solidFill>
                  <a:srgbClr val="000000"/>
                </a:solidFill>
                <a:latin typeface="Garamond"/>
              </a:rPr>
              <a:t>2</a:t>
            </a:r>
            <a:r>
              <a:rPr b="0" lang="en-US" sz="2800" spc="-1" strike="noStrike">
                <a:solidFill>
                  <a:srgbClr val="000000"/>
                </a:solidFill>
                <a:latin typeface="Garamond"/>
              </a:rPr>
              <a:t> + c</a:t>
            </a:r>
            <a:r>
              <a:rPr b="0" lang="en-US" sz="2800" spc="-1" strike="noStrike" baseline="30000">
                <a:solidFill>
                  <a:srgbClr val="000000"/>
                </a:solidFill>
                <a:latin typeface="Garamond"/>
              </a:rPr>
              <a:t>2</a:t>
            </a:r>
            <a:r>
              <a:rPr b="0" lang="en-US" sz="2800" spc="-1" strike="noStrike">
                <a:solidFill>
                  <a:srgbClr val="000000"/>
                </a:solidFill>
                <a:latin typeface="Garamond"/>
              </a:rPr>
              <a:t> – 2bc cos A    </a:t>
            </a:r>
            <a:endParaRPr b="0" lang="en-US" sz="2800" spc="-1" strike="noStrike">
              <a:solidFill>
                <a:srgbClr val="000000"/>
              </a:solidFill>
              <a:latin typeface="Garamond"/>
            </a:endParaRPr>
          </a:p>
        </p:txBody>
      </p:sp>
      <p:graphicFrame>
        <p:nvGraphicFramePr>
          <p:cNvPr id="136" name=""/>
          <p:cNvGraphicFramePr/>
          <p:nvPr/>
        </p:nvGraphicFramePr>
        <p:xfrm>
          <a:off x="5105520" y="304920"/>
          <a:ext cx="3124080" cy="1063440"/>
        </p:xfrm>
        <a:graphic>
          <a:graphicData uri="http://schemas.openxmlformats.org/presentationml/2006/ole">
            <p:oleObj r:id="rId2" spid="">
              <p:embed/>
              <p:pic>
                <p:nvPicPr>
                  <p:cNvPr id="137" name="" descr=""/>
                  <p:cNvPicPr/>
                  <p:nvPr/>
                </p:nvPicPr>
                <p:blipFill>
                  <a:blip r:embed="rId3"/>
                  <a:stretch/>
                </p:blipFill>
                <p:spPr>
                  <a:xfrm>
                    <a:off x="5105520" y="304920"/>
                    <a:ext cx="3124080" cy="1063440"/>
                  </a:xfrm>
                  <a:prstGeom prst="rect">
                    <a:avLst/>
                  </a:prstGeom>
                  <a:ln w="0">
                    <a:noFill/>
                  </a:ln>
                </p:spPr>
              </p:pic>
            </p:oleObj>
          </a:graphicData>
        </a:graphic>
      </p:graphicFrame>
      <p:sp>
        <p:nvSpPr>
          <p:cNvPr id="138" name=""/>
          <p:cNvSpPr/>
          <p:nvPr/>
        </p:nvSpPr>
        <p:spPr>
          <a:xfrm>
            <a:off x="3375000" y="1571760"/>
            <a:ext cx="1063800" cy="563400"/>
          </a:xfrm>
          <a:custGeom>
            <a:avLst/>
            <a:gdLst/>
            <a:ahLst/>
            <a:rect l="l" t="t" r="r" b="b"/>
            <a:pathLst>
              <a:path w="2953" h="1563">
                <a:moveTo>
                  <a:pt x="9575" y="4713"/>
                </a:moveTo>
                <a:cubicBezTo>
                  <a:pt x="9575" y="4801"/>
                  <a:pt x="9561" y="4873"/>
                  <a:pt x="9550" y="4961"/>
                </a:cubicBezTo>
                <a:cubicBezTo>
                  <a:pt x="9536" y="5075"/>
                  <a:pt x="9538" y="5196"/>
                  <a:pt x="9525" y="5308"/>
                </a:cubicBezTo>
                <a:cubicBezTo>
                  <a:pt x="9511" y="5429"/>
                  <a:pt x="9496" y="5560"/>
                  <a:pt x="9475" y="5680"/>
                </a:cubicBezTo>
                <a:cubicBezTo>
                  <a:pt x="9462" y="5750"/>
                  <a:pt x="9443" y="5812"/>
                  <a:pt x="9426" y="5879"/>
                </a:cubicBezTo>
                <a:cubicBezTo>
                  <a:pt x="9426" y="5904"/>
                  <a:pt x="9426" y="5912"/>
                  <a:pt x="9426" y="5928"/>
                </a:cubicBezTo>
                <a:cubicBezTo>
                  <a:pt x="9377" y="5912"/>
                  <a:pt x="9417" y="5899"/>
                  <a:pt x="9401" y="5854"/>
                </a:cubicBezTo>
                <a:cubicBezTo>
                  <a:pt x="9380" y="5795"/>
                  <a:pt x="9376" y="5769"/>
                  <a:pt x="9376" y="5705"/>
                </a:cubicBezTo>
              </a:path>
              <a:path w="2953" h="1563">
                <a:moveTo>
                  <a:pt x="9550" y="4564"/>
                </a:moveTo>
                <a:cubicBezTo>
                  <a:pt x="9583" y="4541"/>
                  <a:pt x="9610" y="4499"/>
                  <a:pt x="9649" y="4490"/>
                </a:cubicBezTo>
                <a:cubicBezTo>
                  <a:pt x="9727" y="4472"/>
                  <a:pt x="9818" y="4480"/>
                  <a:pt x="9897" y="4465"/>
                </a:cubicBezTo>
                <a:cubicBezTo>
                  <a:pt x="9985" y="4448"/>
                  <a:pt x="10079" y="4455"/>
                  <a:pt x="10170" y="4440"/>
                </a:cubicBezTo>
                <a:cubicBezTo>
                  <a:pt x="10284" y="4421"/>
                  <a:pt x="10403" y="4434"/>
                  <a:pt x="10517" y="4415"/>
                </a:cubicBezTo>
                <a:cubicBezTo>
                  <a:pt x="10651" y="4393"/>
                  <a:pt x="10775" y="4390"/>
                  <a:pt x="10914" y="4390"/>
                </a:cubicBezTo>
                <a:cubicBezTo>
                  <a:pt x="11197" y="4390"/>
                  <a:pt x="11480" y="4385"/>
                  <a:pt x="11757" y="4415"/>
                </a:cubicBezTo>
                <a:cubicBezTo>
                  <a:pt x="11862" y="4426"/>
                  <a:pt x="11972" y="4390"/>
                  <a:pt x="12080" y="4390"/>
                </a:cubicBezTo>
                <a:cubicBezTo>
                  <a:pt x="12162" y="4390"/>
                  <a:pt x="12223" y="4379"/>
                  <a:pt x="12303" y="4366"/>
                </a:cubicBezTo>
                <a:cubicBezTo>
                  <a:pt x="12311" y="4366"/>
                  <a:pt x="12320" y="4366"/>
                  <a:pt x="12328" y="4366"/>
                </a:cubicBezTo>
                <a:cubicBezTo>
                  <a:pt x="12313" y="4412"/>
                  <a:pt x="12315" y="4439"/>
                  <a:pt x="12303" y="4490"/>
                </a:cubicBezTo>
                <a:cubicBezTo>
                  <a:pt x="12295" y="4525"/>
                  <a:pt x="12287" y="4571"/>
                  <a:pt x="12278" y="4614"/>
                </a:cubicBezTo>
                <a:cubicBezTo>
                  <a:pt x="12265" y="4676"/>
                  <a:pt x="12245" y="4723"/>
                  <a:pt x="12229" y="4787"/>
                </a:cubicBezTo>
                <a:cubicBezTo>
                  <a:pt x="12207" y="4874"/>
                  <a:pt x="12188" y="4968"/>
                  <a:pt x="12179" y="5060"/>
                </a:cubicBezTo>
                <a:cubicBezTo>
                  <a:pt x="12171" y="5142"/>
                  <a:pt x="12161" y="5229"/>
                  <a:pt x="12154" y="5308"/>
                </a:cubicBezTo>
                <a:cubicBezTo>
                  <a:pt x="12146" y="5398"/>
                  <a:pt x="12170" y="5476"/>
                  <a:pt x="12179" y="5556"/>
                </a:cubicBezTo>
                <a:cubicBezTo>
                  <a:pt x="12186" y="5621"/>
                  <a:pt x="12179" y="5690"/>
                  <a:pt x="12179" y="5755"/>
                </a:cubicBezTo>
                <a:cubicBezTo>
                  <a:pt x="11573" y="5755"/>
                  <a:pt x="10971" y="5730"/>
                  <a:pt x="10368" y="5730"/>
                </a:cubicBezTo>
                <a:cubicBezTo>
                  <a:pt x="10145" y="5730"/>
                  <a:pt x="9645" y="5808"/>
                  <a:pt x="9475" y="5705"/>
                </a:cubicBezTo>
                <a:cubicBezTo>
                  <a:pt x="9483" y="5705"/>
                  <a:pt x="9492" y="5705"/>
                  <a:pt x="9500" y="570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751120" y="3044880"/>
            <a:ext cx="1384200" cy="1598400"/>
          </a:xfrm>
          <a:custGeom>
            <a:avLst/>
            <a:gdLst/>
            <a:ahLst/>
            <a:rect l="l" t="t" r="r" b="b"/>
            <a:pathLst>
              <a:path w="3846" h="4441">
                <a:moveTo>
                  <a:pt x="7640" y="8458"/>
                </a:moveTo>
                <a:cubicBezTo>
                  <a:pt x="7722" y="8579"/>
                  <a:pt x="7808" y="8690"/>
                  <a:pt x="7863" y="8830"/>
                </a:cubicBezTo>
                <a:cubicBezTo>
                  <a:pt x="7949" y="9050"/>
                  <a:pt x="8006" y="9280"/>
                  <a:pt x="8086" y="9500"/>
                </a:cubicBezTo>
                <a:cubicBezTo>
                  <a:pt x="8233" y="9904"/>
                  <a:pt x="8374" y="10307"/>
                  <a:pt x="8508" y="10716"/>
                </a:cubicBezTo>
                <a:cubicBezTo>
                  <a:pt x="8607" y="11018"/>
                  <a:pt x="8706" y="11316"/>
                  <a:pt x="8830" y="11609"/>
                </a:cubicBezTo>
                <a:cubicBezTo>
                  <a:pt x="8861" y="11683"/>
                  <a:pt x="8941" y="11962"/>
                  <a:pt x="9054" y="11956"/>
                </a:cubicBezTo>
                <a:cubicBezTo>
                  <a:pt x="9089" y="11956"/>
                  <a:pt x="9102" y="11947"/>
                  <a:pt x="9103" y="11906"/>
                </a:cubicBezTo>
              </a:path>
              <a:path w="3846" h="4441">
                <a:moveTo>
                  <a:pt x="8731" y="8880"/>
                </a:moveTo>
                <a:cubicBezTo>
                  <a:pt x="8824" y="9160"/>
                  <a:pt x="8941" y="9442"/>
                  <a:pt x="9029" y="9723"/>
                </a:cubicBezTo>
                <a:cubicBezTo>
                  <a:pt x="9111" y="9983"/>
                  <a:pt x="9208" y="10235"/>
                  <a:pt x="9302" y="10492"/>
                </a:cubicBezTo>
                <a:cubicBezTo>
                  <a:pt x="9400" y="10761"/>
                  <a:pt x="9477" y="11053"/>
                  <a:pt x="9599" y="11311"/>
                </a:cubicBezTo>
                <a:cubicBezTo>
                  <a:pt x="9737" y="11604"/>
                  <a:pt x="9856" y="11920"/>
                  <a:pt x="10046" y="12179"/>
                </a:cubicBezTo>
                <a:cubicBezTo>
                  <a:pt x="10108" y="12264"/>
                  <a:pt x="10114" y="12257"/>
                  <a:pt x="10170" y="12303"/>
                </a:cubicBezTo>
                <a:cubicBezTo>
                  <a:pt x="10199" y="12178"/>
                  <a:pt x="10195" y="12068"/>
                  <a:pt x="10195" y="11931"/>
                </a:cubicBezTo>
              </a:path>
              <a:path w="3846" h="4441">
                <a:moveTo>
                  <a:pt x="9203" y="8830"/>
                </a:moveTo>
                <a:cubicBezTo>
                  <a:pt x="9291" y="9015"/>
                  <a:pt x="9382" y="9194"/>
                  <a:pt x="9475" y="9376"/>
                </a:cubicBezTo>
                <a:cubicBezTo>
                  <a:pt x="9591" y="9603"/>
                  <a:pt x="9725" y="9822"/>
                  <a:pt x="9847" y="10046"/>
                </a:cubicBezTo>
                <a:cubicBezTo>
                  <a:pt x="10146" y="10593"/>
                  <a:pt x="10526" y="11095"/>
                  <a:pt x="10840" y="11633"/>
                </a:cubicBezTo>
                <a:cubicBezTo>
                  <a:pt x="11040" y="11977"/>
                  <a:pt x="11199" y="12347"/>
                  <a:pt x="11385" y="12700"/>
                </a:cubicBezTo>
                <a:cubicBezTo>
                  <a:pt x="11418" y="12766"/>
                  <a:pt x="11452" y="12832"/>
                  <a:pt x="11485" y="1289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95240" y="1608120"/>
            <a:ext cx="1731960" cy="1187640"/>
          </a:xfrm>
          <a:custGeom>
            <a:avLst/>
            <a:gdLst/>
            <a:ahLst/>
            <a:rect l="l" t="t" r="r" b="b"/>
            <a:pathLst>
              <a:path w="4813" h="3300">
                <a:moveTo>
                  <a:pt x="3795" y="6052"/>
                </a:moveTo>
                <a:cubicBezTo>
                  <a:pt x="3842" y="6052"/>
                  <a:pt x="3874" y="6031"/>
                  <a:pt x="3919" y="6028"/>
                </a:cubicBezTo>
                <a:cubicBezTo>
                  <a:pt x="3971" y="6028"/>
                  <a:pt x="3989" y="6027"/>
                  <a:pt x="4018" y="6003"/>
                </a:cubicBezTo>
              </a:path>
              <a:path w="4813" h="3300">
                <a:moveTo>
                  <a:pt x="4366" y="5730"/>
                </a:moveTo>
                <a:cubicBezTo>
                  <a:pt x="4366" y="5821"/>
                  <a:pt x="4386" y="5890"/>
                  <a:pt x="4390" y="5978"/>
                </a:cubicBezTo>
                <a:cubicBezTo>
                  <a:pt x="4395" y="6077"/>
                  <a:pt x="4381" y="6159"/>
                  <a:pt x="4366" y="6251"/>
                </a:cubicBezTo>
                <a:cubicBezTo>
                  <a:pt x="4366" y="6300"/>
                  <a:pt x="4366" y="6317"/>
                  <a:pt x="4366" y="6350"/>
                </a:cubicBezTo>
                <a:cubicBezTo>
                  <a:pt x="4418" y="6332"/>
                  <a:pt x="4366" y="6318"/>
                  <a:pt x="4390" y="6276"/>
                </a:cubicBezTo>
                <a:cubicBezTo>
                  <a:pt x="4410" y="6240"/>
                  <a:pt x="4454" y="6168"/>
                  <a:pt x="4465" y="6127"/>
                </a:cubicBezTo>
                <a:cubicBezTo>
                  <a:pt x="4482" y="6063"/>
                  <a:pt x="4486" y="6029"/>
                  <a:pt x="4564" y="6003"/>
                </a:cubicBezTo>
                <a:cubicBezTo>
                  <a:pt x="4601" y="5991"/>
                  <a:pt x="4675" y="6015"/>
                  <a:pt x="4688" y="6052"/>
                </a:cubicBezTo>
                <a:cubicBezTo>
                  <a:pt x="4707" y="6104"/>
                  <a:pt x="4690" y="6232"/>
                  <a:pt x="4663" y="6276"/>
                </a:cubicBezTo>
                <a:cubicBezTo>
                  <a:pt x="4634" y="6323"/>
                  <a:pt x="4512" y="6420"/>
                  <a:pt x="4465" y="6449"/>
                </a:cubicBezTo>
                <a:cubicBezTo>
                  <a:pt x="4413" y="6481"/>
                  <a:pt x="4345" y="6482"/>
                  <a:pt x="4291" y="6449"/>
                </a:cubicBezTo>
                <a:cubicBezTo>
                  <a:pt x="4269" y="6427"/>
                  <a:pt x="4260" y="6422"/>
                  <a:pt x="4266" y="6400"/>
                </a:cubicBezTo>
              </a:path>
              <a:path w="4813" h="3300">
                <a:moveTo>
                  <a:pt x="4787" y="5631"/>
                </a:moveTo>
                <a:cubicBezTo>
                  <a:pt x="4862" y="5614"/>
                  <a:pt x="4905" y="5583"/>
                  <a:pt x="4961" y="5631"/>
                </a:cubicBezTo>
                <a:cubicBezTo>
                  <a:pt x="5011" y="5674"/>
                  <a:pt x="4974" y="5714"/>
                  <a:pt x="4936" y="5755"/>
                </a:cubicBezTo>
                <a:cubicBezTo>
                  <a:pt x="4911" y="5779"/>
                  <a:pt x="4903" y="5787"/>
                  <a:pt x="4887" y="5804"/>
                </a:cubicBezTo>
                <a:cubicBezTo>
                  <a:pt x="4905" y="5861"/>
                  <a:pt x="4965" y="5851"/>
                  <a:pt x="5035" y="5854"/>
                </a:cubicBezTo>
                <a:cubicBezTo>
                  <a:pt x="5085" y="5854"/>
                  <a:pt x="5102" y="5854"/>
                  <a:pt x="5135" y="5854"/>
                </a:cubicBezTo>
              </a:path>
              <a:path w="4813" h="3300">
                <a:moveTo>
                  <a:pt x="2629" y="6077"/>
                </a:moveTo>
                <a:cubicBezTo>
                  <a:pt x="2629" y="6085"/>
                  <a:pt x="2629" y="6094"/>
                  <a:pt x="2629" y="6102"/>
                </a:cubicBezTo>
                <a:cubicBezTo>
                  <a:pt x="2687" y="6102"/>
                  <a:pt x="2724" y="6090"/>
                  <a:pt x="2778" y="6077"/>
                </a:cubicBezTo>
                <a:cubicBezTo>
                  <a:pt x="2834" y="6064"/>
                  <a:pt x="2883" y="6043"/>
                  <a:pt x="2927" y="6003"/>
                </a:cubicBezTo>
                <a:cubicBezTo>
                  <a:pt x="2935" y="5995"/>
                  <a:pt x="2944" y="5986"/>
                  <a:pt x="2952" y="5978"/>
                </a:cubicBezTo>
              </a:path>
              <a:path w="4813" h="3300">
                <a:moveTo>
                  <a:pt x="2952" y="5680"/>
                </a:moveTo>
                <a:cubicBezTo>
                  <a:pt x="2975" y="5766"/>
                  <a:pt x="2998" y="5840"/>
                  <a:pt x="3001" y="5928"/>
                </a:cubicBezTo>
                <a:cubicBezTo>
                  <a:pt x="3005" y="6039"/>
                  <a:pt x="3026" y="6137"/>
                  <a:pt x="3026" y="6251"/>
                </a:cubicBezTo>
                <a:cubicBezTo>
                  <a:pt x="3026" y="6317"/>
                  <a:pt x="3026" y="6383"/>
                  <a:pt x="3026" y="6449"/>
                </a:cubicBezTo>
                <a:cubicBezTo>
                  <a:pt x="3026" y="6490"/>
                  <a:pt x="3026" y="6416"/>
                  <a:pt x="3026" y="6375"/>
                </a:cubicBezTo>
                <a:cubicBezTo>
                  <a:pt x="3026" y="6302"/>
                  <a:pt x="3032" y="6220"/>
                  <a:pt x="3051" y="6152"/>
                </a:cubicBezTo>
                <a:cubicBezTo>
                  <a:pt x="3063" y="6109"/>
                  <a:pt x="3134" y="6017"/>
                  <a:pt x="3175" y="6003"/>
                </a:cubicBezTo>
                <a:cubicBezTo>
                  <a:pt x="3257" y="5976"/>
                  <a:pt x="3306" y="6059"/>
                  <a:pt x="3324" y="6127"/>
                </a:cubicBezTo>
                <a:cubicBezTo>
                  <a:pt x="3343" y="6198"/>
                  <a:pt x="3314" y="6315"/>
                  <a:pt x="3274" y="6375"/>
                </a:cubicBezTo>
                <a:cubicBezTo>
                  <a:pt x="3239" y="6428"/>
                  <a:pt x="3189" y="6502"/>
                  <a:pt x="3125" y="6524"/>
                </a:cubicBezTo>
                <a:cubicBezTo>
                  <a:pt x="3087" y="6537"/>
                  <a:pt x="3052" y="6522"/>
                  <a:pt x="3026" y="6499"/>
                </a:cubicBezTo>
                <a:cubicBezTo>
                  <a:pt x="2996" y="6469"/>
                  <a:pt x="2991" y="6455"/>
                  <a:pt x="3026" y="6424"/>
                </a:cubicBezTo>
              </a:path>
              <a:path w="4813" h="3300">
                <a:moveTo>
                  <a:pt x="3249" y="5556"/>
                </a:moveTo>
                <a:cubicBezTo>
                  <a:pt x="3331" y="5547"/>
                  <a:pt x="3436" y="5495"/>
                  <a:pt x="3448" y="5606"/>
                </a:cubicBezTo>
                <a:cubicBezTo>
                  <a:pt x="3452" y="5640"/>
                  <a:pt x="3436" y="5705"/>
                  <a:pt x="3423" y="5730"/>
                </a:cubicBezTo>
                <a:cubicBezTo>
                  <a:pt x="3399" y="5778"/>
                  <a:pt x="3356" y="5739"/>
                  <a:pt x="3349" y="5804"/>
                </a:cubicBezTo>
                <a:cubicBezTo>
                  <a:pt x="3349" y="5812"/>
                  <a:pt x="3349" y="5821"/>
                  <a:pt x="3349" y="5829"/>
                </a:cubicBezTo>
                <a:cubicBezTo>
                  <a:pt x="3427" y="5829"/>
                  <a:pt x="3701" y="5795"/>
                  <a:pt x="3721" y="5854"/>
                </a:cubicBezTo>
              </a:path>
              <a:path w="4813" h="3300">
                <a:moveTo>
                  <a:pt x="4986" y="4490"/>
                </a:moveTo>
                <a:cubicBezTo>
                  <a:pt x="4986" y="4542"/>
                  <a:pt x="4970" y="4538"/>
                  <a:pt x="4961" y="4589"/>
                </a:cubicBezTo>
                <a:cubicBezTo>
                  <a:pt x="4938" y="4727"/>
                  <a:pt x="4868" y="4855"/>
                  <a:pt x="4812" y="4986"/>
                </a:cubicBezTo>
                <a:cubicBezTo>
                  <a:pt x="4667" y="5324"/>
                  <a:pt x="4529" y="5661"/>
                  <a:pt x="4390" y="6003"/>
                </a:cubicBezTo>
                <a:cubicBezTo>
                  <a:pt x="4338" y="6131"/>
                  <a:pt x="4265" y="6247"/>
                  <a:pt x="4217" y="6375"/>
                </a:cubicBezTo>
                <a:cubicBezTo>
                  <a:pt x="4195" y="6434"/>
                  <a:pt x="4192" y="6587"/>
                  <a:pt x="4192" y="6524"/>
                </a:cubicBezTo>
                <a:cubicBezTo>
                  <a:pt x="4192" y="6499"/>
                  <a:pt x="4192" y="6491"/>
                  <a:pt x="4192" y="6474"/>
                </a:cubicBezTo>
              </a:path>
              <a:path w="4813" h="3300">
                <a:moveTo>
                  <a:pt x="5457" y="5978"/>
                </a:moveTo>
                <a:cubicBezTo>
                  <a:pt x="5512" y="6019"/>
                  <a:pt x="5513" y="5982"/>
                  <a:pt x="5581" y="5978"/>
                </a:cubicBezTo>
                <a:cubicBezTo>
                  <a:pt x="5638" y="5975"/>
                  <a:pt x="5697" y="5978"/>
                  <a:pt x="5755" y="5978"/>
                </a:cubicBezTo>
              </a:path>
              <a:path w="4813" h="3300">
                <a:moveTo>
                  <a:pt x="6325" y="5928"/>
                </a:moveTo>
                <a:cubicBezTo>
                  <a:pt x="6325" y="5936"/>
                  <a:pt x="6325" y="5945"/>
                  <a:pt x="6325" y="5953"/>
                </a:cubicBezTo>
                <a:cubicBezTo>
                  <a:pt x="6259" y="5936"/>
                  <a:pt x="6300" y="5922"/>
                  <a:pt x="6276" y="5879"/>
                </a:cubicBezTo>
                <a:cubicBezTo>
                  <a:pt x="6250" y="5832"/>
                  <a:pt x="6159" y="5847"/>
                  <a:pt x="6127" y="5879"/>
                </a:cubicBezTo>
                <a:cubicBezTo>
                  <a:pt x="6048" y="5957"/>
                  <a:pt x="5973" y="6042"/>
                  <a:pt x="5928" y="6152"/>
                </a:cubicBezTo>
                <a:cubicBezTo>
                  <a:pt x="5908" y="6201"/>
                  <a:pt x="5878" y="6321"/>
                  <a:pt x="5904" y="6375"/>
                </a:cubicBezTo>
                <a:cubicBezTo>
                  <a:pt x="5927" y="6423"/>
                  <a:pt x="6001" y="6460"/>
                  <a:pt x="6052" y="6449"/>
                </a:cubicBezTo>
                <a:cubicBezTo>
                  <a:pt x="6135" y="6430"/>
                  <a:pt x="6185" y="6407"/>
                  <a:pt x="6251" y="6350"/>
                </a:cubicBezTo>
              </a:path>
              <a:path w="4813" h="3300">
                <a:moveTo>
                  <a:pt x="6598" y="5606"/>
                </a:moveTo>
                <a:cubicBezTo>
                  <a:pt x="6709" y="5625"/>
                  <a:pt x="6730" y="5606"/>
                  <a:pt x="6772" y="5655"/>
                </a:cubicBezTo>
                <a:cubicBezTo>
                  <a:pt x="6740" y="5741"/>
                  <a:pt x="6731" y="5773"/>
                  <a:pt x="6648" y="5829"/>
                </a:cubicBezTo>
                <a:cubicBezTo>
                  <a:pt x="6604" y="5859"/>
                  <a:pt x="6561" y="5866"/>
                  <a:pt x="6548" y="5904"/>
                </a:cubicBezTo>
                <a:cubicBezTo>
                  <a:pt x="6599" y="5933"/>
                  <a:pt x="6659" y="5949"/>
                  <a:pt x="6722" y="5953"/>
                </a:cubicBezTo>
                <a:cubicBezTo>
                  <a:pt x="6780" y="5956"/>
                  <a:pt x="6838" y="5953"/>
                  <a:pt x="6896" y="5953"/>
                </a:cubicBezTo>
              </a:path>
              <a:path w="4813" h="3300">
                <a:moveTo>
                  <a:pt x="2208" y="7367"/>
                </a:moveTo>
                <a:cubicBezTo>
                  <a:pt x="2301" y="7350"/>
                  <a:pt x="2395" y="7349"/>
                  <a:pt x="2480" y="7317"/>
                </a:cubicBezTo>
              </a:path>
              <a:path w="4813" h="3300">
                <a:moveTo>
                  <a:pt x="3026" y="7094"/>
                </a:moveTo>
                <a:cubicBezTo>
                  <a:pt x="3026" y="7139"/>
                  <a:pt x="3026" y="7194"/>
                  <a:pt x="3001" y="7144"/>
                </a:cubicBezTo>
                <a:cubicBezTo>
                  <a:pt x="2979" y="7099"/>
                  <a:pt x="2985" y="7094"/>
                  <a:pt x="2927" y="7094"/>
                </a:cubicBezTo>
                <a:cubicBezTo>
                  <a:pt x="2870" y="7094"/>
                  <a:pt x="2824" y="7170"/>
                  <a:pt x="2803" y="7218"/>
                </a:cubicBezTo>
                <a:cubicBezTo>
                  <a:pt x="2757" y="7323"/>
                  <a:pt x="2699" y="7395"/>
                  <a:pt x="2679" y="7516"/>
                </a:cubicBezTo>
                <a:cubicBezTo>
                  <a:pt x="2665" y="7602"/>
                  <a:pt x="2642" y="7645"/>
                  <a:pt x="2704" y="7714"/>
                </a:cubicBezTo>
                <a:cubicBezTo>
                  <a:pt x="2760" y="7776"/>
                  <a:pt x="2786" y="7764"/>
                  <a:pt x="2853" y="7739"/>
                </a:cubicBezTo>
                <a:cubicBezTo>
                  <a:pt x="2920" y="7716"/>
                  <a:pt x="2941" y="7715"/>
                  <a:pt x="2952" y="7665"/>
                </a:cubicBezTo>
              </a:path>
              <a:path w="4813" h="3300">
                <a:moveTo>
                  <a:pt x="3249" y="6846"/>
                </a:moveTo>
                <a:cubicBezTo>
                  <a:pt x="3282" y="6854"/>
                  <a:pt x="3316" y="6863"/>
                  <a:pt x="3349" y="6871"/>
                </a:cubicBezTo>
                <a:cubicBezTo>
                  <a:pt x="3349" y="6949"/>
                  <a:pt x="3326" y="6987"/>
                  <a:pt x="3274" y="7045"/>
                </a:cubicBezTo>
                <a:cubicBezTo>
                  <a:pt x="3213" y="7113"/>
                  <a:pt x="3146" y="7164"/>
                  <a:pt x="3076" y="7218"/>
                </a:cubicBezTo>
                <a:cubicBezTo>
                  <a:pt x="3053" y="7241"/>
                  <a:pt x="3045" y="7245"/>
                  <a:pt x="3051" y="7268"/>
                </a:cubicBezTo>
                <a:cubicBezTo>
                  <a:pt x="3147" y="7268"/>
                  <a:pt x="3231" y="7273"/>
                  <a:pt x="3324" y="7243"/>
                </a:cubicBezTo>
                <a:cubicBezTo>
                  <a:pt x="3457" y="7199"/>
                  <a:pt x="3588" y="7140"/>
                  <a:pt x="3721" y="7094"/>
                </a:cubicBezTo>
              </a:path>
              <a:path w="4813" h="3300">
                <a:moveTo>
                  <a:pt x="7020" y="4589"/>
                </a:moveTo>
                <a:cubicBezTo>
                  <a:pt x="6927" y="4693"/>
                  <a:pt x="6838" y="4804"/>
                  <a:pt x="6747" y="4911"/>
                </a:cubicBezTo>
                <a:cubicBezTo>
                  <a:pt x="6607" y="5075"/>
                  <a:pt x="6492" y="5253"/>
                  <a:pt x="6375" y="5432"/>
                </a:cubicBezTo>
                <a:cubicBezTo>
                  <a:pt x="6276" y="5584"/>
                  <a:pt x="6200" y="5752"/>
                  <a:pt x="6102" y="5904"/>
                </a:cubicBezTo>
                <a:cubicBezTo>
                  <a:pt x="6023" y="6026"/>
                  <a:pt x="5955" y="6151"/>
                  <a:pt x="5879" y="627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55760" y="3867120"/>
            <a:ext cx="1197000" cy="365040"/>
          </a:xfrm>
          <a:custGeom>
            <a:avLst/>
            <a:gdLst/>
            <a:ahLst/>
            <a:rect l="l" t="t" r="r" b="b"/>
            <a:pathLst>
              <a:path w="3325" h="1018">
                <a:moveTo>
                  <a:pt x="1265" y="11088"/>
                </a:moveTo>
                <a:cubicBezTo>
                  <a:pt x="1394" y="11081"/>
                  <a:pt x="1511" y="11052"/>
                  <a:pt x="1637" y="11038"/>
                </a:cubicBezTo>
                <a:cubicBezTo>
                  <a:pt x="1713" y="11038"/>
                  <a:pt x="1739" y="11038"/>
                  <a:pt x="1786" y="11013"/>
                </a:cubicBezTo>
              </a:path>
              <a:path w="3325" h="1018">
                <a:moveTo>
                  <a:pt x="2059" y="10790"/>
                </a:moveTo>
                <a:cubicBezTo>
                  <a:pt x="2163" y="10818"/>
                  <a:pt x="2350" y="10839"/>
                  <a:pt x="2406" y="10964"/>
                </a:cubicBezTo>
                <a:cubicBezTo>
                  <a:pt x="2433" y="11023"/>
                  <a:pt x="2367" y="11150"/>
                  <a:pt x="2332" y="11187"/>
                </a:cubicBezTo>
                <a:cubicBezTo>
                  <a:pt x="2259" y="11264"/>
                  <a:pt x="2161" y="11333"/>
                  <a:pt x="2084" y="11410"/>
                </a:cubicBezTo>
                <a:cubicBezTo>
                  <a:pt x="2047" y="11447"/>
                  <a:pt x="1977" y="11495"/>
                  <a:pt x="2009" y="11559"/>
                </a:cubicBezTo>
                <a:cubicBezTo>
                  <a:pt x="2033" y="11607"/>
                  <a:pt x="2189" y="11592"/>
                  <a:pt x="2232" y="11584"/>
                </a:cubicBezTo>
                <a:cubicBezTo>
                  <a:pt x="2318" y="11568"/>
                  <a:pt x="2402" y="11521"/>
                  <a:pt x="2480" y="11485"/>
                </a:cubicBezTo>
              </a:path>
              <a:path w="3325" h="1018">
                <a:moveTo>
                  <a:pt x="2902" y="10740"/>
                </a:moveTo>
                <a:cubicBezTo>
                  <a:pt x="2871" y="10867"/>
                  <a:pt x="2850" y="10987"/>
                  <a:pt x="2828" y="11112"/>
                </a:cubicBezTo>
                <a:cubicBezTo>
                  <a:pt x="2806" y="11239"/>
                  <a:pt x="2803" y="11355"/>
                  <a:pt x="2803" y="11485"/>
                </a:cubicBezTo>
                <a:cubicBezTo>
                  <a:pt x="2803" y="11533"/>
                  <a:pt x="2787" y="11564"/>
                  <a:pt x="2778" y="11609"/>
                </a:cubicBezTo>
                <a:cubicBezTo>
                  <a:pt x="2778" y="11535"/>
                  <a:pt x="2776" y="11481"/>
                  <a:pt x="2803" y="11410"/>
                </a:cubicBezTo>
                <a:cubicBezTo>
                  <a:pt x="2877" y="11218"/>
                  <a:pt x="2932" y="11191"/>
                  <a:pt x="3125" y="11162"/>
                </a:cubicBezTo>
                <a:cubicBezTo>
                  <a:pt x="3196" y="11151"/>
                  <a:pt x="3281" y="11245"/>
                  <a:pt x="3299" y="11311"/>
                </a:cubicBezTo>
                <a:cubicBezTo>
                  <a:pt x="3322" y="11395"/>
                  <a:pt x="3287" y="11443"/>
                  <a:pt x="3225" y="11485"/>
                </a:cubicBezTo>
                <a:cubicBezTo>
                  <a:pt x="3122" y="11554"/>
                  <a:pt x="3074" y="11559"/>
                  <a:pt x="2952" y="11559"/>
                </a:cubicBezTo>
                <a:cubicBezTo>
                  <a:pt x="2915" y="11559"/>
                  <a:pt x="2802" y="11569"/>
                  <a:pt x="2778" y="11534"/>
                </a:cubicBezTo>
                <a:cubicBezTo>
                  <a:pt x="2778" y="11526"/>
                  <a:pt x="2778" y="11517"/>
                  <a:pt x="2778" y="11509"/>
                </a:cubicBezTo>
              </a:path>
              <a:path w="3325" h="1018">
                <a:moveTo>
                  <a:pt x="4068" y="11088"/>
                </a:moveTo>
                <a:cubicBezTo>
                  <a:pt x="4093" y="11113"/>
                  <a:pt x="4117" y="11137"/>
                  <a:pt x="4142" y="11162"/>
                </a:cubicBezTo>
                <a:cubicBezTo>
                  <a:pt x="4134" y="11130"/>
                  <a:pt x="4105" y="11079"/>
                  <a:pt x="4068" y="11063"/>
                </a:cubicBezTo>
                <a:cubicBezTo>
                  <a:pt x="4002" y="11034"/>
                  <a:pt x="3960" y="11033"/>
                  <a:pt x="3894" y="11063"/>
                </a:cubicBezTo>
                <a:cubicBezTo>
                  <a:pt x="3823" y="11095"/>
                  <a:pt x="3736" y="11141"/>
                  <a:pt x="3696" y="11212"/>
                </a:cubicBezTo>
                <a:cubicBezTo>
                  <a:pt x="3672" y="11254"/>
                  <a:pt x="3617" y="11383"/>
                  <a:pt x="3646" y="11435"/>
                </a:cubicBezTo>
                <a:cubicBezTo>
                  <a:pt x="3699" y="11530"/>
                  <a:pt x="3830" y="11587"/>
                  <a:pt x="3919" y="11633"/>
                </a:cubicBezTo>
                <a:cubicBezTo>
                  <a:pt x="4038" y="11694"/>
                  <a:pt x="4229" y="11759"/>
                  <a:pt x="4366" y="11757"/>
                </a:cubicBezTo>
                <a:cubicBezTo>
                  <a:pt x="4440" y="11749"/>
                  <a:pt x="4515" y="11741"/>
                  <a:pt x="4589" y="11733"/>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527200" y="2857680"/>
            <a:ext cx="2214720" cy="973080"/>
          </a:xfrm>
          <a:custGeom>
            <a:avLst/>
            <a:gdLst/>
            <a:ahLst/>
            <a:rect l="l" t="t" r="r" b="b"/>
            <a:pathLst>
              <a:path w="6152" h="2704">
                <a:moveTo>
                  <a:pt x="9947" y="8359"/>
                </a:moveTo>
                <a:cubicBezTo>
                  <a:pt x="9926" y="8557"/>
                  <a:pt x="9944" y="8758"/>
                  <a:pt x="9922" y="8954"/>
                </a:cubicBezTo>
                <a:cubicBezTo>
                  <a:pt x="9899" y="9160"/>
                  <a:pt x="9877" y="9368"/>
                  <a:pt x="9872" y="9575"/>
                </a:cubicBezTo>
                <a:cubicBezTo>
                  <a:pt x="9869" y="9695"/>
                  <a:pt x="9858" y="9807"/>
                  <a:pt x="9847" y="9922"/>
                </a:cubicBezTo>
                <a:cubicBezTo>
                  <a:pt x="9844" y="9955"/>
                  <a:pt x="9850" y="9938"/>
                  <a:pt x="9847" y="9971"/>
                </a:cubicBezTo>
                <a:cubicBezTo>
                  <a:pt x="9852" y="9854"/>
                  <a:pt x="9855" y="9739"/>
                  <a:pt x="9872" y="9624"/>
                </a:cubicBezTo>
                <a:cubicBezTo>
                  <a:pt x="9895" y="9466"/>
                  <a:pt x="9943" y="9311"/>
                  <a:pt x="9971" y="9153"/>
                </a:cubicBezTo>
                <a:cubicBezTo>
                  <a:pt x="10018" y="8891"/>
                  <a:pt x="10039" y="8580"/>
                  <a:pt x="10145" y="8334"/>
                </a:cubicBezTo>
                <a:cubicBezTo>
                  <a:pt x="10177" y="8260"/>
                  <a:pt x="10230" y="8162"/>
                  <a:pt x="10294" y="8111"/>
                </a:cubicBezTo>
                <a:cubicBezTo>
                  <a:pt x="10412" y="8016"/>
                  <a:pt x="10579" y="8031"/>
                  <a:pt x="10716" y="8012"/>
                </a:cubicBezTo>
                <a:cubicBezTo>
                  <a:pt x="10928" y="7983"/>
                  <a:pt x="11123" y="7977"/>
                  <a:pt x="11336" y="7962"/>
                </a:cubicBezTo>
                <a:cubicBezTo>
                  <a:pt x="11586" y="7945"/>
                  <a:pt x="11829" y="7938"/>
                  <a:pt x="12080" y="7938"/>
                </a:cubicBezTo>
                <a:cubicBezTo>
                  <a:pt x="12366" y="7938"/>
                  <a:pt x="12669" y="7909"/>
                  <a:pt x="12948" y="7962"/>
                </a:cubicBezTo>
                <a:cubicBezTo>
                  <a:pt x="13013" y="7974"/>
                  <a:pt x="13023" y="7949"/>
                  <a:pt x="13047" y="8012"/>
                </a:cubicBezTo>
                <a:cubicBezTo>
                  <a:pt x="13079" y="8095"/>
                  <a:pt x="13069" y="8083"/>
                  <a:pt x="13072" y="8210"/>
                </a:cubicBezTo>
                <a:cubicBezTo>
                  <a:pt x="13077" y="8436"/>
                  <a:pt x="13082" y="8657"/>
                  <a:pt x="13097" y="8880"/>
                </a:cubicBezTo>
                <a:cubicBezTo>
                  <a:pt x="13112" y="9094"/>
                  <a:pt x="13108" y="9312"/>
                  <a:pt x="13122" y="9525"/>
                </a:cubicBezTo>
                <a:cubicBezTo>
                  <a:pt x="13131" y="9665"/>
                  <a:pt x="13137" y="9809"/>
                  <a:pt x="13146" y="9947"/>
                </a:cubicBezTo>
                <a:cubicBezTo>
                  <a:pt x="13152" y="10044"/>
                  <a:pt x="13165" y="10126"/>
                  <a:pt x="13171" y="10220"/>
                </a:cubicBezTo>
                <a:cubicBezTo>
                  <a:pt x="13174" y="10269"/>
                  <a:pt x="13171" y="10319"/>
                  <a:pt x="13171" y="10368"/>
                </a:cubicBezTo>
                <a:cubicBezTo>
                  <a:pt x="13123" y="10376"/>
                  <a:pt x="13103" y="10388"/>
                  <a:pt x="13047" y="10393"/>
                </a:cubicBezTo>
                <a:cubicBezTo>
                  <a:pt x="12929" y="10404"/>
                  <a:pt x="12791" y="10366"/>
                  <a:pt x="12675" y="10344"/>
                </a:cubicBezTo>
                <a:cubicBezTo>
                  <a:pt x="12487" y="10308"/>
                  <a:pt x="12295" y="10297"/>
                  <a:pt x="12105" y="10269"/>
                </a:cubicBezTo>
                <a:cubicBezTo>
                  <a:pt x="11872" y="10234"/>
                  <a:pt x="11643" y="10216"/>
                  <a:pt x="11410" y="10195"/>
                </a:cubicBezTo>
                <a:cubicBezTo>
                  <a:pt x="11174" y="10174"/>
                  <a:pt x="10954" y="10145"/>
                  <a:pt x="10716" y="10145"/>
                </a:cubicBezTo>
                <a:cubicBezTo>
                  <a:pt x="10581" y="10145"/>
                  <a:pt x="10454" y="10123"/>
                  <a:pt x="10319" y="10120"/>
                </a:cubicBezTo>
                <a:cubicBezTo>
                  <a:pt x="10278" y="10119"/>
                  <a:pt x="10273" y="10149"/>
                  <a:pt x="10244" y="10120"/>
                </a:cubicBezTo>
                <a:cubicBezTo>
                  <a:pt x="10226" y="10103"/>
                  <a:pt x="10273" y="10108"/>
                  <a:pt x="10294" y="10096"/>
                </a:cubicBezTo>
              </a:path>
              <a:path w="6152" h="2704">
                <a:moveTo>
                  <a:pt x="7020" y="10517"/>
                </a:moveTo>
                <a:cubicBezTo>
                  <a:pt x="7095" y="10527"/>
                  <a:pt x="7167" y="10538"/>
                  <a:pt x="7243" y="10542"/>
                </a:cubicBezTo>
                <a:cubicBezTo>
                  <a:pt x="8263" y="10597"/>
                  <a:pt x="9298" y="10561"/>
                  <a:pt x="10319" y="10592"/>
                </a:cubicBezTo>
                <a:cubicBezTo>
                  <a:pt x="10642" y="10602"/>
                  <a:pt x="10964" y="10631"/>
                  <a:pt x="11286" y="10641"/>
                </a:cubicBezTo>
                <a:cubicBezTo>
                  <a:pt x="11407" y="10645"/>
                  <a:pt x="11735" y="10664"/>
                  <a:pt x="11881" y="10616"/>
                </a:cubicBezTo>
                <a:cubicBezTo>
                  <a:pt x="12007" y="10575"/>
                  <a:pt x="11887" y="10582"/>
                  <a:pt x="11881" y="1054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01760" y="3017880"/>
            <a:ext cx="1965240" cy="527040"/>
          </a:xfrm>
          <a:custGeom>
            <a:avLst/>
            <a:gdLst/>
            <a:ahLst/>
            <a:rect l="l" t="t" r="r" b="b"/>
            <a:pathLst>
              <a:path w="5458" h="1464">
                <a:moveTo>
                  <a:pt x="1712" y="9203"/>
                </a:moveTo>
                <a:cubicBezTo>
                  <a:pt x="1712" y="9308"/>
                  <a:pt x="1746" y="9390"/>
                  <a:pt x="1687" y="9351"/>
                </a:cubicBezTo>
                <a:cubicBezTo>
                  <a:pt x="1687" y="9308"/>
                  <a:pt x="1676" y="9265"/>
                  <a:pt x="1662" y="9227"/>
                </a:cubicBezTo>
                <a:cubicBezTo>
                  <a:pt x="1646" y="9181"/>
                  <a:pt x="1624" y="9087"/>
                  <a:pt x="1588" y="9054"/>
                </a:cubicBezTo>
                <a:cubicBezTo>
                  <a:pt x="1541" y="9010"/>
                  <a:pt x="1499" y="9004"/>
                  <a:pt x="1439" y="9004"/>
                </a:cubicBezTo>
                <a:cubicBezTo>
                  <a:pt x="1400" y="9004"/>
                  <a:pt x="1317" y="9049"/>
                  <a:pt x="1290" y="9079"/>
                </a:cubicBezTo>
                <a:cubicBezTo>
                  <a:pt x="1228" y="9148"/>
                  <a:pt x="1178" y="9269"/>
                  <a:pt x="1141" y="9351"/>
                </a:cubicBezTo>
                <a:cubicBezTo>
                  <a:pt x="1100" y="9444"/>
                  <a:pt x="1116" y="9550"/>
                  <a:pt x="1116" y="9649"/>
                </a:cubicBezTo>
                <a:cubicBezTo>
                  <a:pt x="1116" y="9711"/>
                  <a:pt x="1153" y="9838"/>
                  <a:pt x="1240" y="9823"/>
                </a:cubicBezTo>
                <a:cubicBezTo>
                  <a:pt x="1286" y="9815"/>
                  <a:pt x="1380" y="9762"/>
                  <a:pt x="1414" y="9723"/>
                </a:cubicBezTo>
                <a:cubicBezTo>
                  <a:pt x="1478" y="9650"/>
                  <a:pt x="1550" y="9519"/>
                  <a:pt x="1588" y="9426"/>
                </a:cubicBezTo>
                <a:cubicBezTo>
                  <a:pt x="1610" y="9371"/>
                  <a:pt x="1670" y="9228"/>
                  <a:pt x="1637" y="9277"/>
                </a:cubicBezTo>
                <a:cubicBezTo>
                  <a:pt x="1629" y="9285"/>
                  <a:pt x="1620" y="9294"/>
                  <a:pt x="1612" y="9302"/>
                </a:cubicBezTo>
                <a:cubicBezTo>
                  <a:pt x="1612" y="9432"/>
                  <a:pt x="1590" y="9577"/>
                  <a:pt x="1637" y="9699"/>
                </a:cubicBezTo>
                <a:cubicBezTo>
                  <a:pt x="1654" y="9744"/>
                  <a:pt x="1679" y="9765"/>
                  <a:pt x="1712" y="9798"/>
                </a:cubicBezTo>
                <a:cubicBezTo>
                  <a:pt x="1744" y="9790"/>
                  <a:pt x="1794" y="9759"/>
                  <a:pt x="1811" y="9723"/>
                </a:cubicBezTo>
                <a:cubicBezTo>
                  <a:pt x="1819" y="9698"/>
                  <a:pt x="1828" y="9674"/>
                  <a:pt x="1836" y="9649"/>
                </a:cubicBezTo>
              </a:path>
              <a:path w="5458" h="1464">
                <a:moveTo>
                  <a:pt x="1910" y="8434"/>
                </a:moveTo>
                <a:cubicBezTo>
                  <a:pt x="1956" y="8434"/>
                  <a:pt x="2087" y="8408"/>
                  <a:pt x="2108" y="8483"/>
                </a:cubicBezTo>
                <a:cubicBezTo>
                  <a:pt x="2124" y="8541"/>
                  <a:pt x="2050" y="8625"/>
                  <a:pt x="2009" y="8657"/>
                </a:cubicBezTo>
                <a:cubicBezTo>
                  <a:pt x="1958" y="8697"/>
                  <a:pt x="1899" y="8710"/>
                  <a:pt x="1885" y="8781"/>
                </a:cubicBezTo>
                <a:cubicBezTo>
                  <a:pt x="1885" y="8789"/>
                  <a:pt x="1885" y="8798"/>
                  <a:pt x="1885" y="8806"/>
                </a:cubicBezTo>
                <a:cubicBezTo>
                  <a:pt x="2009" y="8806"/>
                  <a:pt x="2133" y="8806"/>
                  <a:pt x="2257" y="8806"/>
                </a:cubicBezTo>
              </a:path>
              <a:path w="5458" h="1464">
                <a:moveTo>
                  <a:pt x="2158" y="9376"/>
                </a:moveTo>
                <a:cubicBezTo>
                  <a:pt x="2284" y="9371"/>
                  <a:pt x="2430" y="9373"/>
                  <a:pt x="2555" y="9351"/>
                </a:cubicBezTo>
                <a:cubicBezTo>
                  <a:pt x="2629" y="9327"/>
                  <a:pt x="2654" y="9319"/>
                  <a:pt x="2704" y="9302"/>
                </a:cubicBezTo>
              </a:path>
              <a:path w="5458" h="1464">
                <a:moveTo>
                  <a:pt x="3026" y="8657"/>
                </a:moveTo>
                <a:cubicBezTo>
                  <a:pt x="3005" y="8761"/>
                  <a:pt x="2986" y="8875"/>
                  <a:pt x="2977" y="8979"/>
                </a:cubicBezTo>
                <a:cubicBezTo>
                  <a:pt x="2965" y="9110"/>
                  <a:pt x="2963" y="9246"/>
                  <a:pt x="2952" y="9376"/>
                </a:cubicBezTo>
                <a:cubicBezTo>
                  <a:pt x="2944" y="9476"/>
                  <a:pt x="2932" y="9576"/>
                  <a:pt x="2927" y="9674"/>
                </a:cubicBezTo>
                <a:cubicBezTo>
                  <a:pt x="2926" y="9698"/>
                  <a:pt x="2927" y="9723"/>
                  <a:pt x="2927" y="9748"/>
                </a:cubicBezTo>
                <a:cubicBezTo>
                  <a:pt x="2958" y="9697"/>
                  <a:pt x="2956" y="9636"/>
                  <a:pt x="2977" y="9575"/>
                </a:cubicBezTo>
                <a:cubicBezTo>
                  <a:pt x="3012" y="9472"/>
                  <a:pt x="3027" y="9375"/>
                  <a:pt x="3076" y="9277"/>
                </a:cubicBezTo>
                <a:cubicBezTo>
                  <a:pt x="3097" y="9235"/>
                  <a:pt x="3136" y="9152"/>
                  <a:pt x="3200" y="9178"/>
                </a:cubicBezTo>
                <a:cubicBezTo>
                  <a:pt x="3290" y="9215"/>
                  <a:pt x="3353" y="9311"/>
                  <a:pt x="3398" y="9401"/>
                </a:cubicBezTo>
                <a:cubicBezTo>
                  <a:pt x="3438" y="9482"/>
                  <a:pt x="3431" y="9570"/>
                  <a:pt x="3398" y="9649"/>
                </a:cubicBezTo>
                <a:cubicBezTo>
                  <a:pt x="3366" y="9724"/>
                  <a:pt x="3255" y="9783"/>
                  <a:pt x="3175" y="9798"/>
                </a:cubicBezTo>
                <a:cubicBezTo>
                  <a:pt x="3099" y="9812"/>
                  <a:pt x="2998" y="9831"/>
                  <a:pt x="2927" y="9798"/>
                </a:cubicBezTo>
                <a:cubicBezTo>
                  <a:pt x="2890" y="9781"/>
                  <a:pt x="2893" y="9764"/>
                  <a:pt x="2877" y="9748"/>
                </a:cubicBezTo>
                <a:cubicBezTo>
                  <a:pt x="2900" y="9693"/>
                  <a:pt x="2916" y="9656"/>
                  <a:pt x="2952" y="9599"/>
                </a:cubicBezTo>
              </a:path>
              <a:path w="5458" h="1464">
                <a:moveTo>
                  <a:pt x="3572" y="8384"/>
                </a:moveTo>
                <a:cubicBezTo>
                  <a:pt x="3631" y="8389"/>
                  <a:pt x="3715" y="8389"/>
                  <a:pt x="3746" y="8458"/>
                </a:cubicBezTo>
                <a:cubicBezTo>
                  <a:pt x="3769" y="8509"/>
                  <a:pt x="3672" y="8581"/>
                  <a:pt x="3646" y="8607"/>
                </a:cubicBezTo>
                <a:cubicBezTo>
                  <a:pt x="3610" y="8643"/>
                  <a:pt x="3565" y="8670"/>
                  <a:pt x="3547" y="8706"/>
                </a:cubicBezTo>
                <a:cubicBezTo>
                  <a:pt x="3659" y="8706"/>
                  <a:pt x="3762" y="8719"/>
                  <a:pt x="3870" y="8731"/>
                </a:cubicBezTo>
                <a:cubicBezTo>
                  <a:pt x="3895" y="8731"/>
                  <a:pt x="3919" y="8731"/>
                  <a:pt x="3944" y="8731"/>
                </a:cubicBezTo>
              </a:path>
              <a:path w="5458" h="1464">
                <a:moveTo>
                  <a:pt x="3944" y="9302"/>
                </a:moveTo>
                <a:cubicBezTo>
                  <a:pt x="3990" y="9337"/>
                  <a:pt x="4056" y="9337"/>
                  <a:pt x="4118" y="9327"/>
                </a:cubicBezTo>
                <a:cubicBezTo>
                  <a:pt x="4216" y="9302"/>
                  <a:pt x="4248" y="9294"/>
                  <a:pt x="4316" y="9302"/>
                </a:cubicBezTo>
              </a:path>
              <a:path w="5458" h="1464">
                <a:moveTo>
                  <a:pt x="5110" y="9029"/>
                </a:moveTo>
                <a:cubicBezTo>
                  <a:pt x="5118" y="9046"/>
                  <a:pt x="5127" y="9062"/>
                  <a:pt x="5135" y="9079"/>
                </a:cubicBezTo>
                <a:cubicBezTo>
                  <a:pt x="5105" y="9069"/>
                  <a:pt x="5093" y="9037"/>
                  <a:pt x="5060" y="9004"/>
                </a:cubicBezTo>
                <a:cubicBezTo>
                  <a:pt x="5013" y="8957"/>
                  <a:pt x="5002" y="8935"/>
                  <a:pt x="4936" y="8979"/>
                </a:cubicBezTo>
                <a:cubicBezTo>
                  <a:pt x="4873" y="9021"/>
                  <a:pt x="4826" y="9092"/>
                  <a:pt x="4787" y="9153"/>
                </a:cubicBezTo>
                <a:cubicBezTo>
                  <a:pt x="4716" y="9263"/>
                  <a:pt x="4677" y="9350"/>
                  <a:pt x="4638" y="9475"/>
                </a:cubicBezTo>
                <a:cubicBezTo>
                  <a:pt x="4612" y="9557"/>
                  <a:pt x="4598" y="9674"/>
                  <a:pt x="4663" y="9748"/>
                </a:cubicBezTo>
                <a:cubicBezTo>
                  <a:pt x="4705" y="9796"/>
                  <a:pt x="4820" y="9853"/>
                  <a:pt x="4887" y="9847"/>
                </a:cubicBezTo>
                <a:cubicBezTo>
                  <a:pt x="4974" y="9839"/>
                  <a:pt x="5090" y="9745"/>
                  <a:pt x="5135" y="9674"/>
                </a:cubicBezTo>
                <a:cubicBezTo>
                  <a:pt x="5160" y="9624"/>
                  <a:pt x="5184" y="9575"/>
                  <a:pt x="5209" y="9525"/>
                </a:cubicBezTo>
              </a:path>
              <a:path w="5458" h="1464">
                <a:moveTo>
                  <a:pt x="5407" y="8458"/>
                </a:moveTo>
                <a:cubicBezTo>
                  <a:pt x="5540" y="8440"/>
                  <a:pt x="5556" y="8432"/>
                  <a:pt x="5631" y="8434"/>
                </a:cubicBezTo>
                <a:cubicBezTo>
                  <a:pt x="5654" y="8498"/>
                  <a:pt x="5675" y="8558"/>
                  <a:pt x="5606" y="8607"/>
                </a:cubicBezTo>
                <a:cubicBezTo>
                  <a:pt x="5551" y="8647"/>
                  <a:pt x="5484" y="8660"/>
                  <a:pt x="5432" y="8706"/>
                </a:cubicBezTo>
                <a:cubicBezTo>
                  <a:pt x="5424" y="8714"/>
                  <a:pt x="5415" y="8723"/>
                  <a:pt x="5407" y="8731"/>
                </a:cubicBezTo>
                <a:cubicBezTo>
                  <a:pt x="5425" y="8785"/>
                  <a:pt x="5512" y="8795"/>
                  <a:pt x="5581" y="8806"/>
                </a:cubicBezTo>
                <a:cubicBezTo>
                  <a:pt x="5672" y="8820"/>
                  <a:pt x="5761" y="8830"/>
                  <a:pt x="5854" y="8830"/>
                </a:cubicBezTo>
                <a:cubicBezTo>
                  <a:pt x="5871" y="8830"/>
                  <a:pt x="5887" y="8830"/>
                  <a:pt x="5904" y="8830"/>
                </a:cubicBezTo>
              </a:path>
              <a:path w="5458" h="1464">
                <a:moveTo>
                  <a:pt x="6152" y="9153"/>
                </a:moveTo>
                <a:cubicBezTo>
                  <a:pt x="6206" y="9186"/>
                  <a:pt x="6257" y="9178"/>
                  <a:pt x="6325" y="9178"/>
                </a:cubicBezTo>
                <a:cubicBezTo>
                  <a:pt x="6399" y="9178"/>
                  <a:pt x="6439" y="9196"/>
                  <a:pt x="6499" y="9203"/>
                </a:cubicBezTo>
                <a:cubicBezTo>
                  <a:pt x="6524" y="9203"/>
                  <a:pt x="6532" y="9203"/>
                  <a:pt x="6499" y="9203"/>
                </a:cubicBezTo>
              </a:path>
              <a:path w="5458" h="1464">
                <a:moveTo>
                  <a:pt x="6028" y="9451"/>
                </a:moveTo>
                <a:cubicBezTo>
                  <a:pt x="6114" y="9474"/>
                  <a:pt x="6193" y="9481"/>
                  <a:pt x="6276" y="9500"/>
                </a:cubicBezTo>
                <a:cubicBezTo>
                  <a:pt x="6344" y="9516"/>
                  <a:pt x="6436" y="9504"/>
                  <a:pt x="6499" y="9525"/>
                </a:cubicBezTo>
                <a:cubicBezTo>
                  <a:pt x="6562" y="9546"/>
                  <a:pt x="6573" y="9573"/>
                  <a:pt x="6573" y="9500"/>
                </a:cubicBezTo>
                <a:cubicBezTo>
                  <a:pt x="6573" y="9492"/>
                  <a:pt x="6573" y="9483"/>
                  <a:pt x="6573" y="947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81200" y="3062160"/>
            <a:ext cx="1936800" cy="501840"/>
          </a:xfrm>
          <a:custGeom>
            <a:avLst/>
            <a:gdLst/>
            <a:ahLst/>
            <a:rect l="l" t="t" r="r" b="b"/>
            <a:pathLst>
              <a:path w="5383" h="1390">
                <a:moveTo>
                  <a:pt x="7169" y="9103"/>
                </a:moveTo>
                <a:cubicBezTo>
                  <a:pt x="7313" y="9103"/>
                  <a:pt x="7453" y="9100"/>
                  <a:pt x="7590" y="9079"/>
                </a:cubicBezTo>
                <a:cubicBezTo>
                  <a:pt x="7642" y="9071"/>
                  <a:pt x="7699" y="9086"/>
                  <a:pt x="7739" y="9054"/>
                </a:cubicBezTo>
                <a:cubicBezTo>
                  <a:pt x="7756" y="9037"/>
                  <a:pt x="7772" y="9021"/>
                  <a:pt x="7789" y="9004"/>
                </a:cubicBezTo>
              </a:path>
              <a:path w="5383" h="1390">
                <a:moveTo>
                  <a:pt x="7938" y="8706"/>
                </a:moveTo>
                <a:cubicBezTo>
                  <a:pt x="7997" y="8669"/>
                  <a:pt x="8090" y="8595"/>
                  <a:pt x="8161" y="8582"/>
                </a:cubicBezTo>
                <a:cubicBezTo>
                  <a:pt x="8244" y="8567"/>
                  <a:pt x="8282" y="8604"/>
                  <a:pt x="8334" y="8657"/>
                </a:cubicBezTo>
                <a:cubicBezTo>
                  <a:pt x="8387" y="8711"/>
                  <a:pt x="8344" y="8774"/>
                  <a:pt x="8310" y="8830"/>
                </a:cubicBezTo>
                <a:cubicBezTo>
                  <a:pt x="8251" y="8928"/>
                  <a:pt x="8175" y="9009"/>
                  <a:pt x="8111" y="9103"/>
                </a:cubicBezTo>
                <a:cubicBezTo>
                  <a:pt x="8038" y="9210"/>
                  <a:pt x="7955" y="9290"/>
                  <a:pt x="7863" y="9376"/>
                </a:cubicBezTo>
                <a:cubicBezTo>
                  <a:pt x="7785" y="9449"/>
                  <a:pt x="7704" y="9523"/>
                  <a:pt x="7640" y="9599"/>
                </a:cubicBezTo>
                <a:cubicBezTo>
                  <a:pt x="7617" y="9626"/>
                  <a:pt x="7627" y="9599"/>
                  <a:pt x="7615" y="9649"/>
                </a:cubicBezTo>
                <a:cubicBezTo>
                  <a:pt x="7664" y="9668"/>
                  <a:pt x="7711" y="9659"/>
                  <a:pt x="7764" y="9674"/>
                </a:cubicBezTo>
                <a:cubicBezTo>
                  <a:pt x="7848" y="9698"/>
                  <a:pt x="7921" y="9699"/>
                  <a:pt x="8012" y="9699"/>
                </a:cubicBezTo>
                <a:cubicBezTo>
                  <a:pt x="8095" y="9699"/>
                  <a:pt x="8135" y="9687"/>
                  <a:pt x="8210" y="9649"/>
                </a:cubicBezTo>
                <a:cubicBezTo>
                  <a:pt x="8227" y="9641"/>
                  <a:pt x="8243" y="9632"/>
                  <a:pt x="8260" y="9624"/>
                </a:cubicBezTo>
              </a:path>
              <a:path w="5383" h="1390">
                <a:moveTo>
                  <a:pt x="8657" y="8632"/>
                </a:moveTo>
                <a:cubicBezTo>
                  <a:pt x="8657" y="8789"/>
                  <a:pt x="8627" y="8886"/>
                  <a:pt x="8607" y="9054"/>
                </a:cubicBezTo>
                <a:cubicBezTo>
                  <a:pt x="8594" y="9170"/>
                  <a:pt x="8597" y="9287"/>
                  <a:pt x="8582" y="9401"/>
                </a:cubicBezTo>
                <a:cubicBezTo>
                  <a:pt x="8574" y="9464"/>
                  <a:pt x="8571" y="9522"/>
                  <a:pt x="8558" y="9575"/>
                </a:cubicBezTo>
                <a:cubicBezTo>
                  <a:pt x="8558" y="9583"/>
                  <a:pt x="8558" y="9591"/>
                  <a:pt x="8558" y="9599"/>
                </a:cubicBezTo>
                <a:cubicBezTo>
                  <a:pt x="8572" y="9556"/>
                  <a:pt x="8598" y="9496"/>
                  <a:pt x="8607" y="9451"/>
                </a:cubicBezTo>
                <a:cubicBezTo>
                  <a:pt x="8625" y="9365"/>
                  <a:pt x="8649" y="9302"/>
                  <a:pt x="8706" y="9227"/>
                </a:cubicBezTo>
                <a:cubicBezTo>
                  <a:pt x="8764" y="9150"/>
                  <a:pt x="8856" y="9109"/>
                  <a:pt x="8954" y="9128"/>
                </a:cubicBezTo>
                <a:cubicBezTo>
                  <a:pt x="9040" y="9145"/>
                  <a:pt x="9089" y="9251"/>
                  <a:pt x="9103" y="9327"/>
                </a:cubicBezTo>
                <a:cubicBezTo>
                  <a:pt x="9119" y="9412"/>
                  <a:pt x="9097" y="9502"/>
                  <a:pt x="9054" y="9575"/>
                </a:cubicBezTo>
                <a:cubicBezTo>
                  <a:pt x="9006" y="9657"/>
                  <a:pt x="8903" y="9754"/>
                  <a:pt x="8806" y="9773"/>
                </a:cubicBezTo>
                <a:cubicBezTo>
                  <a:pt x="8737" y="9786"/>
                  <a:pt x="8647" y="9803"/>
                  <a:pt x="8582" y="9773"/>
                </a:cubicBezTo>
                <a:cubicBezTo>
                  <a:pt x="8514" y="9741"/>
                  <a:pt x="8539" y="9700"/>
                  <a:pt x="8558" y="9649"/>
                </a:cubicBezTo>
                <a:cubicBezTo>
                  <a:pt x="8566" y="9632"/>
                  <a:pt x="8574" y="9616"/>
                  <a:pt x="8582" y="9599"/>
                </a:cubicBezTo>
              </a:path>
              <a:path w="5383" h="1390">
                <a:moveTo>
                  <a:pt x="9674" y="9277"/>
                </a:moveTo>
                <a:cubicBezTo>
                  <a:pt x="9618" y="9314"/>
                  <a:pt x="9660" y="9270"/>
                  <a:pt x="9624" y="9252"/>
                </a:cubicBezTo>
                <a:cubicBezTo>
                  <a:pt x="9594" y="9237"/>
                  <a:pt x="9586" y="9237"/>
                  <a:pt x="9575" y="9203"/>
                </a:cubicBezTo>
                <a:cubicBezTo>
                  <a:pt x="9529" y="9218"/>
                  <a:pt x="9491" y="9280"/>
                  <a:pt x="9451" y="9327"/>
                </a:cubicBezTo>
                <a:cubicBezTo>
                  <a:pt x="9394" y="9394"/>
                  <a:pt x="9344" y="9446"/>
                  <a:pt x="9302" y="9525"/>
                </a:cubicBezTo>
                <a:cubicBezTo>
                  <a:pt x="9251" y="9622"/>
                  <a:pt x="9275" y="9707"/>
                  <a:pt x="9327" y="9798"/>
                </a:cubicBezTo>
                <a:cubicBezTo>
                  <a:pt x="9355" y="9847"/>
                  <a:pt x="9521" y="9889"/>
                  <a:pt x="9575" y="9897"/>
                </a:cubicBezTo>
                <a:cubicBezTo>
                  <a:pt x="9650" y="9897"/>
                  <a:pt x="9676" y="9897"/>
                  <a:pt x="9723" y="9872"/>
                </a:cubicBezTo>
              </a:path>
              <a:path w="5383" h="1390">
                <a:moveTo>
                  <a:pt x="10468" y="9203"/>
                </a:moveTo>
                <a:cubicBezTo>
                  <a:pt x="10468" y="9246"/>
                  <a:pt x="10466" y="9179"/>
                  <a:pt x="10443" y="9153"/>
                </a:cubicBezTo>
                <a:cubicBezTo>
                  <a:pt x="10425" y="9132"/>
                  <a:pt x="10374" y="9111"/>
                  <a:pt x="10344" y="9128"/>
                </a:cubicBezTo>
                <a:cubicBezTo>
                  <a:pt x="10280" y="9164"/>
                  <a:pt x="10262" y="9250"/>
                  <a:pt x="10220" y="9302"/>
                </a:cubicBezTo>
                <a:cubicBezTo>
                  <a:pt x="10144" y="9398"/>
                  <a:pt x="10061" y="9487"/>
                  <a:pt x="10096" y="9624"/>
                </a:cubicBezTo>
                <a:cubicBezTo>
                  <a:pt x="10119" y="9714"/>
                  <a:pt x="10180" y="9756"/>
                  <a:pt x="10269" y="9773"/>
                </a:cubicBezTo>
                <a:cubicBezTo>
                  <a:pt x="10353" y="9789"/>
                  <a:pt x="10445" y="9767"/>
                  <a:pt x="10517" y="9723"/>
                </a:cubicBezTo>
                <a:cubicBezTo>
                  <a:pt x="10567" y="9690"/>
                  <a:pt x="10616" y="9657"/>
                  <a:pt x="10666" y="9624"/>
                </a:cubicBezTo>
              </a:path>
              <a:path w="5383" h="1390">
                <a:moveTo>
                  <a:pt x="10815" y="9178"/>
                </a:moveTo>
                <a:cubicBezTo>
                  <a:pt x="10731" y="9356"/>
                  <a:pt x="10645" y="9428"/>
                  <a:pt x="10716" y="9599"/>
                </a:cubicBezTo>
                <a:cubicBezTo>
                  <a:pt x="10757" y="9699"/>
                  <a:pt x="10774" y="9693"/>
                  <a:pt x="10864" y="9723"/>
                </a:cubicBezTo>
                <a:cubicBezTo>
                  <a:pt x="10912" y="9739"/>
                  <a:pt x="11016" y="9746"/>
                  <a:pt x="11063" y="9699"/>
                </a:cubicBezTo>
                <a:cubicBezTo>
                  <a:pt x="11123" y="9639"/>
                  <a:pt x="11159" y="9533"/>
                  <a:pt x="11162" y="9451"/>
                </a:cubicBezTo>
                <a:cubicBezTo>
                  <a:pt x="11165" y="9368"/>
                  <a:pt x="11141" y="9291"/>
                  <a:pt x="11088" y="9227"/>
                </a:cubicBezTo>
                <a:cubicBezTo>
                  <a:pt x="11049" y="9180"/>
                  <a:pt x="10971" y="9134"/>
                  <a:pt x="10914" y="9128"/>
                </a:cubicBezTo>
                <a:cubicBezTo>
                  <a:pt x="10906" y="9128"/>
                  <a:pt x="10897" y="9128"/>
                  <a:pt x="10889" y="9128"/>
                </a:cubicBezTo>
                <a:cubicBezTo>
                  <a:pt x="10963" y="9143"/>
                  <a:pt x="11036" y="9159"/>
                  <a:pt x="11112" y="9178"/>
                </a:cubicBezTo>
              </a:path>
              <a:path w="5383" h="1390">
                <a:moveTo>
                  <a:pt x="11633" y="9227"/>
                </a:moveTo>
                <a:cubicBezTo>
                  <a:pt x="11555" y="9247"/>
                  <a:pt x="11454" y="9234"/>
                  <a:pt x="11385" y="9277"/>
                </a:cubicBezTo>
                <a:cubicBezTo>
                  <a:pt x="11377" y="9285"/>
                  <a:pt x="11369" y="9294"/>
                  <a:pt x="11361" y="9302"/>
                </a:cubicBezTo>
                <a:cubicBezTo>
                  <a:pt x="11409" y="9380"/>
                  <a:pt x="11478" y="9428"/>
                  <a:pt x="11534" y="9500"/>
                </a:cubicBezTo>
                <a:cubicBezTo>
                  <a:pt x="11560" y="9533"/>
                  <a:pt x="11667" y="9698"/>
                  <a:pt x="11633" y="9748"/>
                </a:cubicBezTo>
                <a:cubicBezTo>
                  <a:pt x="11574" y="9834"/>
                  <a:pt x="11456" y="9780"/>
                  <a:pt x="11385" y="9773"/>
                </a:cubicBezTo>
                <a:cubicBezTo>
                  <a:pt x="11293" y="9764"/>
                  <a:pt x="11204" y="9774"/>
                  <a:pt x="11162" y="9674"/>
                </a:cubicBezTo>
                <a:cubicBezTo>
                  <a:pt x="11162" y="9639"/>
                  <a:pt x="11167" y="9621"/>
                  <a:pt x="11187" y="9599"/>
                </a:cubicBezTo>
              </a:path>
              <a:path w="5383" h="1390">
                <a:moveTo>
                  <a:pt x="11981" y="9004"/>
                </a:moveTo>
                <a:cubicBezTo>
                  <a:pt x="11971" y="9120"/>
                  <a:pt x="11933" y="9175"/>
                  <a:pt x="11881" y="9277"/>
                </a:cubicBezTo>
                <a:cubicBezTo>
                  <a:pt x="11827" y="9382"/>
                  <a:pt x="11801" y="9490"/>
                  <a:pt x="11757" y="9599"/>
                </a:cubicBezTo>
                <a:cubicBezTo>
                  <a:pt x="11740" y="9640"/>
                  <a:pt x="11722" y="9684"/>
                  <a:pt x="11708" y="9723"/>
                </a:cubicBezTo>
                <a:cubicBezTo>
                  <a:pt x="11766" y="9652"/>
                  <a:pt x="11792" y="9558"/>
                  <a:pt x="11832" y="9475"/>
                </a:cubicBezTo>
                <a:cubicBezTo>
                  <a:pt x="11897" y="9341"/>
                  <a:pt x="11953" y="9193"/>
                  <a:pt x="12005" y="9054"/>
                </a:cubicBezTo>
                <a:cubicBezTo>
                  <a:pt x="12062" y="8900"/>
                  <a:pt x="12091" y="8734"/>
                  <a:pt x="12154" y="8582"/>
                </a:cubicBezTo>
                <a:cubicBezTo>
                  <a:pt x="12174" y="8542"/>
                  <a:pt x="12183" y="8536"/>
                  <a:pt x="12179" y="8508"/>
                </a:cubicBezTo>
                <a:cubicBezTo>
                  <a:pt x="12249" y="8518"/>
                  <a:pt x="12260" y="8516"/>
                  <a:pt x="12278" y="8607"/>
                </a:cubicBezTo>
                <a:cubicBezTo>
                  <a:pt x="12299" y="8713"/>
                  <a:pt x="12310" y="8823"/>
                  <a:pt x="12328" y="8930"/>
                </a:cubicBezTo>
                <a:cubicBezTo>
                  <a:pt x="12350" y="9058"/>
                  <a:pt x="12366" y="9231"/>
                  <a:pt x="12402" y="9351"/>
                </a:cubicBezTo>
                <a:cubicBezTo>
                  <a:pt x="12434" y="9460"/>
                  <a:pt x="12469" y="9569"/>
                  <a:pt x="12502" y="9674"/>
                </a:cubicBezTo>
                <a:cubicBezTo>
                  <a:pt x="12508" y="9694"/>
                  <a:pt x="12581" y="9819"/>
                  <a:pt x="12551" y="9773"/>
                </a:cubicBezTo>
                <a:cubicBezTo>
                  <a:pt x="12504" y="9702"/>
                  <a:pt x="12488" y="9680"/>
                  <a:pt x="12477" y="9624"/>
                </a:cubicBezTo>
              </a:path>
              <a:path w="5383" h="1390">
                <a:moveTo>
                  <a:pt x="12030" y="9327"/>
                </a:moveTo>
                <a:cubicBezTo>
                  <a:pt x="12132" y="9301"/>
                  <a:pt x="12222" y="9302"/>
                  <a:pt x="12328" y="9302"/>
                </a:cubicBezTo>
                <a:cubicBezTo>
                  <a:pt x="12369" y="9302"/>
                  <a:pt x="12411" y="9302"/>
                  <a:pt x="12452" y="930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47760" y="3687840"/>
            <a:ext cx="1447560" cy="44280"/>
          </a:xfrm>
          <a:custGeom>
            <a:avLst/>
            <a:gdLst/>
            <a:ahLst/>
            <a:rect l="l" t="t" r="r" b="b"/>
            <a:pathLst>
              <a:path w="4020" h="125">
                <a:moveTo>
                  <a:pt x="967" y="10344"/>
                </a:moveTo>
                <a:cubicBezTo>
                  <a:pt x="1044" y="10350"/>
                  <a:pt x="1113" y="10365"/>
                  <a:pt x="1191" y="10368"/>
                </a:cubicBezTo>
                <a:cubicBezTo>
                  <a:pt x="1425" y="10376"/>
                  <a:pt x="1654" y="10354"/>
                  <a:pt x="1885" y="10344"/>
                </a:cubicBezTo>
                <a:cubicBezTo>
                  <a:pt x="2282" y="10327"/>
                  <a:pt x="2678" y="10304"/>
                  <a:pt x="3076" y="10294"/>
                </a:cubicBezTo>
                <a:cubicBezTo>
                  <a:pt x="3716" y="10278"/>
                  <a:pt x="5144" y="10889"/>
                  <a:pt x="4986" y="10269"/>
                </a:cubicBezTo>
                <a:cubicBezTo>
                  <a:pt x="4971" y="10211"/>
                  <a:pt x="4872" y="10248"/>
                  <a:pt x="4812" y="10244"/>
                </a:cubicBezTo>
              </a:path>
            </a:pathLst>
          </a:custGeom>
          <a:noFill/>
          <a:ln cap="rnd" w="349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6" name=""/>
          <p:cNvSpPr/>
          <p:nvPr/>
        </p:nvSpPr>
        <p:spPr>
          <a:xfrm>
            <a:off x="2795760" y="3956040"/>
            <a:ext cx="1133280" cy="500040"/>
          </a:xfrm>
          <a:custGeom>
            <a:avLst/>
            <a:gdLst/>
            <a:ahLst/>
            <a:rect l="l" t="t" r="r" b="b"/>
            <a:pathLst>
              <a:path w="3151" h="1391">
                <a:moveTo>
                  <a:pt x="7764" y="11385"/>
                </a:moveTo>
                <a:cubicBezTo>
                  <a:pt x="7892" y="11385"/>
                  <a:pt x="8013" y="11371"/>
                  <a:pt x="8136" y="11361"/>
                </a:cubicBezTo>
                <a:cubicBezTo>
                  <a:pt x="8256" y="11352"/>
                  <a:pt x="8278" y="11350"/>
                  <a:pt x="8384" y="11311"/>
                </a:cubicBezTo>
              </a:path>
              <a:path w="3151" h="1391">
                <a:moveTo>
                  <a:pt x="8657" y="11212"/>
                </a:moveTo>
                <a:cubicBezTo>
                  <a:pt x="8723" y="11242"/>
                  <a:pt x="8809" y="11280"/>
                  <a:pt x="8830" y="11361"/>
                </a:cubicBezTo>
                <a:cubicBezTo>
                  <a:pt x="8851" y="11442"/>
                  <a:pt x="8771" y="11505"/>
                  <a:pt x="8731" y="11559"/>
                </a:cubicBezTo>
                <a:cubicBezTo>
                  <a:pt x="8667" y="11646"/>
                  <a:pt x="8586" y="11705"/>
                  <a:pt x="8508" y="11782"/>
                </a:cubicBezTo>
                <a:cubicBezTo>
                  <a:pt x="8447" y="11843"/>
                  <a:pt x="8447" y="11863"/>
                  <a:pt x="8458" y="11931"/>
                </a:cubicBezTo>
                <a:cubicBezTo>
                  <a:pt x="8470" y="12006"/>
                  <a:pt x="8572" y="11981"/>
                  <a:pt x="8632" y="11981"/>
                </a:cubicBezTo>
                <a:cubicBezTo>
                  <a:pt x="8743" y="11981"/>
                  <a:pt x="8905" y="11993"/>
                  <a:pt x="9004" y="11931"/>
                </a:cubicBezTo>
                <a:cubicBezTo>
                  <a:pt x="9054" y="11890"/>
                  <a:pt x="9103" y="11848"/>
                  <a:pt x="9153" y="11807"/>
                </a:cubicBezTo>
              </a:path>
              <a:path w="3151" h="1391">
                <a:moveTo>
                  <a:pt x="9426" y="10988"/>
                </a:moveTo>
                <a:cubicBezTo>
                  <a:pt x="9463" y="11091"/>
                  <a:pt x="9491" y="11172"/>
                  <a:pt x="9475" y="11286"/>
                </a:cubicBezTo>
                <a:cubicBezTo>
                  <a:pt x="9456" y="11426"/>
                  <a:pt x="9416" y="11568"/>
                  <a:pt x="9401" y="11708"/>
                </a:cubicBezTo>
                <a:cubicBezTo>
                  <a:pt x="9388" y="11827"/>
                  <a:pt x="9397" y="11962"/>
                  <a:pt x="9376" y="12080"/>
                </a:cubicBezTo>
                <a:cubicBezTo>
                  <a:pt x="9354" y="12123"/>
                  <a:pt x="9341" y="12135"/>
                  <a:pt x="9376" y="12154"/>
                </a:cubicBezTo>
                <a:cubicBezTo>
                  <a:pt x="9382" y="12084"/>
                  <a:pt x="9411" y="12046"/>
                  <a:pt x="9426" y="11981"/>
                </a:cubicBezTo>
                <a:cubicBezTo>
                  <a:pt x="9445" y="11898"/>
                  <a:pt x="9442" y="11812"/>
                  <a:pt x="9475" y="11733"/>
                </a:cubicBezTo>
                <a:cubicBezTo>
                  <a:pt x="9509" y="11651"/>
                  <a:pt x="9580" y="11594"/>
                  <a:pt x="9674" y="11609"/>
                </a:cubicBezTo>
                <a:cubicBezTo>
                  <a:pt x="9797" y="11629"/>
                  <a:pt x="9842" y="11677"/>
                  <a:pt x="9897" y="11782"/>
                </a:cubicBezTo>
                <a:cubicBezTo>
                  <a:pt x="9933" y="11850"/>
                  <a:pt x="9939" y="11938"/>
                  <a:pt x="9897" y="12005"/>
                </a:cubicBezTo>
                <a:cubicBezTo>
                  <a:pt x="9845" y="12089"/>
                  <a:pt x="9719" y="12132"/>
                  <a:pt x="9624" y="12129"/>
                </a:cubicBezTo>
                <a:cubicBezTo>
                  <a:pt x="9568" y="12127"/>
                  <a:pt x="9491" y="12088"/>
                  <a:pt x="9475" y="12030"/>
                </a:cubicBezTo>
                <a:cubicBezTo>
                  <a:pt x="9475" y="12014"/>
                  <a:pt x="9475" y="11997"/>
                  <a:pt x="9475" y="11981"/>
                </a:cubicBezTo>
              </a:path>
              <a:path w="3151" h="1391">
                <a:moveTo>
                  <a:pt x="10616" y="11757"/>
                </a:moveTo>
                <a:cubicBezTo>
                  <a:pt x="10641" y="11757"/>
                  <a:pt x="10666" y="11757"/>
                  <a:pt x="10691" y="11757"/>
                </a:cubicBezTo>
                <a:cubicBezTo>
                  <a:pt x="10663" y="11711"/>
                  <a:pt x="10669" y="11647"/>
                  <a:pt x="10616" y="11609"/>
                </a:cubicBezTo>
                <a:cubicBezTo>
                  <a:pt x="10552" y="11563"/>
                  <a:pt x="10517" y="11543"/>
                  <a:pt x="10443" y="11584"/>
                </a:cubicBezTo>
                <a:cubicBezTo>
                  <a:pt x="10365" y="11628"/>
                  <a:pt x="10273" y="11709"/>
                  <a:pt x="10220" y="11782"/>
                </a:cubicBezTo>
                <a:cubicBezTo>
                  <a:pt x="10163" y="11861"/>
                  <a:pt x="10192" y="11961"/>
                  <a:pt x="10244" y="12030"/>
                </a:cubicBezTo>
                <a:cubicBezTo>
                  <a:pt x="10312" y="12119"/>
                  <a:pt x="10493" y="12228"/>
                  <a:pt x="10592" y="12278"/>
                </a:cubicBezTo>
                <a:cubicBezTo>
                  <a:pt x="10775" y="12371"/>
                  <a:pt x="10770" y="12378"/>
                  <a:pt x="10914" y="1237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12840" y="4446720"/>
            <a:ext cx="1758960" cy="474480"/>
          </a:xfrm>
          <a:custGeom>
            <a:avLst/>
            <a:gdLst/>
            <a:ahLst/>
            <a:rect l="l" t="t" r="r" b="b"/>
            <a:pathLst>
              <a:path w="4888" h="1315">
                <a:moveTo>
                  <a:pt x="868" y="13047"/>
                </a:moveTo>
                <a:cubicBezTo>
                  <a:pt x="952" y="13047"/>
                  <a:pt x="1014" y="13040"/>
                  <a:pt x="1091" y="13022"/>
                </a:cubicBezTo>
                <a:cubicBezTo>
                  <a:pt x="1132" y="13014"/>
                  <a:pt x="1174" y="13006"/>
                  <a:pt x="1215" y="12998"/>
                </a:cubicBezTo>
              </a:path>
              <a:path w="4888" h="1315">
                <a:moveTo>
                  <a:pt x="1712" y="13097"/>
                </a:moveTo>
                <a:cubicBezTo>
                  <a:pt x="1712" y="13034"/>
                  <a:pt x="1704" y="13000"/>
                  <a:pt x="1687" y="12948"/>
                </a:cubicBezTo>
                <a:cubicBezTo>
                  <a:pt x="1687" y="12920"/>
                  <a:pt x="1685" y="12909"/>
                  <a:pt x="1662" y="12898"/>
                </a:cubicBezTo>
                <a:cubicBezTo>
                  <a:pt x="1633" y="12905"/>
                  <a:pt x="1559" y="12949"/>
                  <a:pt x="1538" y="12973"/>
                </a:cubicBezTo>
                <a:cubicBezTo>
                  <a:pt x="1471" y="13050"/>
                  <a:pt x="1403" y="13176"/>
                  <a:pt x="1389" y="13271"/>
                </a:cubicBezTo>
                <a:cubicBezTo>
                  <a:pt x="1379" y="13339"/>
                  <a:pt x="1384" y="13391"/>
                  <a:pt x="1439" y="13419"/>
                </a:cubicBezTo>
                <a:cubicBezTo>
                  <a:pt x="1492" y="13446"/>
                  <a:pt x="1536" y="13445"/>
                  <a:pt x="1588" y="13419"/>
                </a:cubicBezTo>
                <a:cubicBezTo>
                  <a:pt x="1626" y="13400"/>
                  <a:pt x="1667" y="13308"/>
                  <a:pt x="1687" y="13271"/>
                </a:cubicBezTo>
                <a:cubicBezTo>
                  <a:pt x="1717" y="13215"/>
                  <a:pt x="1701" y="13169"/>
                  <a:pt x="1736" y="13122"/>
                </a:cubicBezTo>
                <a:cubicBezTo>
                  <a:pt x="1736" y="13223"/>
                  <a:pt x="1722" y="13327"/>
                  <a:pt x="1761" y="13419"/>
                </a:cubicBezTo>
                <a:cubicBezTo>
                  <a:pt x="1787" y="13480"/>
                  <a:pt x="1799" y="13494"/>
                  <a:pt x="1860" y="13494"/>
                </a:cubicBezTo>
                <a:cubicBezTo>
                  <a:pt x="1919" y="13494"/>
                  <a:pt x="1905" y="13437"/>
                  <a:pt x="1910" y="13395"/>
                </a:cubicBezTo>
              </a:path>
              <a:path w="4888" h="1315">
                <a:moveTo>
                  <a:pt x="1960" y="12378"/>
                </a:moveTo>
                <a:cubicBezTo>
                  <a:pt x="2065" y="12385"/>
                  <a:pt x="2131" y="12382"/>
                  <a:pt x="2158" y="12502"/>
                </a:cubicBezTo>
                <a:cubicBezTo>
                  <a:pt x="2175" y="12580"/>
                  <a:pt x="2107" y="12627"/>
                  <a:pt x="2059" y="12675"/>
                </a:cubicBezTo>
                <a:cubicBezTo>
                  <a:pt x="2019" y="12715"/>
                  <a:pt x="1973" y="12747"/>
                  <a:pt x="1960" y="12799"/>
                </a:cubicBezTo>
                <a:cubicBezTo>
                  <a:pt x="2006" y="12827"/>
                  <a:pt x="2051" y="12846"/>
                  <a:pt x="2108" y="12849"/>
                </a:cubicBezTo>
                <a:cubicBezTo>
                  <a:pt x="2167" y="12853"/>
                  <a:pt x="2182" y="12861"/>
                  <a:pt x="2232" y="12874"/>
                </a:cubicBezTo>
                <a:cubicBezTo>
                  <a:pt x="2259" y="12838"/>
                  <a:pt x="2262" y="12821"/>
                  <a:pt x="2282" y="12774"/>
                </a:cubicBezTo>
              </a:path>
              <a:path w="4888" h="1315">
                <a:moveTo>
                  <a:pt x="2679" y="12923"/>
                </a:moveTo>
                <a:cubicBezTo>
                  <a:pt x="2652" y="13033"/>
                  <a:pt x="2654" y="13132"/>
                  <a:pt x="2654" y="13246"/>
                </a:cubicBezTo>
                <a:cubicBezTo>
                  <a:pt x="2654" y="13378"/>
                  <a:pt x="2673" y="13417"/>
                  <a:pt x="2704" y="13519"/>
                </a:cubicBezTo>
                <a:cubicBezTo>
                  <a:pt x="2704" y="13547"/>
                  <a:pt x="2701" y="13552"/>
                  <a:pt x="2679" y="13519"/>
                </a:cubicBezTo>
              </a:path>
              <a:path w="4888" h="1315">
                <a:moveTo>
                  <a:pt x="2356" y="13196"/>
                </a:moveTo>
                <a:cubicBezTo>
                  <a:pt x="2499" y="13196"/>
                  <a:pt x="2640" y="13206"/>
                  <a:pt x="2778" y="13171"/>
                </a:cubicBezTo>
              </a:path>
              <a:path w="4888" h="1315">
                <a:moveTo>
                  <a:pt x="3001" y="12650"/>
                </a:moveTo>
                <a:cubicBezTo>
                  <a:pt x="3001" y="12754"/>
                  <a:pt x="2972" y="12875"/>
                  <a:pt x="2977" y="12973"/>
                </a:cubicBezTo>
                <a:cubicBezTo>
                  <a:pt x="2983" y="13091"/>
                  <a:pt x="3027" y="13225"/>
                  <a:pt x="3001" y="13345"/>
                </a:cubicBezTo>
                <a:cubicBezTo>
                  <a:pt x="2990" y="13395"/>
                  <a:pt x="2977" y="13545"/>
                  <a:pt x="2977" y="13494"/>
                </a:cubicBezTo>
                <a:cubicBezTo>
                  <a:pt x="2977" y="13438"/>
                  <a:pt x="2993" y="13397"/>
                  <a:pt x="3001" y="13345"/>
                </a:cubicBezTo>
                <a:cubicBezTo>
                  <a:pt x="3013" y="13273"/>
                  <a:pt x="3044" y="13197"/>
                  <a:pt x="3101" y="13146"/>
                </a:cubicBezTo>
                <a:cubicBezTo>
                  <a:pt x="3209" y="13049"/>
                  <a:pt x="3288" y="13097"/>
                  <a:pt x="3373" y="13196"/>
                </a:cubicBezTo>
                <a:cubicBezTo>
                  <a:pt x="3443" y="13277"/>
                  <a:pt x="3413" y="13338"/>
                  <a:pt x="3373" y="13419"/>
                </a:cubicBezTo>
                <a:cubicBezTo>
                  <a:pt x="3336" y="13494"/>
                  <a:pt x="3249" y="13506"/>
                  <a:pt x="3175" y="13543"/>
                </a:cubicBezTo>
                <a:cubicBezTo>
                  <a:pt x="3096" y="13582"/>
                  <a:pt x="3060" y="13557"/>
                  <a:pt x="2977" y="13543"/>
                </a:cubicBezTo>
              </a:path>
              <a:path w="4888" h="1315">
                <a:moveTo>
                  <a:pt x="3547" y="12353"/>
                </a:moveTo>
                <a:cubicBezTo>
                  <a:pt x="3660" y="12409"/>
                  <a:pt x="3789" y="12422"/>
                  <a:pt x="3746" y="12576"/>
                </a:cubicBezTo>
                <a:cubicBezTo>
                  <a:pt x="3732" y="12627"/>
                  <a:pt x="3641" y="12695"/>
                  <a:pt x="3597" y="12725"/>
                </a:cubicBezTo>
                <a:cubicBezTo>
                  <a:pt x="3556" y="12753"/>
                  <a:pt x="3532" y="12764"/>
                  <a:pt x="3497" y="12799"/>
                </a:cubicBezTo>
                <a:cubicBezTo>
                  <a:pt x="3512" y="12845"/>
                  <a:pt x="3545" y="12835"/>
                  <a:pt x="3597" y="12849"/>
                </a:cubicBezTo>
                <a:cubicBezTo>
                  <a:pt x="3706" y="12879"/>
                  <a:pt x="3781" y="12858"/>
                  <a:pt x="3894" y="12849"/>
                </a:cubicBezTo>
              </a:path>
              <a:path w="4888" h="1315">
                <a:moveTo>
                  <a:pt x="4366" y="12725"/>
                </a:moveTo>
                <a:cubicBezTo>
                  <a:pt x="4330" y="12893"/>
                  <a:pt x="4297" y="13050"/>
                  <a:pt x="4291" y="13221"/>
                </a:cubicBezTo>
                <a:cubicBezTo>
                  <a:pt x="4289" y="13283"/>
                  <a:pt x="4321" y="13481"/>
                  <a:pt x="4266" y="13444"/>
                </a:cubicBezTo>
              </a:path>
              <a:path w="4888" h="1315">
                <a:moveTo>
                  <a:pt x="4043" y="13146"/>
                </a:moveTo>
                <a:cubicBezTo>
                  <a:pt x="4190" y="13110"/>
                  <a:pt x="4319" y="13101"/>
                  <a:pt x="4465" y="13072"/>
                </a:cubicBezTo>
              </a:path>
              <a:path w="4888" h="1315">
                <a:moveTo>
                  <a:pt x="4961" y="13097"/>
                </a:moveTo>
                <a:cubicBezTo>
                  <a:pt x="4941" y="13137"/>
                  <a:pt x="4942" y="13153"/>
                  <a:pt x="4911" y="13146"/>
                </a:cubicBezTo>
                <a:cubicBezTo>
                  <a:pt x="4873" y="13108"/>
                  <a:pt x="4865" y="13097"/>
                  <a:pt x="4812" y="13097"/>
                </a:cubicBezTo>
                <a:cubicBezTo>
                  <a:pt x="4736" y="13097"/>
                  <a:pt x="4704" y="13183"/>
                  <a:pt x="4663" y="13246"/>
                </a:cubicBezTo>
                <a:cubicBezTo>
                  <a:pt x="4596" y="13349"/>
                  <a:pt x="4558" y="13459"/>
                  <a:pt x="4638" y="13568"/>
                </a:cubicBezTo>
                <a:cubicBezTo>
                  <a:pt x="4698" y="13650"/>
                  <a:pt x="4787" y="13687"/>
                  <a:pt x="4887" y="13667"/>
                </a:cubicBezTo>
                <a:cubicBezTo>
                  <a:pt x="4912" y="13659"/>
                  <a:pt x="4936" y="13651"/>
                  <a:pt x="4961" y="13643"/>
                </a:cubicBezTo>
              </a:path>
              <a:path w="4888" h="1315">
                <a:moveTo>
                  <a:pt x="5234" y="12551"/>
                </a:moveTo>
                <a:cubicBezTo>
                  <a:pt x="5337" y="12558"/>
                  <a:pt x="5411" y="12563"/>
                  <a:pt x="5482" y="12650"/>
                </a:cubicBezTo>
                <a:cubicBezTo>
                  <a:pt x="5545" y="12728"/>
                  <a:pt x="5544" y="12795"/>
                  <a:pt x="5482" y="12874"/>
                </a:cubicBezTo>
                <a:cubicBezTo>
                  <a:pt x="5435" y="12935"/>
                  <a:pt x="5363" y="12949"/>
                  <a:pt x="5308" y="12998"/>
                </a:cubicBezTo>
                <a:cubicBezTo>
                  <a:pt x="5271" y="13030"/>
                  <a:pt x="5271" y="13009"/>
                  <a:pt x="5259" y="13047"/>
                </a:cubicBezTo>
                <a:cubicBezTo>
                  <a:pt x="5322" y="13086"/>
                  <a:pt x="5383" y="13080"/>
                  <a:pt x="5457" y="13097"/>
                </a:cubicBezTo>
                <a:cubicBezTo>
                  <a:pt x="5543" y="13117"/>
                  <a:pt x="5621" y="13153"/>
                  <a:pt x="5705" y="13171"/>
                </a:cubicBezTo>
                <a:cubicBezTo>
                  <a:pt x="5771" y="13185"/>
                  <a:pt x="5743" y="13174"/>
                  <a:pt x="5705" y="1314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463840" y="4894200"/>
            <a:ext cx="1447920" cy="561960"/>
          </a:xfrm>
          <a:custGeom>
            <a:avLst/>
            <a:gdLst/>
            <a:ahLst/>
            <a:rect l="l" t="t" r="r" b="b"/>
            <a:pathLst>
              <a:path w="4019" h="1564">
                <a:moveTo>
                  <a:pt x="6846" y="13915"/>
                </a:moveTo>
                <a:cubicBezTo>
                  <a:pt x="6951" y="13950"/>
                  <a:pt x="7056" y="13940"/>
                  <a:pt x="7169" y="13940"/>
                </a:cubicBezTo>
                <a:cubicBezTo>
                  <a:pt x="7286" y="13940"/>
                  <a:pt x="7320" y="13942"/>
                  <a:pt x="7392" y="13915"/>
                </a:cubicBezTo>
              </a:path>
              <a:path w="4019" h="1564">
                <a:moveTo>
                  <a:pt x="6945" y="14288"/>
                </a:moveTo>
                <a:cubicBezTo>
                  <a:pt x="7133" y="14362"/>
                  <a:pt x="7233" y="14312"/>
                  <a:pt x="7441" y="14263"/>
                </a:cubicBezTo>
                <a:cubicBezTo>
                  <a:pt x="7544" y="14237"/>
                  <a:pt x="7579" y="14228"/>
                  <a:pt x="7640" y="14188"/>
                </a:cubicBezTo>
              </a:path>
              <a:path w="4019" h="1564">
                <a:moveTo>
                  <a:pt x="8384" y="13940"/>
                </a:moveTo>
                <a:cubicBezTo>
                  <a:pt x="8384" y="13957"/>
                  <a:pt x="8384" y="13973"/>
                  <a:pt x="8384" y="13990"/>
                </a:cubicBezTo>
                <a:cubicBezTo>
                  <a:pt x="8365" y="13984"/>
                  <a:pt x="8340" y="13945"/>
                  <a:pt x="8334" y="13915"/>
                </a:cubicBezTo>
                <a:cubicBezTo>
                  <a:pt x="8320" y="13850"/>
                  <a:pt x="8310" y="13816"/>
                  <a:pt x="8235" y="13791"/>
                </a:cubicBezTo>
                <a:cubicBezTo>
                  <a:pt x="8163" y="13767"/>
                  <a:pt x="8110" y="13798"/>
                  <a:pt x="8062" y="13841"/>
                </a:cubicBezTo>
                <a:cubicBezTo>
                  <a:pt x="7952" y="13940"/>
                  <a:pt x="7895" y="14064"/>
                  <a:pt x="7863" y="14213"/>
                </a:cubicBezTo>
                <a:cubicBezTo>
                  <a:pt x="7838" y="14331"/>
                  <a:pt x="7869" y="14435"/>
                  <a:pt x="7962" y="14511"/>
                </a:cubicBezTo>
                <a:cubicBezTo>
                  <a:pt x="8059" y="14590"/>
                  <a:pt x="8169" y="14614"/>
                  <a:pt x="8285" y="14585"/>
                </a:cubicBezTo>
                <a:cubicBezTo>
                  <a:pt x="8310" y="14577"/>
                  <a:pt x="8334" y="14568"/>
                  <a:pt x="8359" y="14560"/>
                </a:cubicBezTo>
              </a:path>
              <a:path w="4019" h="1564">
                <a:moveTo>
                  <a:pt x="8657" y="13990"/>
                </a:moveTo>
                <a:cubicBezTo>
                  <a:pt x="8610" y="14151"/>
                  <a:pt x="8561" y="14251"/>
                  <a:pt x="8607" y="14412"/>
                </a:cubicBezTo>
                <a:cubicBezTo>
                  <a:pt x="8635" y="14510"/>
                  <a:pt x="8690" y="14585"/>
                  <a:pt x="8781" y="14635"/>
                </a:cubicBezTo>
                <a:cubicBezTo>
                  <a:pt x="8859" y="14678"/>
                  <a:pt x="8939" y="14667"/>
                  <a:pt x="9004" y="14610"/>
                </a:cubicBezTo>
                <a:cubicBezTo>
                  <a:pt x="9109" y="14518"/>
                  <a:pt x="9103" y="14443"/>
                  <a:pt x="9103" y="14312"/>
                </a:cubicBezTo>
                <a:cubicBezTo>
                  <a:pt x="9103" y="14179"/>
                  <a:pt x="9033" y="14077"/>
                  <a:pt x="8930" y="13990"/>
                </a:cubicBezTo>
                <a:cubicBezTo>
                  <a:pt x="8868" y="13938"/>
                  <a:pt x="8633" y="13879"/>
                  <a:pt x="8706" y="13915"/>
                </a:cubicBezTo>
                <a:cubicBezTo>
                  <a:pt x="8731" y="13923"/>
                  <a:pt x="8756" y="13932"/>
                  <a:pt x="8781" y="13940"/>
                </a:cubicBezTo>
              </a:path>
              <a:path w="4019" h="1564">
                <a:moveTo>
                  <a:pt x="9451" y="13940"/>
                </a:moveTo>
                <a:cubicBezTo>
                  <a:pt x="9360" y="13958"/>
                  <a:pt x="9319" y="13933"/>
                  <a:pt x="9327" y="13990"/>
                </a:cubicBezTo>
                <a:cubicBezTo>
                  <a:pt x="9339" y="14102"/>
                  <a:pt x="9385" y="14171"/>
                  <a:pt x="9451" y="14263"/>
                </a:cubicBezTo>
                <a:cubicBezTo>
                  <a:pt x="9523" y="14363"/>
                  <a:pt x="9691" y="14520"/>
                  <a:pt x="9674" y="14660"/>
                </a:cubicBezTo>
                <a:cubicBezTo>
                  <a:pt x="9660" y="14777"/>
                  <a:pt x="9607" y="14831"/>
                  <a:pt x="9500" y="14808"/>
                </a:cubicBezTo>
                <a:cubicBezTo>
                  <a:pt x="9419" y="14791"/>
                  <a:pt x="9326" y="14747"/>
                  <a:pt x="9302" y="14660"/>
                </a:cubicBezTo>
                <a:cubicBezTo>
                  <a:pt x="9302" y="14601"/>
                  <a:pt x="9305" y="14575"/>
                  <a:pt x="9327" y="14536"/>
                </a:cubicBezTo>
              </a:path>
              <a:path w="4019" h="1564">
                <a:moveTo>
                  <a:pt x="10046" y="13915"/>
                </a:moveTo>
                <a:cubicBezTo>
                  <a:pt x="10018" y="14088"/>
                  <a:pt x="9996" y="14237"/>
                  <a:pt x="9996" y="14412"/>
                </a:cubicBezTo>
                <a:cubicBezTo>
                  <a:pt x="9996" y="14555"/>
                  <a:pt x="9989" y="14706"/>
                  <a:pt x="10021" y="14833"/>
                </a:cubicBezTo>
                <a:cubicBezTo>
                  <a:pt x="10028" y="14739"/>
                  <a:pt x="10061" y="14653"/>
                  <a:pt x="10071" y="14560"/>
                </a:cubicBezTo>
                <a:cubicBezTo>
                  <a:pt x="10087" y="14417"/>
                  <a:pt x="10114" y="14282"/>
                  <a:pt x="10145" y="14139"/>
                </a:cubicBezTo>
                <a:cubicBezTo>
                  <a:pt x="10173" y="14007"/>
                  <a:pt x="10223" y="13874"/>
                  <a:pt x="10244" y="13742"/>
                </a:cubicBezTo>
                <a:cubicBezTo>
                  <a:pt x="10258" y="13650"/>
                  <a:pt x="10279" y="13645"/>
                  <a:pt x="10344" y="13593"/>
                </a:cubicBezTo>
                <a:cubicBezTo>
                  <a:pt x="10412" y="13672"/>
                  <a:pt x="10458" y="13766"/>
                  <a:pt x="10492" y="13866"/>
                </a:cubicBezTo>
                <a:cubicBezTo>
                  <a:pt x="10543" y="14015"/>
                  <a:pt x="10596" y="14161"/>
                  <a:pt x="10641" y="14312"/>
                </a:cubicBezTo>
                <a:cubicBezTo>
                  <a:pt x="10698" y="14505"/>
                  <a:pt x="10767" y="14687"/>
                  <a:pt x="10815" y="14883"/>
                </a:cubicBezTo>
                <a:cubicBezTo>
                  <a:pt x="10820" y="14904"/>
                  <a:pt x="10904" y="15131"/>
                  <a:pt x="10864" y="15156"/>
                </a:cubicBezTo>
                <a:cubicBezTo>
                  <a:pt x="10856" y="15148"/>
                  <a:pt x="10848" y="15139"/>
                  <a:pt x="10840" y="15131"/>
                </a:cubicBezTo>
              </a:path>
              <a:path w="4019" h="1564">
                <a:moveTo>
                  <a:pt x="10096" y="14263"/>
                </a:moveTo>
                <a:cubicBezTo>
                  <a:pt x="10278" y="14246"/>
                  <a:pt x="10388" y="14287"/>
                  <a:pt x="10567" y="14312"/>
                </a:cubicBezTo>
                <a:cubicBezTo>
                  <a:pt x="10641" y="14320"/>
                  <a:pt x="10716" y="14329"/>
                  <a:pt x="10790" y="14337"/>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7680" y="5554800"/>
            <a:ext cx="1509480" cy="482400"/>
          </a:xfrm>
          <a:custGeom>
            <a:avLst/>
            <a:gdLst/>
            <a:ahLst/>
            <a:rect l="l" t="t" r="r" b="b"/>
            <a:pathLst>
              <a:path w="4193" h="1340">
                <a:moveTo>
                  <a:pt x="1488" y="15751"/>
                </a:moveTo>
                <a:cubicBezTo>
                  <a:pt x="1526" y="15764"/>
                  <a:pt x="1553" y="15849"/>
                  <a:pt x="1563" y="15900"/>
                </a:cubicBezTo>
                <a:cubicBezTo>
                  <a:pt x="1577" y="15970"/>
                  <a:pt x="1551" y="16147"/>
                  <a:pt x="1538" y="16222"/>
                </a:cubicBezTo>
                <a:cubicBezTo>
                  <a:pt x="1522" y="16320"/>
                  <a:pt x="1516" y="16453"/>
                  <a:pt x="1488" y="16545"/>
                </a:cubicBezTo>
                <a:cubicBezTo>
                  <a:pt x="1470" y="16606"/>
                  <a:pt x="1468" y="16537"/>
                  <a:pt x="1488" y="16594"/>
                </a:cubicBezTo>
                <a:cubicBezTo>
                  <a:pt x="1501" y="16545"/>
                  <a:pt x="1519" y="16499"/>
                  <a:pt x="1538" y="16446"/>
                </a:cubicBezTo>
                <a:cubicBezTo>
                  <a:pt x="1570" y="16354"/>
                  <a:pt x="1593" y="16281"/>
                  <a:pt x="1637" y="16197"/>
                </a:cubicBezTo>
                <a:cubicBezTo>
                  <a:pt x="1661" y="16151"/>
                  <a:pt x="1708" y="16087"/>
                  <a:pt x="1761" y="16073"/>
                </a:cubicBezTo>
                <a:cubicBezTo>
                  <a:pt x="1842" y="16051"/>
                  <a:pt x="1907" y="16133"/>
                  <a:pt x="1935" y="16197"/>
                </a:cubicBezTo>
                <a:cubicBezTo>
                  <a:pt x="1980" y="16301"/>
                  <a:pt x="1999" y="16387"/>
                  <a:pt x="1960" y="16495"/>
                </a:cubicBezTo>
                <a:cubicBezTo>
                  <a:pt x="1938" y="16555"/>
                  <a:pt x="1893" y="16661"/>
                  <a:pt x="1836" y="16694"/>
                </a:cubicBezTo>
                <a:cubicBezTo>
                  <a:pt x="1781" y="16726"/>
                  <a:pt x="1674" y="16729"/>
                  <a:pt x="1612" y="16718"/>
                </a:cubicBezTo>
                <a:cubicBezTo>
                  <a:pt x="1563" y="16710"/>
                  <a:pt x="1465" y="16703"/>
                  <a:pt x="1439" y="16644"/>
                </a:cubicBezTo>
                <a:cubicBezTo>
                  <a:pt x="1439" y="16636"/>
                  <a:pt x="1439" y="16627"/>
                  <a:pt x="1439" y="16619"/>
                </a:cubicBezTo>
              </a:path>
              <a:path w="4193" h="1340">
                <a:moveTo>
                  <a:pt x="2084" y="15577"/>
                </a:moveTo>
                <a:cubicBezTo>
                  <a:pt x="2204" y="15582"/>
                  <a:pt x="2320" y="15541"/>
                  <a:pt x="2332" y="15677"/>
                </a:cubicBezTo>
                <a:cubicBezTo>
                  <a:pt x="2338" y="15744"/>
                  <a:pt x="2319" y="15773"/>
                  <a:pt x="2257" y="15801"/>
                </a:cubicBezTo>
                <a:cubicBezTo>
                  <a:pt x="2200" y="15826"/>
                  <a:pt x="2141" y="15831"/>
                  <a:pt x="2133" y="15900"/>
                </a:cubicBezTo>
                <a:cubicBezTo>
                  <a:pt x="2133" y="15908"/>
                  <a:pt x="2133" y="15917"/>
                  <a:pt x="2133" y="15925"/>
                </a:cubicBezTo>
                <a:cubicBezTo>
                  <a:pt x="2209" y="15967"/>
                  <a:pt x="2242" y="15974"/>
                  <a:pt x="2332" y="15974"/>
                </a:cubicBezTo>
                <a:cubicBezTo>
                  <a:pt x="2407" y="15974"/>
                  <a:pt x="2433" y="15974"/>
                  <a:pt x="2480" y="15949"/>
                </a:cubicBezTo>
              </a:path>
              <a:path w="4193" h="1340">
                <a:moveTo>
                  <a:pt x="2753" y="15850"/>
                </a:moveTo>
                <a:cubicBezTo>
                  <a:pt x="2753" y="16044"/>
                  <a:pt x="2733" y="16226"/>
                  <a:pt x="2729" y="16421"/>
                </a:cubicBezTo>
                <a:cubicBezTo>
                  <a:pt x="2728" y="16480"/>
                  <a:pt x="2728" y="16554"/>
                  <a:pt x="2679" y="16570"/>
                </a:cubicBezTo>
              </a:path>
              <a:path w="4193" h="1340">
                <a:moveTo>
                  <a:pt x="2456" y="16247"/>
                </a:moveTo>
                <a:cubicBezTo>
                  <a:pt x="2550" y="16247"/>
                  <a:pt x="2635" y="16269"/>
                  <a:pt x="2729" y="16272"/>
                </a:cubicBezTo>
                <a:cubicBezTo>
                  <a:pt x="2762" y="16272"/>
                  <a:pt x="2795" y="16272"/>
                  <a:pt x="2828" y="16272"/>
                </a:cubicBezTo>
              </a:path>
              <a:path w="4193" h="1340">
                <a:moveTo>
                  <a:pt x="3349" y="16173"/>
                </a:moveTo>
                <a:cubicBezTo>
                  <a:pt x="3378" y="16163"/>
                  <a:pt x="3393" y="16114"/>
                  <a:pt x="3373" y="16073"/>
                </a:cubicBezTo>
                <a:cubicBezTo>
                  <a:pt x="3351" y="16029"/>
                  <a:pt x="3295" y="16010"/>
                  <a:pt x="3249" y="16024"/>
                </a:cubicBezTo>
                <a:cubicBezTo>
                  <a:pt x="3182" y="16044"/>
                  <a:pt x="3127" y="16113"/>
                  <a:pt x="3101" y="16173"/>
                </a:cubicBezTo>
                <a:cubicBezTo>
                  <a:pt x="3063" y="16262"/>
                  <a:pt x="3030" y="16328"/>
                  <a:pt x="3076" y="16421"/>
                </a:cubicBezTo>
                <a:cubicBezTo>
                  <a:pt x="3120" y="16510"/>
                  <a:pt x="3150" y="16564"/>
                  <a:pt x="3249" y="16570"/>
                </a:cubicBezTo>
                <a:cubicBezTo>
                  <a:pt x="3323" y="16574"/>
                  <a:pt x="3349" y="16520"/>
                  <a:pt x="3398" y="16470"/>
                </a:cubicBezTo>
              </a:path>
              <a:path w="4193" h="1340">
                <a:moveTo>
                  <a:pt x="3597" y="15602"/>
                </a:moveTo>
                <a:cubicBezTo>
                  <a:pt x="3744" y="15608"/>
                  <a:pt x="3833" y="15568"/>
                  <a:pt x="3845" y="15726"/>
                </a:cubicBezTo>
                <a:cubicBezTo>
                  <a:pt x="3851" y="15805"/>
                  <a:pt x="3778" y="15821"/>
                  <a:pt x="3721" y="15850"/>
                </a:cubicBezTo>
                <a:cubicBezTo>
                  <a:pt x="3677" y="15872"/>
                  <a:pt x="3602" y="15912"/>
                  <a:pt x="3597" y="15949"/>
                </a:cubicBezTo>
                <a:cubicBezTo>
                  <a:pt x="3589" y="16011"/>
                  <a:pt x="3616" y="15998"/>
                  <a:pt x="3671" y="16024"/>
                </a:cubicBezTo>
                <a:cubicBezTo>
                  <a:pt x="3744" y="16059"/>
                  <a:pt x="3813" y="16086"/>
                  <a:pt x="3894" y="16098"/>
                </a:cubicBezTo>
                <a:cubicBezTo>
                  <a:pt x="3961" y="16108"/>
                  <a:pt x="3981" y="16086"/>
                  <a:pt x="4018" y="16073"/>
                </a:cubicBezTo>
              </a:path>
              <a:path w="4193" h="1340">
                <a:moveTo>
                  <a:pt x="3845" y="16495"/>
                </a:moveTo>
                <a:cubicBezTo>
                  <a:pt x="3934" y="16470"/>
                  <a:pt x="4000" y="16470"/>
                  <a:pt x="4093" y="16470"/>
                </a:cubicBezTo>
                <a:cubicBezTo>
                  <a:pt x="4177" y="16470"/>
                  <a:pt x="4235" y="16466"/>
                  <a:pt x="4316" y="16446"/>
                </a:cubicBezTo>
              </a:path>
              <a:path w="4193" h="1340">
                <a:moveTo>
                  <a:pt x="4961" y="16197"/>
                </a:moveTo>
                <a:cubicBezTo>
                  <a:pt x="4903" y="16155"/>
                  <a:pt x="4858" y="16175"/>
                  <a:pt x="4787" y="16197"/>
                </a:cubicBezTo>
                <a:cubicBezTo>
                  <a:pt x="4699" y="16224"/>
                  <a:pt x="4587" y="16287"/>
                  <a:pt x="4539" y="16371"/>
                </a:cubicBezTo>
                <a:cubicBezTo>
                  <a:pt x="4499" y="16441"/>
                  <a:pt x="4500" y="16551"/>
                  <a:pt x="4539" y="16619"/>
                </a:cubicBezTo>
                <a:cubicBezTo>
                  <a:pt x="4571" y="16675"/>
                  <a:pt x="4617" y="16691"/>
                  <a:pt x="4663" y="16669"/>
                </a:cubicBezTo>
                <a:cubicBezTo>
                  <a:pt x="4730" y="16638"/>
                  <a:pt x="4782" y="16589"/>
                  <a:pt x="4812" y="16520"/>
                </a:cubicBezTo>
                <a:cubicBezTo>
                  <a:pt x="4843" y="16449"/>
                  <a:pt x="4881" y="16373"/>
                  <a:pt x="4887" y="16297"/>
                </a:cubicBezTo>
                <a:cubicBezTo>
                  <a:pt x="4887" y="16272"/>
                  <a:pt x="4887" y="16264"/>
                  <a:pt x="4862" y="16272"/>
                </a:cubicBezTo>
                <a:cubicBezTo>
                  <a:pt x="4862" y="16370"/>
                  <a:pt x="4860" y="16451"/>
                  <a:pt x="4887" y="16545"/>
                </a:cubicBezTo>
                <a:cubicBezTo>
                  <a:pt x="4903" y="16601"/>
                  <a:pt x="4977" y="16745"/>
                  <a:pt x="5035" y="16768"/>
                </a:cubicBezTo>
                <a:cubicBezTo>
                  <a:pt x="5119" y="16802"/>
                  <a:pt x="5135" y="16718"/>
                  <a:pt x="5159" y="16669"/>
                </a:cubicBezTo>
              </a:path>
              <a:path w="4193" h="1340">
                <a:moveTo>
                  <a:pt x="5234" y="15429"/>
                </a:moveTo>
                <a:cubicBezTo>
                  <a:pt x="5364" y="15438"/>
                  <a:pt x="5410" y="15461"/>
                  <a:pt x="5507" y="15553"/>
                </a:cubicBezTo>
                <a:cubicBezTo>
                  <a:pt x="5569" y="15612"/>
                  <a:pt x="5586" y="15606"/>
                  <a:pt x="5606" y="15677"/>
                </a:cubicBezTo>
                <a:cubicBezTo>
                  <a:pt x="5567" y="15752"/>
                  <a:pt x="5508" y="15710"/>
                  <a:pt x="5432" y="15726"/>
                </a:cubicBezTo>
                <a:cubicBezTo>
                  <a:pt x="5401" y="15732"/>
                  <a:pt x="5276" y="15740"/>
                  <a:pt x="5259" y="15776"/>
                </a:cubicBezTo>
                <a:cubicBezTo>
                  <a:pt x="5226" y="15843"/>
                  <a:pt x="5295" y="15908"/>
                  <a:pt x="5333" y="15949"/>
                </a:cubicBezTo>
                <a:cubicBezTo>
                  <a:pt x="5399" y="16019"/>
                  <a:pt x="5465" y="16085"/>
                  <a:pt x="5556" y="16123"/>
                </a:cubicBezTo>
                <a:cubicBezTo>
                  <a:pt x="5581" y="16131"/>
                  <a:pt x="5606" y="16140"/>
                  <a:pt x="5631" y="1614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98320" y="5776920"/>
            <a:ext cx="2652840" cy="741240"/>
          </a:xfrm>
          <a:custGeom>
            <a:avLst/>
            <a:gdLst/>
            <a:ahLst/>
            <a:rect l="l" t="t" r="r" b="b"/>
            <a:pathLst>
              <a:path w="7368" h="2059">
                <a:moveTo>
                  <a:pt x="5655" y="16892"/>
                </a:moveTo>
                <a:cubicBezTo>
                  <a:pt x="5445" y="16936"/>
                  <a:pt x="5227" y="16976"/>
                  <a:pt x="5011" y="16991"/>
                </a:cubicBezTo>
                <a:cubicBezTo>
                  <a:pt x="4719" y="17011"/>
                  <a:pt x="4434" y="17052"/>
                  <a:pt x="4142" y="17090"/>
                </a:cubicBezTo>
                <a:cubicBezTo>
                  <a:pt x="3862" y="17126"/>
                  <a:pt x="3581" y="17133"/>
                  <a:pt x="3299" y="17165"/>
                </a:cubicBezTo>
                <a:cubicBezTo>
                  <a:pt x="3010" y="17198"/>
                  <a:pt x="2720" y="17189"/>
                  <a:pt x="2431" y="17214"/>
                </a:cubicBezTo>
                <a:cubicBezTo>
                  <a:pt x="2230" y="17232"/>
                  <a:pt x="2009" y="17256"/>
                  <a:pt x="1811" y="17289"/>
                </a:cubicBezTo>
                <a:cubicBezTo>
                  <a:pt x="1723" y="17304"/>
                  <a:pt x="1705" y="17301"/>
                  <a:pt x="1662" y="17289"/>
                </a:cubicBezTo>
                <a:cubicBezTo>
                  <a:pt x="1670" y="17289"/>
                  <a:pt x="1679" y="17289"/>
                  <a:pt x="1687" y="17289"/>
                </a:cubicBezTo>
              </a:path>
              <a:path w="7368" h="2059">
                <a:moveTo>
                  <a:pt x="2555" y="17388"/>
                </a:moveTo>
                <a:cubicBezTo>
                  <a:pt x="2636" y="17405"/>
                  <a:pt x="2728" y="17414"/>
                  <a:pt x="2803" y="17438"/>
                </a:cubicBezTo>
                <a:cubicBezTo>
                  <a:pt x="2820" y="17446"/>
                  <a:pt x="2836" y="17454"/>
                  <a:pt x="2853" y="17462"/>
                </a:cubicBezTo>
                <a:cubicBezTo>
                  <a:pt x="2853" y="17558"/>
                  <a:pt x="2823" y="17535"/>
                  <a:pt x="2753" y="17587"/>
                </a:cubicBezTo>
                <a:cubicBezTo>
                  <a:pt x="2670" y="17649"/>
                  <a:pt x="2596" y="17703"/>
                  <a:pt x="2580" y="17810"/>
                </a:cubicBezTo>
                <a:cubicBezTo>
                  <a:pt x="2568" y="17889"/>
                  <a:pt x="2660" y="17969"/>
                  <a:pt x="2729" y="17983"/>
                </a:cubicBezTo>
                <a:cubicBezTo>
                  <a:pt x="2825" y="18002"/>
                  <a:pt x="2871" y="17974"/>
                  <a:pt x="2952" y="17934"/>
                </a:cubicBezTo>
              </a:path>
              <a:path w="7368" h="2059">
                <a:moveTo>
                  <a:pt x="3398" y="17338"/>
                </a:moveTo>
                <a:cubicBezTo>
                  <a:pt x="3387" y="17425"/>
                  <a:pt x="3352" y="17496"/>
                  <a:pt x="3349" y="17587"/>
                </a:cubicBezTo>
                <a:cubicBezTo>
                  <a:pt x="3346" y="17693"/>
                  <a:pt x="3358" y="17785"/>
                  <a:pt x="3373" y="17884"/>
                </a:cubicBezTo>
                <a:cubicBezTo>
                  <a:pt x="3373" y="17929"/>
                  <a:pt x="3370" y="17942"/>
                  <a:pt x="3398" y="17959"/>
                </a:cubicBezTo>
                <a:cubicBezTo>
                  <a:pt x="3398" y="17893"/>
                  <a:pt x="3438" y="17845"/>
                  <a:pt x="3448" y="17785"/>
                </a:cubicBezTo>
                <a:cubicBezTo>
                  <a:pt x="3465" y="17683"/>
                  <a:pt x="3475" y="17614"/>
                  <a:pt x="3597" y="17587"/>
                </a:cubicBezTo>
                <a:cubicBezTo>
                  <a:pt x="3669" y="17571"/>
                  <a:pt x="3715" y="17679"/>
                  <a:pt x="3721" y="17735"/>
                </a:cubicBezTo>
                <a:cubicBezTo>
                  <a:pt x="3730" y="17819"/>
                  <a:pt x="3678" y="17907"/>
                  <a:pt x="3597" y="17934"/>
                </a:cubicBezTo>
                <a:cubicBezTo>
                  <a:pt x="3549" y="17950"/>
                  <a:pt x="3511" y="17939"/>
                  <a:pt x="3497" y="17909"/>
                </a:cubicBezTo>
                <a:cubicBezTo>
                  <a:pt x="3465" y="17838"/>
                  <a:pt x="3472" y="17830"/>
                  <a:pt x="3497" y="17760"/>
                </a:cubicBezTo>
              </a:path>
              <a:path w="7368" h="2059">
                <a:moveTo>
                  <a:pt x="4291" y="17735"/>
                </a:moveTo>
                <a:cubicBezTo>
                  <a:pt x="4332" y="17755"/>
                  <a:pt x="4348" y="17753"/>
                  <a:pt x="4341" y="17785"/>
                </a:cubicBezTo>
                <a:cubicBezTo>
                  <a:pt x="4370" y="17746"/>
                  <a:pt x="4381" y="17688"/>
                  <a:pt x="4366" y="17636"/>
                </a:cubicBezTo>
                <a:cubicBezTo>
                  <a:pt x="4350" y="17581"/>
                  <a:pt x="4306" y="17499"/>
                  <a:pt x="4242" y="17487"/>
                </a:cubicBezTo>
                <a:cubicBezTo>
                  <a:pt x="4188" y="17477"/>
                  <a:pt x="4028" y="17515"/>
                  <a:pt x="3994" y="17562"/>
                </a:cubicBezTo>
                <a:cubicBezTo>
                  <a:pt x="3927" y="17652"/>
                  <a:pt x="3974" y="17801"/>
                  <a:pt x="4018" y="17884"/>
                </a:cubicBezTo>
                <a:cubicBezTo>
                  <a:pt x="4088" y="18016"/>
                  <a:pt x="4183" y="18063"/>
                  <a:pt x="4316" y="18107"/>
                </a:cubicBezTo>
              </a:path>
              <a:path w="7368" h="2059">
                <a:moveTo>
                  <a:pt x="6276" y="16619"/>
                </a:moveTo>
                <a:cubicBezTo>
                  <a:pt x="6392" y="16656"/>
                  <a:pt x="6405" y="16669"/>
                  <a:pt x="6499" y="16669"/>
                </a:cubicBezTo>
              </a:path>
              <a:path w="7368" h="2059">
                <a:moveTo>
                  <a:pt x="6152" y="16867"/>
                </a:moveTo>
                <a:cubicBezTo>
                  <a:pt x="6217" y="16949"/>
                  <a:pt x="6258" y="16993"/>
                  <a:pt x="6375" y="16966"/>
                </a:cubicBezTo>
                <a:cubicBezTo>
                  <a:pt x="6391" y="16958"/>
                  <a:pt x="6408" y="16950"/>
                  <a:pt x="6424" y="16942"/>
                </a:cubicBezTo>
              </a:path>
              <a:path w="7368" h="2059">
                <a:moveTo>
                  <a:pt x="7045" y="16446"/>
                </a:moveTo>
                <a:cubicBezTo>
                  <a:pt x="7066" y="16483"/>
                  <a:pt x="7085" y="16508"/>
                  <a:pt x="7094" y="16545"/>
                </a:cubicBezTo>
                <a:cubicBezTo>
                  <a:pt x="7094" y="16488"/>
                  <a:pt x="7102" y="16446"/>
                  <a:pt x="7069" y="16396"/>
                </a:cubicBezTo>
                <a:cubicBezTo>
                  <a:pt x="7029" y="16335"/>
                  <a:pt x="6999" y="16342"/>
                  <a:pt x="6945" y="16371"/>
                </a:cubicBezTo>
                <a:cubicBezTo>
                  <a:pt x="6875" y="16409"/>
                  <a:pt x="6794" y="16489"/>
                  <a:pt x="6772" y="16570"/>
                </a:cubicBezTo>
                <a:cubicBezTo>
                  <a:pt x="6733" y="16714"/>
                  <a:pt x="6804" y="16864"/>
                  <a:pt x="6896" y="16966"/>
                </a:cubicBezTo>
                <a:cubicBezTo>
                  <a:pt x="6967" y="17045"/>
                  <a:pt x="7026" y="17017"/>
                  <a:pt x="7119" y="16991"/>
                </a:cubicBezTo>
              </a:path>
              <a:path w="7368" h="2059">
                <a:moveTo>
                  <a:pt x="7491" y="16520"/>
                </a:moveTo>
                <a:cubicBezTo>
                  <a:pt x="7477" y="16493"/>
                  <a:pt x="7417" y="16549"/>
                  <a:pt x="7392" y="16594"/>
                </a:cubicBezTo>
                <a:cubicBezTo>
                  <a:pt x="7345" y="16681"/>
                  <a:pt x="7360" y="16804"/>
                  <a:pt x="7392" y="16892"/>
                </a:cubicBezTo>
                <a:cubicBezTo>
                  <a:pt x="7405" y="16927"/>
                  <a:pt x="7472" y="17004"/>
                  <a:pt x="7516" y="16991"/>
                </a:cubicBezTo>
                <a:cubicBezTo>
                  <a:pt x="7608" y="16964"/>
                  <a:pt x="7654" y="16846"/>
                  <a:pt x="7689" y="16768"/>
                </a:cubicBezTo>
                <a:cubicBezTo>
                  <a:pt x="7736" y="16663"/>
                  <a:pt x="7748" y="16596"/>
                  <a:pt x="7689" y="16495"/>
                </a:cubicBezTo>
                <a:cubicBezTo>
                  <a:pt x="7645" y="16420"/>
                  <a:pt x="7597" y="16378"/>
                  <a:pt x="7516" y="16371"/>
                </a:cubicBezTo>
                <a:cubicBezTo>
                  <a:pt x="7420" y="16363"/>
                  <a:pt x="7553" y="16464"/>
                  <a:pt x="7565" y="16470"/>
                </a:cubicBezTo>
              </a:path>
              <a:path w="7368" h="2059">
                <a:moveTo>
                  <a:pt x="7962" y="16371"/>
                </a:moveTo>
                <a:cubicBezTo>
                  <a:pt x="7937" y="16294"/>
                  <a:pt x="7911" y="16425"/>
                  <a:pt x="7913" y="16446"/>
                </a:cubicBezTo>
                <a:cubicBezTo>
                  <a:pt x="7925" y="16585"/>
                  <a:pt x="7996" y="16727"/>
                  <a:pt x="8012" y="16867"/>
                </a:cubicBezTo>
                <a:cubicBezTo>
                  <a:pt x="8020" y="16940"/>
                  <a:pt x="8000" y="17085"/>
                  <a:pt x="7938" y="17140"/>
                </a:cubicBezTo>
                <a:cubicBezTo>
                  <a:pt x="7930" y="17140"/>
                  <a:pt x="7921" y="17140"/>
                  <a:pt x="7913" y="17140"/>
                </a:cubicBezTo>
                <a:cubicBezTo>
                  <a:pt x="7863" y="17140"/>
                  <a:pt x="7810" y="17102"/>
                  <a:pt x="7813" y="17041"/>
                </a:cubicBezTo>
                <a:cubicBezTo>
                  <a:pt x="7841" y="16986"/>
                  <a:pt x="7849" y="16963"/>
                  <a:pt x="7838" y="16917"/>
                </a:cubicBezTo>
              </a:path>
              <a:path w="7368" h="2059">
                <a:moveTo>
                  <a:pt x="8310" y="16396"/>
                </a:moveTo>
                <a:cubicBezTo>
                  <a:pt x="8302" y="16530"/>
                  <a:pt x="8251" y="16638"/>
                  <a:pt x="8235" y="16768"/>
                </a:cubicBezTo>
                <a:cubicBezTo>
                  <a:pt x="8225" y="16848"/>
                  <a:pt x="8217" y="16913"/>
                  <a:pt x="8210" y="16991"/>
                </a:cubicBezTo>
                <a:cubicBezTo>
                  <a:pt x="8266" y="16902"/>
                  <a:pt x="8289" y="16836"/>
                  <a:pt x="8334" y="16743"/>
                </a:cubicBezTo>
                <a:cubicBezTo>
                  <a:pt x="8395" y="16618"/>
                  <a:pt x="8477" y="16500"/>
                  <a:pt x="8533" y="16371"/>
                </a:cubicBezTo>
                <a:cubicBezTo>
                  <a:pt x="8577" y="16270"/>
                  <a:pt x="8599" y="16188"/>
                  <a:pt x="8657" y="16098"/>
                </a:cubicBezTo>
                <a:cubicBezTo>
                  <a:pt x="8657" y="16070"/>
                  <a:pt x="8659" y="16059"/>
                  <a:pt x="8682" y="16049"/>
                </a:cubicBezTo>
                <a:cubicBezTo>
                  <a:pt x="8760" y="16127"/>
                  <a:pt x="8741" y="16194"/>
                  <a:pt x="8756" y="16297"/>
                </a:cubicBezTo>
                <a:cubicBezTo>
                  <a:pt x="8783" y="16481"/>
                  <a:pt x="8766" y="16657"/>
                  <a:pt x="8781" y="16842"/>
                </a:cubicBezTo>
                <a:cubicBezTo>
                  <a:pt x="8792" y="16986"/>
                  <a:pt x="8771" y="17073"/>
                  <a:pt x="8855" y="17115"/>
                </a:cubicBezTo>
              </a:path>
              <a:path w="7368" h="2059">
                <a:moveTo>
                  <a:pt x="9029" y="16768"/>
                </a:moveTo>
                <a:cubicBezTo>
                  <a:pt x="8939" y="16768"/>
                  <a:pt x="8872" y="16791"/>
                  <a:pt x="8781" y="16793"/>
                </a:cubicBezTo>
                <a:cubicBezTo>
                  <a:pt x="8627" y="16796"/>
                  <a:pt x="8489" y="16768"/>
                  <a:pt x="8334" y="16768"/>
                </a:cubicBezTo>
                <a:cubicBezTo>
                  <a:pt x="8235" y="16768"/>
                  <a:pt x="8202" y="16768"/>
                  <a:pt x="8136" y="1676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5120" y="4919760"/>
            <a:ext cx="963720" cy="608040"/>
          </a:xfrm>
          <a:custGeom>
            <a:avLst/>
            <a:gdLst/>
            <a:ahLst/>
            <a:rect l="l" t="t" r="r" b="b"/>
            <a:pathLst>
              <a:path w="2680" h="1688">
                <a:moveTo>
                  <a:pt x="1290" y="13692"/>
                </a:moveTo>
                <a:cubicBezTo>
                  <a:pt x="1688" y="13692"/>
                  <a:pt x="2084" y="13686"/>
                  <a:pt x="2480" y="13667"/>
                </a:cubicBezTo>
                <a:cubicBezTo>
                  <a:pt x="2722" y="13655"/>
                  <a:pt x="2959" y="13688"/>
                  <a:pt x="3200" y="13692"/>
                </a:cubicBezTo>
                <a:cubicBezTo>
                  <a:pt x="3430" y="13696"/>
                  <a:pt x="3756" y="13714"/>
                  <a:pt x="3944" y="13667"/>
                </a:cubicBezTo>
                <a:cubicBezTo>
                  <a:pt x="4009" y="13651"/>
                  <a:pt x="3901" y="13667"/>
                  <a:pt x="3894" y="13667"/>
                </a:cubicBezTo>
              </a:path>
              <a:path w="2680" h="1688">
                <a:moveTo>
                  <a:pt x="1960" y="14560"/>
                </a:moveTo>
                <a:cubicBezTo>
                  <a:pt x="1996" y="14494"/>
                  <a:pt x="2041" y="14452"/>
                  <a:pt x="2133" y="14436"/>
                </a:cubicBezTo>
                <a:cubicBezTo>
                  <a:pt x="2212" y="14422"/>
                  <a:pt x="2365" y="14434"/>
                  <a:pt x="2406" y="14511"/>
                </a:cubicBezTo>
                <a:cubicBezTo>
                  <a:pt x="2433" y="14561"/>
                  <a:pt x="2337" y="14705"/>
                  <a:pt x="2307" y="14734"/>
                </a:cubicBezTo>
                <a:cubicBezTo>
                  <a:pt x="2218" y="14819"/>
                  <a:pt x="2102" y="14906"/>
                  <a:pt x="2059" y="15032"/>
                </a:cubicBezTo>
                <a:cubicBezTo>
                  <a:pt x="2031" y="15112"/>
                  <a:pt x="2069" y="15185"/>
                  <a:pt x="2133" y="15230"/>
                </a:cubicBezTo>
                <a:cubicBezTo>
                  <a:pt x="2200" y="15278"/>
                  <a:pt x="2360" y="15273"/>
                  <a:pt x="2431" y="15230"/>
                </a:cubicBezTo>
                <a:cubicBezTo>
                  <a:pt x="2485" y="15175"/>
                  <a:pt x="2506" y="15155"/>
                  <a:pt x="2555" y="15131"/>
                </a:cubicBezTo>
              </a:path>
              <a:path w="2680" h="1688">
                <a:moveTo>
                  <a:pt x="2828" y="14461"/>
                </a:moveTo>
                <a:cubicBezTo>
                  <a:pt x="2818" y="14578"/>
                  <a:pt x="2788" y="14691"/>
                  <a:pt x="2778" y="14808"/>
                </a:cubicBezTo>
                <a:cubicBezTo>
                  <a:pt x="2768" y="14927"/>
                  <a:pt x="2744" y="15039"/>
                  <a:pt x="2729" y="15156"/>
                </a:cubicBezTo>
                <a:cubicBezTo>
                  <a:pt x="2723" y="15201"/>
                  <a:pt x="2737" y="15263"/>
                  <a:pt x="2704" y="15230"/>
                </a:cubicBezTo>
                <a:cubicBezTo>
                  <a:pt x="2704" y="15165"/>
                  <a:pt x="2711" y="15092"/>
                  <a:pt x="2729" y="15032"/>
                </a:cubicBezTo>
                <a:cubicBezTo>
                  <a:pt x="2752" y="14956"/>
                  <a:pt x="2818" y="14873"/>
                  <a:pt x="2902" y="14858"/>
                </a:cubicBezTo>
                <a:cubicBezTo>
                  <a:pt x="2985" y="14844"/>
                  <a:pt x="3082" y="14894"/>
                  <a:pt x="3101" y="14982"/>
                </a:cubicBezTo>
                <a:cubicBezTo>
                  <a:pt x="3123" y="15081"/>
                  <a:pt x="3089" y="15137"/>
                  <a:pt x="3026" y="15205"/>
                </a:cubicBezTo>
                <a:cubicBezTo>
                  <a:pt x="2969" y="15266"/>
                  <a:pt x="2910" y="15328"/>
                  <a:pt x="2828" y="15354"/>
                </a:cubicBezTo>
                <a:cubicBezTo>
                  <a:pt x="2742" y="15381"/>
                  <a:pt x="2802" y="15238"/>
                  <a:pt x="2803" y="15230"/>
                </a:cubicBezTo>
              </a:path>
              <a:path w="2680" h="1688">
                <a:moveTo>
                  <a:pt x="3770" y="15056"/>
                </a:moveTo>
                <a:cubicBezTo>
                  <a:pt x="3778" y="15073"/>
                  <a:pt x="3787" y="15089"/>
                  <a:pt x="3795" y="15106"/>
                </a:cubicBezTo>
                <a:cubicBezTo>
                  <a:pt x="3795" y="15047"/>
                  <a:pt x="3772" y="15010"/>
                  <a:pt x="3746" y="14957"/>
                </a:cubicBezTo>
                <a:cubicBezTo>
                  <a:pt x="3703" y="14871"/>
                  <a:pt x="3645" y="14847"/>
                  <a:pt x="3547" y="14833"/>
                </a:cubicBezTo>
                <a:cubicBezTo>
                  <a:pt x="3442" y="14818"/>
                  <a:pt x="3359" y="14874"/>
                  <a:pt x="3299" y="14957"/>
                </a:cubicBezTo>
                <a:cubicBezTo>
                  <a:pt x="3227" y="15056"/>
                  <a:pt x="3296" y="15163"/>
                  <a:pt x="3373" y="15230"/>
                </a:cubicBezTo>
                <a:cubicBezTo>
                  <a:pt x="3492" y="15334"/>
                  <a:pt x="3567" y="15343"/>
                  <a:pt x="3696" y="15280"/>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Solve a triangle:</a:t>
            </a:r>
            <a:br>
              <a:rPr sz="4000"/>
            </a:br>
            <a:r>
              <a:rPr b="0" lang="en-US" sz="4000" spc="-1" strike="noStrike">
                <a:solidFill>
                  <a:srgbClr val="000000"/>
                </a:solidFill>
                <a:latin typeface="Garamond"/>
              </a:rPr>
              <a:t>a = 9, b = 3 and c = 11</a:t>
            </a:r>
            <a:endParaRPr b="0" lang="en-US" sz="4000" spc="-1" strike="noStrike">
              <a:solidFill>
                <a:srgbClr val="000000"/>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
          <p:cNvSpPr/>
          <p:nvPr/>
        </p:nvSpPr>
        <p:spPr>
          <a:xfrm>
            <a:off x="1044720" y="3803760"/>
            <a:ext cx="376200" cy="447480"/>
          </a:xfrm>
          <a:custGeom>
            <a:avLst/>
            <a:gdLst/>
            <a:ahLst/>
            <a:rect l="l" t="t" r="r" b="b"/>
            <a:pathLst>
              <a:path w="1043" h="1241">
                <a:moveTo>
                  <a:pt x="3051" y="11137"/>
                </a:moveTo>
                <a:cubicBezTo>
                  <a:pt x="3026" y="11305"/>
                  <a:pt x="3006" y="11556"/>
                  <a:pt x="2952" y="11733"/>
                </a:cubicBezTo>
                <a:cubicBezTo>
                  <a:pt x="2944" y="11749"/>
                  <a:pt x="2935" y="11766"/>
                  <a:pt x="2927" y="11782"/>
                </a:cubicBezTo>
                <a:cubicBezTo>
                  <a:pt x="2889" y="11795"/>
                  <a:pt x="2886" y="11765"/>
                  <a:pt x="2902" y="11683"/>
                </a:cubicBezTo>
                <a:cubicBezTo>
                  <a:pt x="2924" y="11573"/>
                  <a:pt x="2965" y="11442"/>
                  <a:pt x="3001" y="11336"/>
                </a:cubicBezTo>
                <a:cubicBezTo>
                  <a:pt x="3061" y="11159"/>
                  <a:pt x="3131" y="10988"/>
                  <a:pt x="3200" y="10815"/>
                </a:cubicBezTo>
                <a:cubicBezTo>
                  <a:pt x="3232" y="10735"/>
                  <a:pt x="3266" y="10656"/>
                  <a:pt x="3324" y="10592"/>
                </a:cubicBezTo>
                <a:cubicBezTo>
                  <a:pt x="3332" y="10584"/>
                  <a:pt x="3341" y="10575"/>
                  <a:pt x="3349" y="10567"/>
                </a:cubicBezTo>
                <a:cubicBezTo>
                  <a:pt x="3448" y="10587"/>
                  <a:pt x="3411" y="10585"/>
                  <a:pt x="3473" y="10666"/>
                </a:cubicBezTo>
                <a:cubicBezTo>
                  <a:pt x="3550" y="10766"/>
                  <a:pt x="3573" y="10872"/>
                  <a:pt x="3621" y="10988"/>
                </a:cubicBezTo>
                <a:cubicBezTo>
                  <a:pt x="3671" y="11109"/>
                  <a:pt x="3708" y="11246"/>
                  <a:pt x="3770" y="11361"/>
                </a:cubicBezTo>
                <a:cubicBezTo>
                  <a:pt x="3806" y="11429"/>
                  <a:pt x="3868" y="11502"/>
                  <a:pt x="3919" y="11559"/>
                </a:cubicBezTo>
                <a:cubicBezTo>
                  <a:pt x="3982" y="11629"/>
                  <a:pt x="3903" y="11543"/>
                  <a:pt x="3894" y="11534"/>
                </a:cubicBezTo>
              </a:path>
              <a:path w="1043" h="1241">
                <a:moveTo>
                  <a:pt x="3001" y="11261"/>
                </a:moveTo>
                <a:cubicBezTo>
                  <a:pt x="3144" y="11217"/>
                  <a:pt x="3283" y="11166"/>
                  <a:pt x="3423" y="11112"/>
                </a:cubicBezTo>
                <a:cubicBezTo>
                  <a:pt x="3551" y="11062"/>
                  <a:pt x="3595" y="11043"/>
                  <a:pt x="3671" y="1098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67000" y="3571920"/>
            <a:ext cx="249120" cy="428760"/>
          </a:xfrm>
          <a:custGeom>
            <a:avLst/>
            <a:gdLst/>
            <a:ahLst/>
            <a:rect l="l" t="t" r="r" b="b"/>
            <a:pathLst>
              <a:path w="696" h="1191">
                <a:moveTo>
                  <a:pt x="6722" y="10096"/>
                </a:moveTo>
                <a:cubicBezTo>
                  <a:pt x="6714" y="10104"/>
                  <a:pt x="6705" y="10112"/>
                  <a:pt x="6697" y="10120"/>
                </a:cubicBezTo>
                <a:cubicBezTo>
                  <a:pt x="6715" y="10091"/>
                  <a:pt x="6704" y="10082"/>
                  <a:pt x="6722" y="10046"/>
                </a:cubicBezTo>
                <a:cubicBezTo>
                  <a:pt x="6739" y="10012"/>
                  <a:pt x="6782" y="9984"/>
                  <a:pt x="6796" y="9971"/>
                </a:cubicBezTo>
                <a:cubicBezTo>
                  <a:pt x="6834" y="9933"/>
                  <a:pt x="6889" y="9906"/>
                  <a:pt x="6945" y="9922"/>
                </a:cubicBezTo>
                <a:cubicBezTo>
                  <a:pt x="7008" y="9940"/>
                  <a:pt x="7025" y="9995"/>
                  <a:pt x="7045" y="10046"/>
                </a:cubicBezTo>
                <a:cubicBezTo>
                  <a:pt x="7076" y="10123"/>
                  <a:pt x="7070" y="10194"/>
                  <a:pt x="7045" y="10269"/>
                </a:cubicBezTo>
                <a:cubicBezTo>
                  <a:pt x="7022" y="10337"/>
                  <a:pt x="6970" y="10377"/>
                  <a:pt x="6921" y="10418"/>
                </a:cubicBezTo>
                <a:cubicBezTo>
                  <a:pt x="6902" y="10434"/>
                  <a:pt x="6892" y="10429"/>
                  <a:pt x="6871" y="10443"/>
                </a:cubicBezTo>
                <a:cubicBezTo>
                  <a:pt x="6914" y="10421"/>
                  <a:pt x="6938" y="10409"/>
                  <a:pt x="6995" y="10418"/>
                </a:cubicBezTo>
                <a:cubicBezTo>
                  <a:pt x="7054" y="10427"/>
                  <a:pt x="7108" y="10465"/>
                  <a:pt x="7144" y="10517"/>
                </a:cubicBezTo>
                <a:cubicBezTo>
                  <a:pt x="7189" y="10582"/>
                  <a:pt x="7288" y="10723"/>
                  <a:pt x="7268" y="10815"/>
                </a:cubicBezTo>
                <a:cubicBezTo>
                  <a:pt x="7253" y="10884"/>
                  <a:pt x="7195" y="10994"/>
                  <a:pt x="7144" y="11038"/>
                </a:cubicBezTo>
                <a:cubicBezTo>
                  <a:pt x="7045" y="11124"/>
                  <a:pt x="6943" y="11112"/>
                  <a:pt x="6821" y="11112"/>
                </a:cubicBezTo>
                <a:cubicBezTo>
                  <a:pt x="6716" y="11112"/>
                  <a:pt x="6660" y="11066"/>
                  <a:pt x="6573" y="11013"/>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990720" y="2759040"/>
            <a:ext cx="295200" cy="366840"/>
          </a:xfrm>
          <a:custGeom>
            <a:avLst/>
            <a:gdLst/>
            <a:ahLst/>
            <a:rect l="l" t="t" r="r" b="b"/>
            <a:pathLst>
              <a:path w="820" h="1018">
                <a:moveTo>
                  <a:pt x="2753" y="7913"/>
                </a:moveTo>
                <a:cubicBezTo>
                  <a:pt x="2798" y="8027"/>
                  <a:pt x="2848" y="8153"/>
                  <a:pt x="2902" y="8260"/>
                </a:cubicBezTo>
                <a:cubicBezTo>
                  <a:pt x="2945" y="8346"/>
                  <a:pt x="3002" y="8411"/>
                  <a:pt x="3026" y="8508"/>
                </a:cubicBezTo>
                <a:cubicBezTo>
                  <a:pt x="3039" y="8560"/>
                  <a:pt x="3051" y="8600"/>
                  <a:pt x="3051" y="8657"/>
                </a:cubicBezTo>
                <a:cubicBezTo>
                  <a:pt x="3051" y="8682"/>
                  <a:pt x="3051" y="8690"/>
                  <a:pt x="3051" y="8657"/>
                </a:cubicBezTo>
              </a:path>
              <a:path w="820" h="1018">
                <a:moveTo>
                  <a:pt x="3150" y="7665"/>
                </a:moveTo>
                <a:cubicBezTo>
                  <a:pt x="3197" y="7776"/>
                  <a:pt x="3280" y="7876"/>
                  <a:pt x="3324" y="7987"/>
                </a:cubicBezTo>
                <a:cubicBezTo>
                  <a:pt x="3386" y="8144"/>
                  <a:pt x="3473" y="8266"/>
                  <a:pt x="3572" y="8409"/>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81120" y="1419120"/>
            <a:ext cx="312840" cy="447840"/>
          </a:xfrm>
          <a:custGeom>
            <a:avLst/>
            <a:gdLst/>
            <a:ahLst/>
            <a:rect l="l" t="t" r="r" b="b"/>
            <a:pathLst>
              <a:path w="870" h="1241">
                <a:moveTo>
                  <a:pt x="4564" y="4390"/>
                </a:moveTo>
                <a:cubicBezTo>
                  <a:pt x="4592" y="4494"/>
                  <a:pt x="4647" y="4608"/>
                  <a:pt x="4663" y="4713"/>
                </a:cubicBezTo>
                <a:cubicBezTo>
                  <a:pt x="4675" y="4791"/>
                  <a:pt x="4700" y="4858"/>
                  <a:pt x="4713" y="4936"/>
                </a:cubicBezTo>
                <a:cubicBezTo>
                  <a:pt x="4713" y="4978"/>
                  <a:pt x="4713" y="4986"/>
                  <a:pt x="4713" y="5011"/>
                </a:cubicBezTo>
                <a:cubicBezTo>
                  <a:pt x="4707" y="4962"/>
                  <a:pt x="4703" y="4908"/>
                  <a:pt x="4688" y="4862"/>
                </a:cubicBezTo>
                <a:cubicBezTo>
                  <a:pt x="4651" y="4751"/>
                  <a:pt x="4582" y="4632"/>
                  <a:pt x="4564" y="4514"/>
                </a:cubicBezTo>
                <a:cubicBezTo>
                  <a:pt x="4545" y="4390"/>
                  <a:pt x="4552" y="4316"/>
                  <a:pt x="4589" y="4192"/>
                </a:cubicBezTo>
                <a:cubicBezTo>
                  <a:pt x="4621" y="4086"/>
                  <a:pt x="4689" y="4011"/>
                  <a:pt x="4787" y="3969"/>
                </a:cubicBezTo>
                <a:cubicBezTo>
                  <a:pt x="4881" y="3929"/>
                  <a:pt x="4934" y="3931"/>
                  <a:pt x="4986" y="4018"/>
                </a:cubicBezTo>
                <a:cubicBezTo>
                  <a:pt x="5037" y="4105"/>
                  <a:pt x="4990" y="4178"/>
                  <a:pt x="4961" y="4266"/>
                </a:cubicBezTo>
                <a:cubicBezTo>
                  <a:pt x="4937" y="4339"/>
                  <a:pt x="4869" y="4462"/>
                  <a:pt x="4812" y="4514"/>
                </a:cubicBezTo>
                <a:cubicBezTo>
                  <a:pt x="4769" y="4554"/>
                  <a:pt x="4765" y="4550"/>
                  <a:pt x="4738" y="4589"/>
                </a:cubicBezTo>
                <a:cubicBezTo>
                  <a:pt x="4778" y="4547"/>
                  <a:pt x="4819" y="4525"/>
                  <a:pt x="4862" y="4490"/>
                </a:cubicBezTo>
                <a:cubicBezTo>
                  <a:pt x="4939" y="4426"/>
                  <a:pt x="4983" y="4377"/>
                  <a:pt x="5085" y="4415"/>
                </a:cubicBezTo>
                <a:cubicBezTo>
                  <a:pt x="5172" y="4447"/>
                  <a:pt x="5194" y="4485"/>
                  <a:pt x="5234" y="4564"/>
                </a:cubicBezTo>
                <a:cubicBezTo>
                  <a:pt x="5297" y="4689"/>
                  <a:pt x="5132" y="4803"/>
                  <a:pt x="5035" y="4862"/>
                </a:cubicBezTo>
                <a:cubicBezTo>
                  <a:pt x="4905" y="4940"/>
                  <a:pt x="4776" y="4979"/>
                  <a:pt x="4638" y="5035"/>
                </a:cubicBezTo>
                <a:cubicBezTo>
                  <a:pt x="4540" y="5075"/>
                  <a:pt x="4464" y="5111"/>
                  <a:pt x="4390" y="518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894120" y="3116160"/>
            <a:ext cx="347760" cy="393840"/>
          </a:xfrm>
          <a:custGeom>
            <a:avLst/>
            <a:gdLst/>
            <a:ahLst/>
            <a:rect l="l" t="t" r="r" b="b"/>
            <a:pathLst>
              <a:path w="968" h="1092">
                <a:moveTo>
                  <a:pt x="11559" y="8954"/>
                </a:moveTo>
                <a:cubicBezTo>
                  <a:pt x="11574" y="8975"/>
                  <a:pt x="11569" y="8983"/>
                  <a:pt x="11584" y="9004"/>
                </a:cubicBezTo>
                <a:cubicBezTo>
                  <a:pt x="11613" y="8956"/>
                  <a:pt x="11609" y="8942"/>
                  <a:pt x="11609" y="8880"/>
                </a:cubicBezTo>
                <a:cubicBezTo>
                  <a:pt x="11609" y="8814"/>
                  <a:pt x="11599" y="8763"/>
                  <a:pt x="11559" y="8706"/>
                </a:cubicBezTo>
                <a:cubicBezTo>
                  <a:pt x="11510" y="8636"/>
                  <a:pt x="11458" y="8655"/>
                  <a:pt x="11385" y="8682"/>
                </a:cubicBezTo>
                <a:cubicBezTo>
                  <a:pt x="11251" y="8732"/>
                  <a:pt x="11191" y="8778"/>
                  <a:pt x="11088" y="8880"/>
                </a:cubicBezTo>
                <a:cubicBezTo>
                  <a:pt x="10976" y="8991"/>
                  <a:pt x="10861" y="9180"/>
                  <a:pt x="10815" y="9327"/>
                </a:cubicBezTo>
                <a:cubicBezTo>
                  <a:pt x="10784" y="9427"/>
                  <a:pt x="10826" y="9528"/>
                  <a:pt x="10889" y="9599"/>
                </a:cubicBezTo>
                <a:cubicBezTo>
                  <a:pt x="10961" y="9680"/>
                  <a:pt x="11084" y="9699"/>
                  <a:pt x="11187" y="9723"/>
                </a:cubicBezTo>
                <a:cubicBezTo>
                  <a:pt x="11328" y="9756"/>
                  <a:pt x="11466" y="9748"/>
                  <a:pt x="11609" y="9748"/>
                </a:cubicBezTo>
                <a:cubicBezTo>
                  <a:pt x="11670" y="9748"/>
                  <a:pt x="11782" y="9784"/>
                  <a:pt x="11782" y="9723"/>
                </a:cubicBezTo>
                <a:cubicBezTo>
                  <a:pt x="11757" y="9674"/>
                  <a:pt x="11749" y="9657"/>
                  <a:pt x="11733" y="962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946760" y="2874960"/>
            <a:ext cx="2251080" cy="527040"/>
          </a:xfrm>
          <a:custGeom>
            <a:avLst/>
            <a:gdLst/>
            <a:ahLst/>
            <a:rect l="l" t="t" r="r" b="b"/>
            <a:pathLst>
              <a:path w="6252" h="1465">
                <a:moveTo>
                  <a:pt x="14039" y="8756"/>
                </a:moveTo>
                <a:cubicBezTo>
                  <a:pt x="14026" y="8783"/>
                  <a:pt x="13999" y="8749"/>
                  <a:pt x="13990" y="8731"/>
                </a:cubicBezTo>
                <a:cubicBezTo>
                  <a:pt x="13975" y="8700"/>
                  <a:pt x="13975" y="8693"/>
                  <a:pt x="13940" y="8682"/>
                </a:cubicBezTo>
                <a:cubicBezTo>
                  <a:pt x="13897" y="8724"/>
                  <a:pt x="13887" y="8754"/>
                  <a:pt x="13866" y="8806"/>
                </a:cubicBezTo>
                <a:cubicBezTo>
                  <a:pt x="13832" y="8891"/>
                  <a:pt x="13796" y="8940"/>
                  <a:pt x="13767" y="9029"/>
                </a:cubicBezTo>
                <a:cubicBezTo>
                  <a:pt x="13741" y="9106"/>
                  <a:pt x="13719" y="9228"/>
                  <a:pt x="13767" y="9302"/>
                </a:cubicBezTo>
                <a:cubicBezTo>
                  <a:pt x="13789" y="9336"/>
                  <a:pt x="13850" y="9398"/>
                  <a:pt x="13891" y="9401"/>
                </a:cubicBezTo>
                <a:cubicBezTo>
                  <a:pt x="13956" y="9406"/>
                  <a:pt x="14041" y="9369"/>
                  <a:pt x="14089" y="9327"/>
                </a:cubicBezTo>
                <a:cubicBezTo>
                  <a:pt x="14139" y="9277"/>
                  <a:pt x="14155" y="9261"/>
                  <a:pt x="14188" y="9227"/>
                </a:cubicBezTo>
              </a:path>
              <a:path w="6252" h="1465">
                <a:moveTo>
                  <a:pt x="14263" y="8930"/>
                </a:moveTo>
                <a:cubicBezTo>
                  <a:pt x="14248" y="9006"/>
                  <a:pt x="14194" y="9142"/>
                  <a:pt x="14213" y="9227"/>
                </a:cubicBezTo>
                <a:cubicBezTo>
                  <a:pt x="14223" y="9272"/>
                  <a:pt x="14250" y="9346"/>
                  <a:pt x="14288" y="9351"/>
                </a:cubicBezTo>
                <a:cubicBezTo>
                  <a:pt x="14337" y="9357"/>
                  <a:pt x="14402" y="9342"/>
                  <a:pt x="14436" y="9302"/>
                </a:cubicBezTo>
                <a:cubicBezTo>
                  <a:pt x="14503" y="9224"/>
                  <a:pt x="14546" y="9131"/>
                  <a:pt x="14560" y="9029"/>
                </a:cubicBezTo>
                <a:cubicBezTo>
                  <a:pt x="14565" y="8996"/>
                  <a:pt x="14517" y="8896"/>
                  <a:pt x="14486" y="8880"/>
                </a:cubicBezTo>
                <a:cubicBezTo>
                  <a:pt x="14447" y="8860"/>
                  <a:pt x="14384" y="8855"/>
                  <a:pt x="14337" y="8855"/>
                </a:cubicBezTo>
                <a:cubicBezTo>
                  <a:pt x="14318" y="8855"/>
                  <a:pt x="14245" y="8869"/>
                  <a:pt x="14288" y="8905"/>
                </a:cubicBezTo>
                <a:cubicBezTo>
                  <a:pt x="14316" y="8905"/>
                  <a:pt x="14326" y="8908"/>
                  <a:pt x="14337" y="8930"/>
                </a:cubicBezTo>
              </a:path>
              <a:path w="6252" h="1465">
                <a:moveTo>
                  <a:pt x="14932" y="8830"/>
                </a:moveTo>
                <a:cubicBezTo>
                  <a:pt x="14928" y="8822"/>
                  <a:pt x="14879" y="8816"/>
                  <a:pt x="14833" y="8830"/>
                </a:cubicBezTo>
                <a:cubicBezTo>
                  <a:pt x="14790" y="8843"/>
                  <a:pt x="14722" y="8890"/>
                  <a:pt x="14709" y="8905"/>
                </a:cubicBezTo>
                <a:cubicBezTo>
                  <a:pt x="14662" y="8959"/>
                  <a:pt x="14742" y="8972"/>
                  <a:pt x="14784" y="9004"/>
                </a:cubicBezTo>
                <a:cubicBezTo>
                  <a:pt x="14856" y="9059"/>
                  <a:pt x="14907" y="9097"/>
                  <a:pt x="14957" y="9178"/>
                </a:cubicBezTo>
                <a:cubicBezTo>
                  <a:pt x="14993" y="9236"/>
                  <a:pt x="14951" y="9286"/>
                  <a:pt x="14883" y="9302"/>
                </a:cubicBezTo>
                <a:cubicBezTo>
                  <a:pt x="14822" y="9316"/>
                  <a:pt x="14725" y="9345"/>
                  <a:pt x="14660" y="9327"/>
                </a:cubicBezTo>
                <a:cubicBezTo>
                  <a:pt x="14607" y="9312"/>
                  <a:pt x="14572" y="9274"/>
                  <a:pt x="14560" y="9227"/>
                </a:cubicBezTo>
              </a:path>
              <a:path w="6252" h="1465">
                <a:moveTo>
                  <a:pt x="15602" y="8384"/>
                </a:moveTo>
                <a:cubicBezTo>
                  <a:pt x="15625" y="8407"/>
                  <a:pt x="15633" y="8411"/>
                  <a:pt x="15627" y="8434"/>
                </a:cubicBezTo>
                <a:cubicBezTo>
                  <a:pt x="15617" y="8395"/>
                  <a:pt x="15602" y="8379"/>
                  <a:pt x="15602" y="8334"/>
                </a:cubicBezTo>
                <a:cubicBezTo>
                  <a:pt x="15602" y="8298"/>
                  <a:pt x="15552" y="8238"/>
                  <a:pt x="15528" y="8235"/>
                </a:cubicBezTo>
                <a:cubicBezTo>
                  <a:pt x="15489" y="8230"/>
                  <a:pt x="15423" y="8307"/>
                  <a:pt x="15404" y="8334"/>
                </a:cubicBezTo>
                <a:cubicBezTo>
                  <a:pt x="15337" y="8430"/>
                  <a:pt x="15313" y="8522"/>
                  <a:pt x="15280" y="8632"/>
                </a:cubicBezTo>
                <a:cubicBezTo>
                  <a:pt x="15244" y="8753"/>
                  <a:pt x="15209" y="8851"/>
                  <a:pt x="15205" y="8979"/>
                </a:cubicBezTo>
                <a:cubicBezTo>
                  <a:pt x="15201" y="9089"/>
                  <a:pt x="15232" y="9168"/>
                  <a:pt x="15280" y="9252"/>
                </a:cubicBezTo>
                <a:cubicBezTo>
                  <a:pt x="15322" y="9326"/>
                  <a:pt x="15379" y="9376"/>
                  <a:pt x="15478" y="9351"/>
                </a:cubicBezTo>
                <a:cubicBezTo>
                  <a:pt x="15508" y="9322"/>
                  <a:pt x="15523" y="9311"/>
                  <a:pt x="15553" y="9302"/>
                </a:cubicBezTo>
              </a:path>
              <a:path w="6252" h="1465">
                <a:moveTo>
                  <a:pt x="15677" y="8806"/>
                </a:moveTo>
                <a:cubicBezTo>
                  <a:pt x="15774" y="8819"/>
                  <a:pt x="15808" y="8806"/>
                  <a:pt x="15900" y="8806"/>
                </a:cubicBezTo>
                <a:cubicBezTo>
                  <a:pt x="15933" y="8806"/>
                  <a:pt x="15966" y="8806"/>
                  <a:pt x="15999" y="8806"/>
                </a:cubicBezTo>
              </a:path>
              <a:path w="6252" h="1465">
                <a:moveTo>
                  <a:pt x="15677" y="9029"/>
                </a:moveTo>
                <a:cubicBezTo>
                  <a:pt x="15724" y="9049"/>
                  <a:pt x="15797" y="9075"/>
                  <a:pt x="15850" y="9054"/>
                </a:cubicBezTo>
                <a:cubicBezTo>
                  <a:pt x="15883" y="9041"/>
                  <a:pt x="15921" y="9026"/>
                  <a:pt x="15949" y="9004"/>
                </a:cubicBezTo>
              </a:path>
              <a:path w="6252" h="1465">
                <a:moveTo>
                  <a:pt x="16694" y="8979"/>
                </a:moveTo>
                <a:cubicBezTo>
                  <a:pt x="16648" y="9025"/>
                  <a:pt x="16694" y="8973"/>
                  <a:pt x="16694" y="8930"/>
                </a:cubicBezTo>
                <a:cubicBezTo>
                  <a:pt x="16694" y="8869"/>
                  <a:pt x="16664" y="8865"/>
                  <a:pt x="16644" y="8806"/>
                </a:cubicBezTo>
                <a:cubicBezTo>
                  <a:pt x="16630" y="8765"/>
                  <a:pt x="16603" y="8731"/>
                  <a:pt x="16545" y="8756"/>
                </a:cubicBezTo>
                <a:cubicBezTo>
                  <a:pt x="16470" y="8787"/>
                  <a:pt x="16466" y="8848"/>
                  <a:pt x="16421" y="8905"/>
                </a:cubicBezTo>
                <a:cubicBezTo>
                  <a:pt x="16343" y="9004"/>
                  <a:pt x="16296" y="9124"/>
                  <a:pt x="16272" y="9252"/>
                </a:cubicBezTo>
                <a:cubicBezTo>
                  <a:pt x="16266" y="9287"/>
                  <a:pt x="16285" y="9383"/>
                  <a:pt x="16321" y="9401"/>
                </a:cubicBezTo>
                <a:cubicBezTo>
                  <a:pt x="16374" y="9428"/>
                  <a:pt x="16414" y="9383"/>
                  <a:pt x="16446" y="9351"/>
                </a:cubicBezTo>
                <a:cubicBezTo>
                  <a:pt x="16490" y="9307"/>
                  <a:pt x="16547" y="9236"/>
                  <a:pt x="16570" y="9178"/>
                </a:cubicBezTo>
                <a:cubicBezTo>
                  <a:pt x="16589" y="9129"/>
                  <a:pt x="16594" y="9083"/>
                  <a:pt x="16594" y="9029"/>
                </a:cubicBezTo>
                <a:cubicBezTo>
                  <a:pt x="16594" y="9021"/>
                  <a:pt x="16594" y="9012"/>
                  <a:pt x="16594" y="9004"/>
                </a:cubicBezTo>
                <a:cubicBezTo>
                  <a:pt x="16579" y="9084"/>
                  <a:pt x="16575" y="9076"/>
                  <a:pt x="16594" y="9153"/>
                </a:cubicBezTo>
                <a:cubicBezTo>
                  <a:pt x="16603" y="9189"/>
                  <a:pt x="16658" y="9298"/>
                  <a:pt x="16694" y="9327"/>
                </a:cubicBezTo>
                <a:cubicBezTo>
                  <a:pt x="16729" y="9355"/>
                  <a:pt x="16752" y="9358"/>
                  <a:pt x="16793" y="9376"/>
                </a:cubicBezTo>
                <a:cubicBezTo>
                  <a:pt x="16819" y="9387"/>
                  <a:pt x="16828" y="9346"/>
                  <a:pt x="16842" y="9327"/>
                </a:cubicBezTo>
              </a:path>
              <a:path w="6252" h="1465">
                <a:moveTo>
                  <a:pt x="16842" y="8062"/>
                </a:moveTo>
                <a:cubicBezTo>
                  <a:pt x="16842" y="8037"/>
                  <a:pt x="16842" y="8029"/>
                  <a:pt x="16867" y="8037"/>
                </a:cubicBezTo>
              </a:path>
              <a:path w="6252" h="1465">
                <a:moveTo>
                  <a:pt x="16818" y="8037"/>
                </a:moveTo>
                <a:cubicBezTo>
                  <a:pt x="16838" y="8021"/>
                  <a:pt x="16927" y="7984"/>
                  <a:pt x="16942" y="7987"/>
                </a:cubicBezTo>
                <a:cubicBezTo>
                  <a:pt x="16964" y="7991"/>
                  <a:pt x="17030" y="8037"/>
                  <a:pt x="17041" y="8062"/>
                </a:cubicBezTo>
                <a:cubicBezTo>
                  <a:pt x="17058" y="8099"/>
                  <a:pt x="17034" y="8136"/>
                  <a:pt x="17016" y="8161"/>
                </a:cubicBezTo>
                <a:cubicBezTo>
                  <a:pt x="16979" y="8214"/>
                  <a:pt x="16893" y="8253"/>
                  <a:pt x="16867" y="8310"/>
                </a:cubicBezTo>
                <a:cubicBezTo>
                  <a:pt x="16851" y="8344"/>
                  <a:pt x="16854" y="8322"/>
                  <a:pt x="16842" y="8359"/>
                </a:cubicBezTo>
                <a:cubicBezTo>
                  <a:pt x="16917" y="8359"/>
                  <a:pt x="16972" y="8351"/>
                  <a:pt x="17041" y="8334"/>
                </a:cubicBezTo>
                <a:cubicBezTo>
                  <a:pt x="17066" y="8334"/>
                  <a:pt x="17074" y="8334"/>
                  <a:pt x="17090" y="8334"/>
                </a:cubicBezTo>
              </a:path>
              <a:path w="6252" h="1465">
                <a:moveTo>
                  <a:pt x="17388" y="8533"/>
                </a:moveTo>
                <a:cubicBezTo>
                  <a:pt x="17388" y="8678"/>
                  <a:pt x="17396" y="8817"/>
                  <a:pt x="17413" y="8954"/>
                </a:cubicBezTo>
                <a:cubicBezTo>
                  <a:pt x="17421" y="9018"/>
                  <a:pt x="17413" y="9088"/>
                  <a:pt x="17413" y="9153"/>
                </a:cubicBezTo>
                <a:cubicBezTo>
                  <a:pt x="17377" y="9141"/>
                  <a:pt x="17392" y="9116"/>
                  <a:pt x="17363" y="9079"/>
                </a:cubicBezTo>
              </a:path>
              <a:path w="6252" h="1465">
                <a:moveTo>
                  <a:pt x="17140" y="8905"/>
                </a:moveTo>
                <a:cubicBezTo>
                  <a:pt x="17252" y="8905"/>
                  <a:pt x="17357" y="8894"/>
                  <a:pt x="17462" y="8880"/>
                </a:cubicBezTo>
                <a:cubicBezTo>
                  <a:pt x="17487" y="8880"/>
                  <a:pt x="17512" y="8880"/>
                  <a:pt x="17537" y="8880"/>
                </a:cubicBezTo>
              </a:path>
              <a:path w="6252" h="1465">
                <a:moveTo>
                  <a:pt x="17835" y="8310"/>
                </a:moveTo>
                <a:cubicBezTo>
                  <a:pt x="17814" y="8415"/>
                  <a:pt x="17797" y="8527"/>
                  <a:pt x="17785" y="8632"/>
                </a:cubicBezTo>
                <a:cubicBezTo>
                  <a:pt x="17772" y="8749"/>
                  <a:pt x="17760" y="8860"/>
                  <a:pt x="17760" y="8979"/>
                </a:cubicBezTo>
                <a:cubicBezTo>
                  <a:pt x="17760" y="9081"/>
                  <a:pt x="17735" y="9173"/>
                  <a:pt x="17735" y="9277"/>
                </a:cubicBezTo>
                <a:cubicBezTo>
                  <a:pt x="17735" y="9285"/>
                  <a:pt x="17735" y="9294"/>
                  <a:pt x="17735" y="9302"/>
                </a:cubicBezTo>
                <a:cubicBezTo>
                  <a:pt x="17759" y="9270"/>
                  <a:pt x="17778" y="9213"/>
                  <a:pt x="17785" y="9178"/>
                </a:cubicBezTo>
                <a:cubicBezTo>
                  <a:pt x="17799" y="9109"/>
                  <a:pt x="17817" y="9041"/>
                  <a:pt x="17859" y="8979"/>
                </a:cubicBezTo>
                <a:cubicBezTo>
                  <a:pt x="17887" y="8937"/>
                  <a:pt x="17932" y="8914"/>
                  <a:pt x="17983" y="8930"/>
                </a:cubicBezTo>
                <a:cubicBezTo>
                  <a:pt x="18054" y="8953"/>
                  <a:pt x="18072" y="9038"/>
                  <a:pt x="18083" y="9103"/>
                </a:cubicBezTo>
                <a:cubicBezTo>
                  <a:pt x="18091" y="9151"/>
                  <a:pt x="18062" y="9263"/>
                  <a:pt x="18033" y="9302"/>
                </a:cubicBezTo>
                <a:cubicBezTo>
                  <a:pt x="17985" y="9368"/>
                  <a:pt x="17857" y="9424"/>
                  <a:pt x="17785" y="9451"/>
                </a:cubicBezTo>
                <a:cubicBezTo>
                  <a:pt x="17748" y="9465"/>
                  <a:pt x="17687" y="9444"/>
                  <a:pt x="17661" y="9426"/>
                </a:cubicBezTo>
                <a:cubicBezTo>
                  <a:pt x="17638" y="9403"/>
                  <a:pt x="17630" y="9399"/>
                  <a:pt x="17636" y="9376"/>
                </a:cubicBezTo>
              </a:path>
              <a:path w="6252" h="1465">
                <a:moveTo>
                  <a:pt x="18231" y="8186"/>
                </a:moveTo>
                <a:cubicBezTo>
                  <a:pt x="18265" y="8173"/>
                  <a:pt x="18340" y="8138"/>
                  <a:pt x="18380" y="8161"/>
                </a:cubicBezTo>
                <a:cubicBezTo>
                  <a:pt x="18434" y="8191"/>
                  <a:pt x="18449" y="8192"/>
                  <a:pt x="18455" y="8260"/>
                </a:cubicBezTo>
                <a:cubicBezTo>
                  <a:pt x="18459" y="8302"/>
                  <a:pt x="18408" y="8331"/>
                  <a:pt x="18380" y="8359"/>
                </a:cubicBezTo>
                <a:cubicBezTo>
                  <a:pt x="18338" y="8401"/>
                  <a:pt x="18269" y="8420"/>
                  <a:pt x="18256" y="8458"/>
                </a:cubicBezTo>
                <a:cubicBezTo>
                  <a:pt x="18364" y="8458"/>
                  <a:pt x="18421" y="8458"/>
                  <a:pt x="18529" y="8458"/>
                </a:cubicBezTo>
                <a:cubicBezTo>
                  <a:pt x="18554" y="8458"/>
                  <a:pt x="18562" y="8458"/>
                  <a:pt x="18554" y="8483"/>
                </a:cubicBezTo>
              </a:path>
              <a:path w="6252" h="1465">
                <a:moveTo>
                  <a:pt x="18405" y="8930"/>
                </a:moveTo>
                <a:cubicBezTo>
                  <a:pt x="18458" y="8943"/>
                  <a:pt x="18491" y="8954"/>
                  <a:pt x="18554" y="8954"/>
                </a:cubicBezTo>
                <a:cubicBezTo>
                  <a:pt x="18595" y="8954"/>
                  <a:pt x="18637" y="8954"/>
                  <a:pt x="18678" y="8954"/>
                </a:cubicBezTo>
              </a:path>
              <a:path w="6252" h="1465">
                <a:moveTo>
                  <a:pt x="19323" y="8830"/>
                </a:moveTo>
                <a:cubicBezTo>
                  <a:pt x="19268" y="8867"/>
                  <a:pt x="19309" y="8823"/>
                  <a:pt x="19273" y="8806"/>
                </a:cubicBezTo>
                <a:cubicBezTo>
                  <a:pt x="19245" y="8793"/>
                  <a:pt x="19239" y="8769"/>
                  <a:pt x="19199" y="8756"/>
                </a:cubicBezTo>
                <a:cubicBezTo>
                  <a:pt x="19177" y="8749"/>
                  <a:pt x="19092" y="8816"/>
                  <a:pt x="19075" y="8830"/>
                </a:cubicBezTo>
                <a:cubicBezTo>
                  <a:pt x="18977" y="8911"/>
                  <a:pt x="18914" y="9019"/>
                  <a:pt x="18852" y="9128"/>
                </a:cubicBezTo>
                <a:cubicBezTo>
                  <a:pt x="18817" y="9188"/>
                  <a:pt x="18820" y="9275"/>
                  <a:pt x="18876" y="9327"/>
                </a:cubicBezTo>
                <a:cubicBezTo>
                  <a:pt x="18943" y="9389"/>
                  <a:pt x="19042" y="9376"/>
                  <a:pt x="19124" y="9376"/>
                </a:cubicBezTo>
                <a:cubicBezTo>
                  <a:pt x="19233" y="9376"/>
                  <a:pt x="19275" y="9324"/>
                  <a:pt x="19348" y="9252"/>
                </a:cubicBezTo>
              </a:path>
              <a:path w="6252" h="1465">
                <a:moveTo>
                  <a:pt x="19596" y="8310"/>
                </a:moveTo>
                <a:cubicBezTo>
                  <a:pt x="19717" y="8325"/>
                  <a:pt x="19759" y="8308"/>
                  <a:pt x="19769" y="8434"/>
                </a:cubicBezTo>
                <a:cubicBezTo>
                  <a:pt x="19773" y="8487"/>
                  <a:pt x="19728" y="8545"/>
                  <a:pt x="19695" y="8582"/>
                </a:cubicBezTo>
                <a:cubicBezTo>
                  <a:pt x="19663" y="8617"/>
                  <a:pt x="19631" y="8625"/>
                  <a:pt x="19621" y="8657"/>
                </a:cubicBezTo>
                <a:cubicBezTo>
                  <a:pt x="19683" y="8670"/>
                  <a:pt x="19728" y="8682"/>
                  <a:pt x="19794" y="8682"/>
                </a:cubicBezTo>
                <a:cubicBezTo>
                  <a:pt x="19882" y="8682"/>
                  <a:pt x="19924" y="8676"/>
                  <a:pt x="19993" y="873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830920" y="3463920"/>
            <a:ext cx="1063440" cy="474840"/>
          </a:xfrm>
          <a:custGeom>
            <a:avLst/>
            <a:gdLst/>
            <a:ahLst/>
            <a:rect l="l" t="t" r="r" b="b"/>
            <a:pathLst>
              <a:path w="2953" h="1316">
                <a:moveTo>
                  <a:pt x="16197" y="9624"/>
                </a:moveTo>
                <a:cubicBezTo>
                  <a:pt x="16262" y="9673"/>
                  <a:pt x="16265" y="9660"/>
                  <a:pt x="16346" y="9674"/>
                </a:cubicBezTo>
                <a:cubicBezTo>
                  <a:pt x="16535" y="9708"/>
                  <a:pt x="16723" y="9699"/>
                  <a:pt x="16917" y="9699"/>
                </a:cubicBezTo>
                <a:cubicBezTo>
                  <a:pt x="17655" y="9699"/>
                  <a:pt x="19340" y="10379"/>
                  <a:pt x="19124" y="9674"/>
                </a:cubicBezTo>
                <a:cubicBezTo>
                  <a:pt x="19165" y="9674"/>
                  <a:pt x="19157" y="9674"/>
                  <a:pt x="19075" y="9674"/>
                </a:cubicBezTo>
              </a:path>
              <a:path w="2953" h="1316">
                <a:moveTo>
                  <a:pt x="16644" y="10294"/>
                </a:moveTo>
                <a:cubicBezTo>
                  <a:pt x="16715" y="10265"/>
                  <a:pt x="16791" y="10211"/>
                  <a:pt x="16867" y="10195"/>
                </a:cubicBezTo>
                <a:cubicBezTo>
                  <a:pt x="16943" y="10179"/>
                  <a:pt x="16990" y="10193"/>
                  <a:pt x="17041" y="10244"/>
                </a:cubicBezTo>
                <a:cubicBezTo>
                  <a:pt x="17089" y="10292"/>
                  <a:pt x="17075" y="10310"/>
                  <a:pt x="17066" y="10368"/>
                </a:cubicBezTo>
                <a:cubicBezTo>
                  <a:pt x="17055" y="10438"/>
                  <a:pt x="17015" y="10468"/>
                  <a:pt x="16966" y="10517"/>
                </a:cubicBezTo>
                <a:cubicBezTo>
                  <a:pt x="16908" y="10575"/>
                  <a:pt x="16865" y="10628"/>
                  <a:pt x="16818" y="10691"/>
                </a:cubicBezTo>
                <a:cubicBezTo>
                  <a:pt x="16799" y="10717"/>
                  <a:pt x="16773" y="10779"/>
                  <a:pt x="16793" y="10815"/>
                </a:cubicBezTo>
                <a:cubicBezTo>
                  <a:pt x="16834" y="10889"/>
                  <a:pt x="16921" y="10864"/>
                  <a:pt x="16991" y="10864"/>
                </a:cubicBezTo>
                <a:cubicBezTo>
                  <a:pt x="17013" y="10864"/>
                  <a:pt x="17096" y="10913"/>
                  <a:pt x="17115" y="10889"/>
                </a:cubicBezTo>
                <a:cubicBezTo>
                  <a:pt x="17115" y="10881"/>
                  <a:pt x="17115" y="10872"/>
                  <a:pt x="17115" y="10864"/>
                </a:cubicBezTo>
              </a:path>
              <a:path w="2953" h="1316">
                <a:moveTo>
                  <a:pt x="17686" y="10542"/>
                </a:moveTo>
                <a:cubicBezTo>
                  <a:pt x="17724" y="10503"/>
                  <a:pt x="17741" y="10502"/>
                  <a:pt x="17735" y="10468"/>
                </a:cubicBezTo>
                <a:cubicBezTo>
                  <a:pt x="17689" y="10433"/>
                  <a:pt x="17682" y="10437"/>
                  <a:pt x="17636" y="10468"/>
                </a:cubicBezTo>
                <a:cubicBezTo>
                  <a:pt x="17496" y="10563"/>
                  <a:pt x="17465" y="10584"/>
                  <a:pt x="17413" y="10716"/>
                </a:cubicBezTo>
                <a:cubicBezTo>
                  <a:pt x="17400" y="10748"/>
                  <a:pt x="17383" y="10847"/>
                  <a:pt x="17438" y="10864"/>
                </a:cubicBezTo>
                <a:cubicBezTo>
                  <a:pt x="17483" y="10878"/>
                  <a:pt x="17554" y="10866"/>
                  <a:pt x="17587" y="10840"/>
                </a:cubicBezTo>
                <a:cubicBezTo>
                  <a:pt x="17632" y="10804"/>
                  <a:pt x="17653" y="10760"/>
                  <a:pt x="17686" y="10716"/>
                </a:cubicBezTo>
                <a:cubicBezTo>
                  <a:pt x="17706" y="10689"/>
                  <a:pt x="17711" y="10621"/>
                  <a:pt x="17711" y="10666"/>
                </a:cubicBezTo>
                <a:cubicBezTo>
                  <a:pt x="17711" y="10710"/>
                  <a:pt x="17713" y="10756"/>
                  <a:pt x="17735" y="10790"/>
                </a:cubicBezTo>
                <a:cubicBezTo>
                  <a:pt x="17776" y="10851"/>
                  <a:pt x="17847" y="10840"/>
                  <a:pt x="17909" y="10840"/>
                </a:cubicBezTo>
                <a:cubicBezTo>
                  <a:pt x="18001" y="10840"/>
                  <a:pt x="18094" y="10812"/>
                  <a:pt x="18157" y="10740"/>
                </a:cubicBezTo>
                <a:cubicBezTo>
                  <a:pt x="18174" y="10715"/>
                  <a:pt x="18190" y="10691"/>
                  <a:pt x="18207" y="10666"/>
                </a:cubicBezTo>
              </a:path>
              <a:path w="2953" h="1316">
                <a:moveTo>
                  <a:pt x="18256" y="10220"/>
                </a:moveTo>
                <a:cubicBezTo>
                  <a:pt x="18236" y="10381"/>
                  <a:pt x="18235" y="10466"/>
                  <a:pt x="18256" y="10616"/>
                </a:cubicBezTo>
                <a:cubicBezTo>
                  <a:pt x="18264" y="10675"/>
                  <a:pt x="18275" y="10734"/>
                  <a:pt x="18281" y="10790"/>
                </a:cubicBezTo>
                <a:cubicBezTo>
                  <a:pt x="18281" y="10815"/>
                  <a:pt x="18281" y="10823"/>
                  <a:pt x="18281" y="10840"/>
                </a:cubicBezTo>
                <a:cubicBezTo>
                  <a:pt x="18320" y="10827"/>
                  <a:pt x="18309" y="10766"/>
                  <a:pt x="18331" y="10716"/>
                </a:cubicBezTo>
                <a:cubicBezTo>
                  <a:pt x="18375" y="10616"/>
                  <a:pt x="18431" y="10551"/>
                  <a:pt x="18554" y="10567"/>
                </a:cubicBezTo>
                <a:cubicBezTo>
                  <a:pt x="18652" y="10580"/>
                  <a:pt x="18693" y="10665"/>
                  <a:pt x="18728" y="10740"/>
                </a:cubicBezTo>
                <a:cubicBezTo>
                  <a:pt x="18760" y="10809"/>
                  <a:pt x="18770" y="10887"/>
                  <a:pt x="18678" y="10914"/>
                </a:cubicBezTo>
                <a:cubicBezTo>
                  <a:pt x="18598" y="10937"/>
                  <a:pt x="18505" y="10919"/>
                  <a:pt x="18430" y="10914"/>
                </a:cubicBezTo>
                <a:cubicBezTo>
                  <a:pt x="18338" y="10914"/>
                  <a:pt x="18311" y="10916"/>
                  <a:pt x="18256" y="10889"/>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990880" y="1990800"/>
            <a:ext cx="250920" cy="403200"/>
          </a:xfrm>
          <a:custGeom>
            <a:avLst/>
            <a:gdLst/>
            <a:ahLst/>
            <a:rect l="l" t="t" r="r" b="b"/>
            <a:pathLst>
              <a:path w="695" h="1118">
                <a:moveTo>
                  <a:pt x="8979" y="5978"/>
                </a:moveTo>
                <a:cubicBezTo>
                  <a:pt x="8972" y="5932"/>
                  <a:pt x="8969" y="5897"/>
                  <a:pt x="8954" y="5854"/>
                </a:cubicBezTo>
                <a:cubicBezTo>
                  <a:pt x="8937" y="5804"/>
                  <a:pt x="8887" y="5721"/>
                  <a:pt x="8855" y="5680"/>
                </a:cubicBezTo>
                <a:cubicBezTo>
                  <a:pt x="8809" y="5620"/>
                  <a:pt x="8762" y="5549"/>
                  <a:pt x="8682" y="5531"/>
                </a:cubicBezTo>
                <a:cubicBezTo>
                  <a:pt x="8597" y="5512"/>
                  <a:pt x="8522" y="5554"/>
                  <a:pt x="8458" y="5606"/>
                </a:cubicBezTo>
                <a:cubicBezTo>
                  <a:pt x="8404" y="5650"/>
                  <a:pt x="8324" y="5785"/>
                  <a:pt x="8310" y="5854"/>
                </a:cubicBezTo>
                <a:cubicBezTo>
                  <a:pt x="8300" y="5904"/>
                  <a:pt x="8289" y="6042"/>
                  <a:pt x="8334" y="6077"/>
                </a:cubicBezTo>
                <a:cubicBezTo>
                  <a:pt x="8387" y="6118"/>
                  <a:pt x="8491" y="6146"/>
                  <a:pt x="8558" y="6127"/>
                </a:cubicBezTo>
                <a:cubicBezTo>
                  <a:pt x="8619" y="6110"/>
                  <a:pt x="8695" y="6048"/>
                  <a:pt x="8731" y="6003"/>
                </a:cubicBezTo>
                <a:cubicBezTo>
                  <a:pt x="8777" y="5945"/>
                  <a:pt x="8785" y="5865"/>
                  <a:pt x="8806" y="5804"/>
                </a:cubicBezTo>
                <a:cubicBezTo>
                  <a:pt x="8820" y="5763"/>
                  <a:pt x="8817" y="5771"/>
                  <a:pt x="8830" y="5730"/>
                </a:cubicBezTo>
                <a:cubicBezTo>
                  <a:pt x="8825" y="5811"/>
                  <a:pt x="8796" y="5898"/>
                  <a:pt x="8806" y="5978"/>
                </a:cubicBezTo>
                <a:cubicBezTo>
                  <a:pt x="8817" y="6072"/>
                  <a:pt x="8827" y="6217"/>
                  <a:pt x="8880" y="6300"/>
                </a:cubicBezTo>
                <a:cubicBezTo>
                  <a:pt x="8929" y="6377"/>
                  <a:pt x="8951" y="6415"/>
                  <a:pt x="8979" y="6499"/>
                </a:cubicBezTo>
                <a:cubicBezTo>
                  <a:pt x="9003" y="6569"/>
                  <a:pt x="8987" y="6583"/>
                  <a:pt x="8930" y="6623"/>
                </a:cubicBezTo>
                <a:cubicBezTo>
                  <a:pt x="8913" y="6631"/>
                  <a:pt x="8897" y="6640"/>
                  <a:pt x="8880" y="664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045040" y="1330200"/>
            <a:ext cx="3929040" cy="1251000"/>
          </a:xfrm>
          <a:custGeom>
            <a:avLst/>
            <a:gdLst/>
            <a:ahLst/>
            <a:rect l="l" t="t" r="r" b="b"/>
            <a:pathLst>
              <a:path w="10915" h="3474">
                <a:moveTo>
                  <a:pt x="20241" y="7169"/>
                </a:moveTo>
                <a:cubicBezTo>
                  <a:pt x="20269" y="7123"/>
                  <a:pt x="20246" y="7140"/>
                  <a:pt x="20290" y="7094"/>
                </a:cubicBezTo>
                <a:cubicBezTo>
                  <a:pt x="20326" y="7056"/>
                  <a:pt x="20370" y="7021"/>
                  <a:pt x="20414" y="6995"/>
                </a:cubicBezTo>
                <a:cubicBezTo>
                  <a:pt x="20494" y="6948"/>
                  <a:pt x="20583" y="6915"/>
                  <a:pt x="20662" y="6871"/>
                </a:cubicBezTo>
                <a:cubicBezTo>
                  <a:pt x="20784" y="6803"/>
                  <a:pt x="20905" y="6729"/>
                  <a:pt x="21034" y="6672"/>
                </a:cubicBezTo>
                <a:cubicBezTo>
                  <a:pt x="21208" y="6596"/>
                  <a:pt x="21386" y="6512"/>
                  <a:pt x="21555" y="6424"/>
                </a:cubicBezTo>
                <a:cubicBezTo>
                  <a:pt x="21736" y="6330"/>
                  <a:pt x="21916" y="6237"/>
                  <a:pt x="22101" y="6152"/>
                </a:cubicBezTo>
                <a:cubicBezTo>
                  <a:pt x="22255" y="6081"/>
                  <a:pt x="22422" y="6032"/>
                  <a:pt x="22572" y="5953"/>
                </a:cubicBezTo>
                <a:cubicBezTo>
                  <a:pt x="22675" y="5899"/>
                  <a:pt x="22772" y="5841"/>
                  <a:pt x="22870" y="5779"/>
                </a:cubicBezTo>
                <a:cubicBezTo>
                  <a:pt x="22978" y="5710"/>
                  <a:pt x="22925" y="5710"/>
                  <a:pt x="22845" y="5730"/>
                </a:cubicBezTo>
                <a:cubicBezTo>
                  <a:pt x="22837" y="5738"/>
                  <a:pt x="22828" y="5747"/>
                  <a:pt x="22820" y="5755"/>
                </a:cubicBezTo>
              </a:path>
              <a:path w="10915" h="3474">
                <a:moveTo>
                  <a:pt x="23093" y="5383"/>
                </a:moveTo>
                <a:cubicBezTo>
                  <a:pt x="23093" y="5552"/>
                  <a:pt x="23097" y="5727"/>
                  <a:pt x="23068" y="5879"/>
                </a:cubicBezTo>
                <a:cubicBezTo>
                  <a:pt x="23056" y="5943"/>
                  <a:pt x="23079" y="5929"/>
                  <a:pt x="23044" y="5978"/>
                </a:cubicBezTo>
                <a:cubicBezTo>
                  <a:pt x="23044" y="5945"/>
                  <a:pt x="23044" y="5912"/>
                  <a:pt x="23044" y="5879"/>
                </a:cubicBezTo>
              </a:path>
              <a:path w="10915" h="3474">
                <a:moveTo>
                  <a:pt x="23168" y="5482"/>
                </a:moveTo>
                <a:cubicBezTo>
                  <a:pt x="23222" y="5427"/>
                  <a:pt x="23241" y="5389"/>
                  <a:pt x="23316" y="5383"/>
                </a:cubicBezTo>
                <a:cubicBezTo>
                  <a:pt x="23353" y="5380"/>
                  <a:pt x="23397" y="5446"/>
                  <a:pt x="23391" y="5482"/>
                </a:cubicBezTo>
                <a:cubicBezTo>
                  <a:pt x="23382" y="5533"/>
                  <a:pt x="23329" y="5597"/>
                  <a:pt x="23316" y="5655"/>
                </a:cubicBezTo>
                <a:cubicBezTo>
                  <a:pt x="23302" y="5719"/>
                  <a:pt x="23292" y="5787"/>
                  <a:pt x="23292" y="5854"/>
                </a:cubicBezTo>
                <a:cubicBezTo>
                  <a:pt x="23292" y="5885"/>
                  <a:pt x="23332" y="5900"/>
                  <a:pt x="23366" y="5904"/>
                </a:cubicBezTo>
                <a:cubicBezTo>
                  <a:pt x="23418" y="5910"/>
                  <a:pt x="23477" y="5853"/>
                  <a:pt x="23515" y="5829"/>
                </a:cubicBezTo>
              </a:path>
              <a:path w="10915" h="3474">
                <a:moveTo>
                  <a:pt x="23614" y="5432"/>
                </a:moveTo>
                <a:cubicBezTo>
                  <a:pt x="23572" y="5540"/>
                  <a:pt x="23511" y="5658"/>
                  <a:pt x="23540" y="5779"/>
                </a:cubicBezTo>
                <a:cubicBezTo>
                  <a:pt x="23555" y="5842"/>
                  <a:pt x="23559" y="5854"/>
                  <a:pt x="23614" y="5854"/>
                </a:cubicBezTo>
                <a:cubicBezTo>
                  <a:pt x="23665" y="5854"/>
                  <a:pt x="23673" y="5814"/>
                  <a:pt x="23688" y="5779"/>
                </a:cubicBezTo>
                <a:cubicBezTo>
                  <a:pt x="23711" y="5727"/>
                  <a:pt x="23713" y="5709"/>
                  <a:pt x="23713" y="5655"/>
                </a:cubicBezTo>
                <a:cubicBezTo>
                  <a:pt x="23713" y="5634"/>
                  <a:pt x="23657" y="5572"/>
                  <a:pt x="23639" y="5581"/>
                </a:cubicBezTo>
                <a:cubicBezTo>
                  <a:pt x="23625" y="5588"/>
                  <a:pt x="23639" y="5584"/>
                  <a:pt x="23639" y="5606"/>
                </a:cubicBezTo>
              </a:path>
              <a:path w="10915" h="3474">
                <a:moveTo>
                  <a:pt x="23664" y="5407"/>
                </a:moveTo>
                <a:cubicBezTo>
                  <a:pt x="23526" y="5339"/>
                  <a:pt x="23470" y="5338"/>
                  <a:pt x="23316" y="5358"/>
                </a:cubicBezTo>
                <a:cubicBezTo>
                  <a:pt x="22959" y="5405"/>
                  <a:pt x="22630" y="5520"/>
                  <a:pt x="22299" y="5655"/>
                </a:cubicBezTo>
              </a:path>
              <a:path w="10915" h="3474">
                <a:moveTo>
                  <a:pt x="22746" y="5432"/>
                </a:moveTo>
                <a:cubicBezTo>
                  <a:pt x="22800" y="5392"/>
                  <a:pt x="22848" y="5386"/>
                  <a:pt x="22920" y="5383"/>
                </a:cubicBezTo>
                <a:cubicBezTo>
                  <a:pt x="23026" y="5378"/>
                  <a:pt x="23091" y="5350"/>
                  <a:pt x="23192" y="5383"/>
                </a:cubicBezTo>
                <a:cubicBezTo>
                  <a:pt x="23282" y="5412"/>
                  <a:pt x="23274" y="5407"/>
                  <a:pt x="23316" y="5482"/>
                </a:cubicBezTo>
                <a:cubicBezTo>
                  <a:pt x="23252" y="5534"/>
                  <a:pt x="23188" y="5566"/>
                  <a:pt x="23118" y="5606"/>
                </a:cubicBezTo>
                <a:cubicBezTo>
                  <a:pt x="23036" y="5653"/>
                  <a:pt x="22960" y="5684"/>
                  <a:pt x="22870" y="5705"/>
                </a:cubicBezTo>
                <a:cubicBezTo>
                  <a:pt x="22862" y="5705"/>
                  <a:pt x="22853" y="5705"/>
                  <a:pt x="22845" y="5705"/>
                </a:cubicBezTo>
                <a:cubicBezTo>
                  <a:pt x="22894" y="5742"/>
                  <a:pt x="22927" y="5730"/>
                  <a:pt x="22994" y="5730"/>
                </a:cubicBezTo>
                <a:cubicBezTo>
                  <a:pt x="23095" y="5730"/>
                  <a:pt x="23166" y="5764"/>
                  <a:pt x="23242" y="5829"/>
                </a:cubicBezTo>
                <a:cubicBezTo>
                  <a:pt x="23306" y="5884"/>
                  <a:pt x="23258" y="5937"/>
                  <a:pt x="23217" y="5978"/>
                </a:cubicBezTo>
                <a:cubicBezTo>
                  <a:pt x="23135" y="6061"/>
                  <a:pt x="23037" y="6091"/>
                  <a:pt x="22920" y="6102"/>
                </a:cubicBezTo>
                <a:cubicBezTo>
                  <a:pt x="22866" y="6107"/>
                  <a:pt x="22857" y="6114"/>
                  <a:pt x="22845" y="6077"/>
                </a:cubicBezTo>
              </a:path>
              <a:path w="10915" h="3474">
                <a:moveTo>
                  <a:pt x="23465" y="5432"/>
                </a:moveTo>
                <a:cubicBezTo>
                  <a:pt x="23465" y="5553"/>
                  <a:pt x="23424" y="5659"/>
                  <a:pt x="23416" y="5779"/>
                </a:cubicBezTo>
                <a:cubicBezTo>
                  <a:pt x="23410" y="5872"/>
                  <a:pt x="23428" y="5907"/>
                  <a:pt x="23515" y="5928"/>
                </a:cubicBezTo>
                <a:cubicBezTo>
                  <a:pt x="23566" y="5940"/>
                  <a:pt x="23672" y="5886"/>
                  <a:pt x="23713" y="5854"/>
                </a:cubicBezTo>
                <a:cubicBezTo>
                  <a:pt x="23776" y="5805"/>
                  <a:pt x="23822" y="5685"/>
                  <a:pt x="23837" y="5606"/>
                </a:cubicBezTo>
                <a:cubicBezTo>
                  <a:pt x="23852" y="5526"/>
                  <a:pt x="23798" y="5489"/>
                  <a:pt x="23738" y="5457"/>
                </a:cubicBezTo>
                <a:cubicBezTo>
                  <a:pt x="23676" y="5424"/>
                  <a:pt x="23607" y="5394"/>
                  <a:pt x="23540" y="5383"/>
                </a:cubicBezTo>
                <a:cubicBezTo>
                  <a:pt x="23510" y="5378"/>
                  <a:pt x="23471" y="5383"/>
                  <a:pt x="23440" y="5383"/>
                </a:cubicBezTo>
              </a:path>
              <a:path w="10915" h="3474">
                <a:moveTo>
                  <a:pt x="23961" y="4862"/>
                </a:moveTo>
                <a:cubicBezTo>
                  <a:pt x="23942" y="4892"/>
                  <a:pt x="23859" y="4985"/>
                  <a:pt x="23887" y="5035"/>
                </a:cubicBezTo>
                <a:cubicBezTo>
                  <a:pt x="23895" y="5043"/>
                  <a:pt x="23904" y="5052"/>
                  <a:pt x="23912" y="5060"/>
                </a:cubicBezTo>
                <a:cubicBezTo>
                  <a:pt x="23969" y="5046"/>
                  <a:pt x="24025" y="4988"/>
                  <a:pt x="24061" y="4936"/>
                </a:cubicBezTo>
                <a:cubicBezTo>
                  <a:pt x="24099" y="4881"/>
                  <a:pt x="24090" y="4837"/>
                  <a:pt x="24061" y="4787"/>
                </a:cubicBezTo>
                <a:cubicBezTo>
                  <a:pt x="23951" y="4842"/>
                  <a:pt x="23847" y="4904"/>
                  <a:pt x="23738" y="4961"/>
                </a:cubicBezTo>
              </a:path>
              <a:path w="10915" h="3474">
                <a:moveTo>
                  <a:pt x="20241" y="7119"/>
                </a:moveTo>
                <a:cubicBezTo>
                  <a:pt x="20187" y="7115"/>
                  <a:pt x="20162" y="7108"/>
                  <a:pt x="20117" y="7094"/>
                </a:cubicBezTo>
                <a:cubicBezTo>
                  <a:pt x="20040" y="7070"/>
                  <a:pt x="19986" y="7056"/>
                  <a:pt x="19918" y="6995"/>
                </a:cubicBezTo>
                <a:cubicBezTo>
                  <a:pt x="19836" y="6921"/>
                  <a:pt x="19722" y="6873"/>
                  <a:pt x="19621" y="6821"/>
                </a:cubicBezTo>
                <a:cubicBezTo>
                  <a:pt x="19472" y="6745"/>
                  <a:pt x="19322" y="6676"/>
                  <a:pt x="19174" y="6598"/>
                </a:cubicBezTo>
                <a:cubicBezTo>
                  <a:pt x="19010" y="6511"/>
                  <a:pt x="18826" y="6468"/>
                  <a:pt x="18653" y="6400"/>
                </a:cubicBezTo>
                <a:cubicBezTo>
                  <a:pt x="18487" y="6335"/>
                  <a:pt x="18304" y="6276"/>
                  <a:pt x="18132" y="6226"/>
                </a:cubicBezTo>
                <a:cubicBezTo>
                  <a:pt x="18001" y="6188"/>
                  <a:pt x="17866" y="6169"/>
                  <a:pt x="17735" y="6127"/>
                </a:cubicBezTo>
                <a:cubicBezTo>
                  <a:pt x="17651" y="6100"/>
                  <a:pt x="17589" y="6062"/>
                  <a:pt x="17512" y="6028"/>
                </a:cubicBezTo>
                <a:cubicBezTo>
                  <a:pt x="17468" y="6008"/>
                  <a:pt x="17433" y="5998"/>
                  <a:pt x="17413" y="5978"/>
                </a:cubicBezTo>
                <a:cubicBezTo>
                  <a:pt x="17413" y="5970"/>
                  <a:pt x="17413" y="5961"/>
                  <a:pt x="17413" y="5953"/>
                </a:cubicBezTo>
                <a:cubicBezTo>
                  <a:pt x="17381" y="5974"/>
                  <a:pt x="17384" y="5971"/>
                  <a:pt x="17363" y="6003"/>
                </a:cubicBezTo>
              </a:path>
              <a:path w="10915" h="3474">
                <a:moveTo>
                  <a:pt x="15677" y="5358"/>
                </a:moveTo>
                <a:cubicBezTo>
                  <a:pt x="15677" y="5432"/>
                  <a:pt x="15679" y="5483"/>
                  <a:pt x="15701" y="5556"/>
                </a:cubicBezTo>
                <a:cubicBezTo>
                  <a:pt x="15739" y="5682"/>
                  <a:pt x="15752" y="5802"/>
                  <a:pt x="15776" y="5928"/>
                </a:cubicBezTo>
                <a:cubicBezTo>
                  <a:pt x="15786" y="5978"/>
                  <a:pt x="15824" y="6071"/>
                  <a:pt x="15801" y="6127"/>
                </a:cubicBezTo>
                <a:cubicBezTo>
                  <a:pt x="15779" y="6149"/>
                  <a:pt x="15770" y="6154"/>
                  <a:pt x="15776" y="6176"/>
                </a:cubicBezTo>
              </a:path>
              <a:path w="10915" h="3474">
                <a:moveTo>
                  <a:pt x="16197" y="5432"/>
                </a:moveTo>
                <a:cubicBezTo>
                  <a:pt x="16298" y="5386"/>
                  <a:pt x="16407" y="5369"/>
                  <a:pt x="16495" y="5308"/>
                </a:cubicBezTo>
                <a:cubicBezTo>
                  <a:pt x="16540" y="5277"/>
                  <a:pt x="16519" y="5265"/>
                  <a:pt x="16495" y="5234"/>
                </a:cubicBezTo>
              </a:path>
              <a:path w="10915" h="3474">
                <a:moveTo>
                  <a:pt x="16148" y="5482"/>
                </a:moveTo>
                <a:cubicBezTo>
                  <a:pt x="16140" y="5523"/>
                  <a:pt x="16131" y="5565"/>
                  <a:pt x="16123" y="5606"/>
                </a:cubicBezTo>
                <a:cubicBezTo>
                  <a:pt x="16249" y="5606"/>
                  <a:pt x="16410" y="5572"/>
                  <a:pt x="16520" y="5631"/>
                </a:cubicBezTo>
                <a:cubicBezTo>
                  <a:pt x="16601" y="5674"/>
                  <a:pt x="16651" y="5726"/>
                  <a:pt x="16619" y="5804"/>
                </a:cubicBezTo>
                <a:cubicBezTo>
                  <a:pt x="16581" y="5896"/>
                  <a:pt x="16490" y="5938"/>
                  <a:pt x="16421" y="6003"/>
                </a:cubicBezTo>
                <a:cubicBezTo>
                  <a:pt x="16381" y="6041"/>
                  <a:pt x="16326" y="6096"/>
                  <a:pt x="16272" y="6102"/>
                </a:cubicBezTo>
                <a:cubicBezTo>
                  <a:pt x="16223" y="6107"/>
                  <a:pt x="16247" y="6036"/>
                  <a:pt x="16247" y="6003"/>
                </a:cubicBezTo>
              </a:path>
              <a:path w="10915" h="3474">
                <a:moveTo>
                  <a:pt x="16718" y="5482"/>
                </a:moveTo>
                <a:cubicBezTo>
                  <a:pt x="16730" y="5595"/>
                  <a:pt x="16720" y="5797"/>
                  <a:pt x="16793" y="5904"/>
                </a:cubicBezTo>
                <a:cubicBezTo>
                  <a:pt x="16801" y="5912"/>
                  <a:pt x="16810" y="5920"/>
                  <a:pt x="16818" y="5928"/>
                </a:cubicBezTo>
                <a:cubicBezTo>
                  <a:pt x="16868" y="5916"/>
                  <a:pt x="16912" y="5849"/>
                  <a:pt x="16942" y="5804"/>
                </a:cubicBezTo>
                <a:cubicBezTo>
                  <a:pt x="16989" y="5733"/>
                  <a:pt x="17017" y="5631"/>
                  <a:pt x="16966" y="5556"/>
                </a:cubicBezTo>
                <a:cubicBezTo>
                  <a:pt x="16930" y="5503"/>
                  <a:pt x="16853" y="5472"/>
                  <a:pt x="16793" y="5457"/>
                </a:cubicBezTo>
                <a:cubicBezTo>
                  <a:pt x="16760" y="5457"/>
                  <a:pt x="16743" y="5457"/>
                  <a:pt x="16718" y="5457"/>
                </a:cubicBezTo>
                <a:cubicBezTo>
                  <a:pt x="16754" y="5362"/>
                  <a:pt x="16769" y="5317"/>
                  <a:pt x="16818" y="5209"/>
                </a:cubicBezTo>
              </a:path>
              <a:path w="10915" h="3474">
                <a:moveTo>
                  <a:pt x="16991" y="4936"/>
                </a:moveTo>
                <a:cubicBezTo>
                  <a:pt x="16956" y="5080"/>
                  <a:pt x="16899" y="5106"/>
                  <a:pt x="16966" y="5159"/>
                </a:cubicBezTo>
                <a:cubicBezTo>
                  <a:pt x="17059" y="5148"/>
                  <a:pt x="17066" y="5109"/>
                  <a:pt x="17140" y="5060"/>
                </a:cubicBezTo>
                <a:cubicBezTo>
                  <a:pt x="17200" y="5020"/>
                  <a:pt x="17190" y="5031"/>
                  <a:pt x="17190" y="4961"/>
                </a:cubicBezTo>
                <a:cubicBezTo>
                  <a:pt x="17152" y="4903"/>
                  <a:pt x="17093" y="4940"/>
                  <a:pt x="17041" y="4986"/>
                </a:cubicBezTo>
                <a:cubicBezTo>
                  <a:pt x="16999" y="5027"/>
                  <a:pt x="16991" y="5035"/>
                  <a:pt x="16966" y="5060"/>
                </a:cubicBezTo>
              </a:path>
              <a:path w="10915" h="3474">
                <a:moveTo>
                  <a:pt x="24557" y="3770"/>
                </a:moveTo>
                <a:cubicBezTo>
                  <a:pt x="24557" y="3745"/>
                  <a:pt x="24557" y="3721"/>
                  <a:pt x="24557" y="3696"/>
                </a:cubicBezTo>
                <a:cubicBezTo>
                  <a:pt x="24557" y="3766"/>
                  <a:pt x="24575" y="3827"/>
                  <a:pt x="24581" y="3894"/>
                </a:cubicBezTo>
                <a:cubicBezTo>
                  <a:pt x="24593" y="4027"/>
                  <a:pt x="24626" y="4157"/>
                  <a:pt x="24631" y="4291"/>
                </a:cubicBezTo>
                <a:cubicBezTo>
                  <a:pt x="24634" y="4390"/>
                  <a:pt x="24631" y="4490"/>
                  <a:pt x="24631" y="4589"/>
                </a:cubicBezTo>
              </a:path>
              <a:path w="10915" h="3474">
                <a:moveTo>
                  <a:pt x="24457" y="4887"/>
                </a:moveTo>
                <a:cubicBezTo>
                  <a:pt x="24539" y="4863"/>
                  <a:pt x="24598" y="4837"/>
                  <a:pt x="24681" y="4837"/>
                </a:cubicBezTo>
                <a:cubicBezTo>
                  <a:pt x="24732" y="4837"/>
                  <a:pt x="24710" y="4796"/>
                  <a:pt x="24730" y="4837"/>
                </a:cubicBezTo>
              </a:path>
              <a:path w="10915" h="3474">
                <a:moveTo>
                  <a:pt x="24557" y="5085"/>
                </a:moveTo>
                <a:cubicBezTo>
                  <a:pt x="24609" y="5068"/>
                  <a:pt x="24753" y="4983"/>
                  <a:pt x="24805" y="5060"/>
                </a:cubicBezTo>
                <a:cubicBezTo>
                  <a:pt x="24855" y="5134"/>
                  <a:pt x="24828" y="5231"/>
                  <a:pt x="24805" y="5308"/>
                </a:cubicBezTo>
                <a:cubicBezTo>
                  <a:pt x="24772" y="5420"/>
                  <a:pt x="24704" y="5505"/>
                  <a:pt x="24656" y="5606"/>
                </a:cubicBezTo>
                <a:cubicBezTo>
                  <a:pt x="24640" y="5640"/>
                  <a:pt x="24603" y="5704"/>
                  <a:pt x="24656" y="5730"/>
                </a:cubicBezTo>
                <a:cubicBezTo>
                  <a:pt x="24684" y="5744"/>
                  <a:pt x="24785" y="5714"/>
                  <a:pt x="24805" y="5705"/>
                </a:cubicBezTo>
                <a:cubicBezTo>
                  <a:pt x="24807" y="5704"/>
                  <a:pt x="24932" y="5666"/>
                  <a:pt x="24929" y="5680"/>
                </a:cubicBezTo>
                <a:cubicBezTo>
                  <a:pt x="24899" y="5710"/>
                  <a:pt x="24888" y="5724"/>
                  <a:pt x="24879" y="5755"/>
                </a:cubicBezTo>
              </a:path>
              <a:path w="10915" h="3474">
                <a:moveTo>
                  <a:pt x="14362" y="4217"/>
                </a:moveTo>
                <a:cubicBezTo>
                  <a:pt x="14386" y="4249"/>
                  <a:pt x="14426" y="4298"/>
                  <a:pt x="14436" y="4341"/>
                </a:cubicBezTo>
                <a:cubicBezTo>
                  <a:pt x="14459" y="4440"/>
                  <a:pt x="14476" y="4561"/>
                  <a:pt x="14486" y="4663"/>
                </a:cubicBezTo>
                <a:cubicBezTo>
                  <a:pt x="14495" y="4752"/>
                  <a:pt x="14468" y="4824"/>
                  <a:pt x="14461" y="4911"/>
                </a:cubicBezTo>
                <a:cubicBezTo>
                  <a:pt x="14457" y="4954"/>
                  <a:pt x="14474" y="4948"/>
                  <a:pt x="14436" y="4961"/>
                </a:cubicBezTo>
              </a:path>
              <a:path w="10915" h="3474">
                <a:moveTo>
                  <a:pt x="14015" y="5159"/>
                </a:moveTo>
                <a:cubicBezTo>
                  <a:pt x="14091" y="5131"/>
                  <a:pt x="14155" y="5135"/>
                  <a:pt x="14238" y="5135"/>
                </a:cubicBezTo>
                <a:cubicBezTo>
                  <a:pt x="14325" y="5135"/>
                  <a:pt x="14396" y="5110"/>
                  <a:pt x="14486" y="5110"/>
                </a:cubicBezTo>
                <a:cubicBezTo>
                  <a:pt x="14540" y="5110"/>
                  <a:pt x="14620" y="5090"/>
                  <a:pt x="14635" y="5135"/>
                </a:cubicBezTo>
              </a:path>
              <a:path w="10915" h="3474">
                <a:moveTo>
                  <a:pt x="14288" y="5333"/>
                </a:moveTo>
                <a:cubicBezTo>
                  <a:pt x="14375" y="5315"/>
                  <a:pt x="14486" y="5279"/>
                  <a:pt x="14560" y="5358"/>
                </a:cubicBezTo>
                <a:cubicBezTo>
                  <a:pt x="14628" y="5431"/>
                  <a:pt x="14572" y="5563"/>
                  <a:pt x="14536" y="5631"/>
                </a:cubicBezTo>
                <a:cubicBezTo>
                  <a:pt x="14479" y="5738"/>
                  <a:pt x="14404" y="5830"/>
                  <a:pt x="14337" y="5928"/>
                </a:cubicBezTo>
                <a:cubicBezTo>
                  <a:pt x="14309" y="5969"/>
                  <a:pt x="14312" y="5985"/>
                  <a:pt x="14312" y="6028"/>
                </a:cubicBezTo>
                <a:cubicBezTo>
                  <a:pt x="14435" y="6028"/>
                  <a:pt x="14542" y="5995"/>
                  <a:pt x="14660" y="5953"/>
                </a:cubicBezTo>
                <a:cubicBezTo>
                  <a:pt x="14723" y="5931"/>
                  <a:pt x="14792" y="5910"/>
                  <a:pt x="14858" y="5904"/>
                </a:cubicBezTo>
                <a:cubicBezTo>
                  <a:pt x="14886" y="5904"/>
                  <a:pt x="14892" y="5906"/>
                  <a:pt x="14858" y="592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77920" y="1830240"/>
            <a:ext cx="627120" cy="1884600"/>
          </a:xfrm>
          <a:custGeom>
            <a:avLst/>
            <a:gdLst/>
            <a:ahLst/>
            <a:rect l="l" t="t" r="r" b="b"/>
            <a:pathLst>
              <a:path w="1738" h="5235">
                <a:moveTo>
                  <a:pt x="5011" y="5085"/>
                </a:moveTo>
                <a:cubicBezTo>
                  <a:pt x="4972" y="5279"/>
                  <a:pt x="4926" y="5443"/>
                  <a:pt x="4862" y="5631"/>
                </a:cubicBezTo>
                <a:cubicBezTo>
                  <a:pt x="4777" y="5882"/>
                  <a:pt x="4675" y="6125"/>
                  <a:pt x="4589" y="6375"/>
                </a:cubicBezTo>
                <a:cubicBezTo>
                  <a:pt x="4389" y="6956"/>
                  <a:pt x="4214" y="7546"/>
                  <a:pt x="4043" y="8136"/>
                </a:cubicBezTo>
                <a:cubicBezTo>
                  <a:pt x="3937" y="8501"/>
                  <a:pt x="3823" y="8861"/>
                  <a:pt x="3721" y="9227"/>
                </a:cubicBezTo>
                <a:cubicBezTo>
                  <a:pt x="3637" y="9528"/>
                  <a:pt x="3515" y="9807"/>
                  <a:pt x="3398" y="10096"/>
                </a:cubicBezTo>
                <a:cubicBezTo>
                  <a:pt x="3283" y="10381"/>
                  <a:pt x="3320" y="10226"/>
                  <a:pt x="3274" y="10220"/>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177920" y="1776240"/>
            <a:ext cx="2743200" cy="1903680"/>
          </a:xfrm>
          <a:custGeom>
            <a:avLst/>
            <a:gdLst/>
            <a:ahLst/>
            <a:rect l="l" t="t" r="r" b="b"/>
            <a:pathLst>
              <a:path w="7616" h="5285">
                <a:moveTo>
                  <a:pt x="5085" y="4936"/>
                </a:moveTo>
                <a:cubicBezTo>
                  <a:pt x="5108" y="4954"/>
                  <a:pt x="5148" y="4981"/>
                  <a:pt x="5184" y="5011"/>
                </a:cubicBezTo>
                <a:cubicBezTo>
                  <a:pt x="5276" y="5087"/>
                  <a:pt x="5357" y="5164"/>
                  <a:pt x="5457" y="5234"/>
                </a:cubicBezTo>
                <a:cubicBezTo>
                  <a:pt x="5870" y="5521"/>
                  <a:pt x="6352" y="5720"/>
                  <a:pt x="6796" y="5953"/>
                </a:cubicBezTo>
                <a:cubicBezTo>
                  <a:pt x="7123" y="6124"/>
                  <a:pt x="7446" y="6311"/>
                  <a:pt x="7764" y="6499"/>
                </a:cubicBezTo>
                <a:cubicBezTo>
                  <a:pt x="8176" y="6742"/>
                  <a:pt x="8561" y="7024"/>
                  <a:pt x="8954" y="7293"/>
                </a:cubicBezTo>
                <a:cubicBezTo>
                  <a:pt x="9341" y="7557"/>
                  <a:pt x="9711" y="7846"/>
                  <a:pt x="10096" y="8111"/>
                </a:cubicBezTo>
                <a:cubicBezTo>
                  <a:pt x="10241" y="8211"/>
                  <a:pt x="10390" y="8320"/>
                  <a:pt x="10542" y="8409"/>
                </a:cubicBezTo>
                <a:cubicBezTo>
                  <a:pt x="10622" y="8456"/>
                  <a:pt x="10704" y="8495"/>
                  <a:pt x="10790" y="8533"/>
                </a:cubicBezTo>
                <a:cubicBezTo>
                  <a:pt x="10820" y="8546"/>
                  <a:pt x="10859" y="8545"/>
                  <a:pt x="10889" y="8558"/>
                </a:cubicBezTo>
                <a:cubicBezTo>
                  <a:pt x="10805" y="8580"/>
                  <a:pt x="10728" y="8614"/>
                  <a:pt x="10641" y="8632"/>
                </a:cubicBezTo>
                <a:cubicBezTo>
                  <a:pt x="10415" y="8679"/>
                  <a:pt x="10178" y="8701"/>
                  <a:pt x="9947" y="8731"/>
                </a:cubicBezTo>
                <a:cubicBezTo>
                  <a:pt x="9431" y="8797"/>
                  <a:pt x="8891" y="8890"/>
                  <a:pt x="8384" y="9004"/>
                </a:cubicBezTo>
                <a:cubicBezTo>
                  <a:pt x="7897" y="9114"/>
                  <a:pt x="7406" y="9206"/>
                  <a:pt x="6921" y="9327"/>
                </a:cubicBezTo>
                <a:cubicBezTo>
                  <a:pt x="5927" y="9575"/>
                  <a:pt x="4939" y="9850"/>
                  <a:pt x="3944" y="10096"/>
                </a:cubicBezTo>
                <a:cubicBezTo>
                  <a:pt x="3755" y="10143"/>
                  <a:pt x="3545" y="10223"/>
                  <a:pt x="3349" y="10220"/>
                </a:cubicBezTo>
                <a:cubicBezTo>
                  <a:pt x="3312" y="10219"/>
                  <a:pt x="3311" y="10171"/>
                  <a:pt x="3274" y="10170"/>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848200" y="2517840"/>
            <a:ext cx="2741760" cy="98280"/>
          </a:xfrm>
          <a:custGeom>
            <a:avLst/>
            <a:gdLst/>
            <a:ahLst/>
            <a:rect l="l" t="t" r="r" b="b"/>
            <a:pathLst>
              <a:path w="7616" h="274">
                <a:moveTo>
                  <a:pt x="16247" y="7020"/>
                </a:moveTo>
                <a:cubicBezTo>
                  <a:pt x="16430" y="6997"/>
                  <a:pt x="16563" y="7012"/>
                  <a:pt x="16743" y="7020"/>
                </a:cubicBezTo>
                <a:cubicBezTo>
                  <a:pt x="16907" y="7028"/>
                  <a:pt x="17051" y="7040"/>
                  <a:pt x="17214" y="7069"/>
                </a:cubicBezTo>
                <a:cubicBezTo>
                  <a:pt x="17576" y="7134"/>
                  <a:pt x="17939" y="7202"/>
                  <a:pt x="18306" y="7218"/>
                </a:cubicBezTo>
                <a:cubicBezTo>
                  <a:pt x="18589" y="7231"/>
                  <a:pt x="18867" y="7197"/>
                  <a:pt x="19149" y="7193"/>
                </a:cubicBezTo>
                <a:cubicBezTo>
                  <a:pt x="19844" y="7184"/>
                  <a:pt x="20539" y="7190"/>
                  <a:pt x="21233" y="7169"/>
                </a:cubicBezTo>
                <a:cubicBezTo>
                  <a:pt x="21565" y="7159"/>
                  <a:pt x="21893" y="7189"/>
                  <a:pt x="22225" y="7193"/>
                </a:cubicBezTo>
                <a:cubicBezTo>
                  <a:pt x="22500" y="7196"/>
                  <a:pt x="22770" y="7229"/>
                  <a:pt x="23044" y="7243"/>
                </a:cubicBezTo>
                <a:cubicBezTo>
                  <a:pt x="23304" y="7256"/>
                  <a:pt x="23641" y="7235"/>
                  <a:pt x="23862" y="726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6:01:29Z</dcterms:created>
  <dc:creator>abeason</dc:creator>
  <dc:description/>
  <dc:language>en-US</dc:language>
  <cp:lastModifiedBy>abeason</cp:lastModifiedBy>
  <dcterms:modified xsi:type="dcterms:W3CDTF">2009-02-05T17:59:31Z</dcterms:modified>
  <cp:revision>7</cp:revision>
  <dc:subject/>
  <dc:title>Thursday, February 5th 2008</dc:title>
</cp:coreProperties>
</file>